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952-13A4-44B1-BEC1-FC510756BBD8}" type="datetime">
              <a:rPr b="0" lang="ja-JP" sz="1200" spc="-1" strike="noStrike">
                <a:solidFill>
                  <a:srgbClr val="000000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30FA-9131-4A4B-A85B-20CEE1B032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94A3-9845-4D55-9049-BE1FFB0560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B8B9-2AB5-44DC-AA6F-B361B08D4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79A-D9BD-4A07-AD76-83E8D0D05E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40C-D21F-4BF7-A4F2-F091EF6036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7908-B1B5-4189-B01A-03B6EB522C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65E-4002-4599-A4E6-D6CCDE3499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A2D-C91D-496D-8BDD-2286B1E23A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37A-5F31-4C47-8A54-1958238E91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5C3-7193-43FF-ACEA-15FB0DAC32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935-986A-4C3B-80C9-8CB5F4C204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954-180C-47EE-93B8-7901957FE6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5FE6-6078-49D6-94E8-1BDD1E789D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CCDC-DE99-4901-904B-1D3AE38762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E36-E233-4929-A32F-24A065E14E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C049-4AC5-489C-A2C5-5AC0F12259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37F-DE82-495D-9923-C2D5CEB7FB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1CE-04A8-451E-A393-9660125CD3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282-38AC-4E27-B8BD-7CE8778649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BD5-3A7A-48BC-93A0-39779D79EC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2CA-4F00-4FFD-88FD-7DF429C248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DB43-490C-4063-AE64-5E0A64694E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C89-008A-4899-BEE7-CC844A9CC0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B24D-F321-4ACC-896D-CB88CDAA9F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8AC-EA54-4F99-9995-170E65DB04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113-C54D-472F-9450-7EB2F06A8C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7F6-4AC9-4303-9950-AC2C989AD6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スライド番号プレースホルダ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956-8604-4E8A-8781-C382B9416F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2DB-2B23-4E06-A176-9778E965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B99-ACEA-441A-A872-BAE996E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A25-2F2E-47D6-A8D2-0C0DA5C2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9FB-A343-49CD-8F2A-7CB10F16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9C8-247C-4C34-B601-E45E658F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F80D-509C-4975-9ADF-4FBB055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000-1018-4BEB-9BD7-98FDE565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B6C-104A-4F6C-A1F0-EA59F7FC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0AE-252B-44B3-845E-27725E57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996-8DA5-4173-B7CA-FCFC0A5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B98-84DB-40E5-B674-12F09B1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7DB-0F03-4D79-82AC-D7DC098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35A-CDD2-4760-BB6C-75E3FD68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EB1A-8A02-4CB3-9E2F-93AD959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4FB1-4908-47A4-A54B-E1E1F0A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615-4AD4-407C-9EE4-0D41977B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EE8-FE90-4EF7-BEE0-D0DCCAF4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97B-8E5C-4104-A855-565B611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753-3A58-48EB-9DBD-087EBBE7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757-BBF5-4CA5-B684-32BAB2E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591-C828-4898-BF6D-C6AF930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C38-4B1A-493C-9105-E786B07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BA0-A51A-4B78-B128-4028927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7F4-8FFC-42A0-B341-E22EAF68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AA73-7A2B-4712-A872-8CBDA2871BD9}" type="datetime">
              <a:rPr b="0" lang="ja-JP" sz="1200" spc="-1" strike="noStrike">
                <a:solidFill>
                  <a:srgbClr val="898989"/>
                </a:solidFill>
                <a:latin typeface="Arial"/>
                <a:ea typeface="Arial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RI11E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C7D-C9A6-4AAF-8E4B-C6E4C39BB76D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図 7" descr="Logo.jpg"/>
          <p:cNvPicPr/>
          <p:nvPr/>
        </p:nvPicPr>
        <p:blipFill>
          <a:blip r:embed="rId2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4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7" descr="Logo.jpg"/>
          <p:cNvPicPr/>
          <p:nvPr/>
        </p:nvPicPr>
        <p:blipFill>
          <a:blip r:embed="rId2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4E7-BC65-413C-A279-7DC94D8B9944}" type="datetime">
              <a:rPr b="0" lang="ja-JP" sz="1200" spc="-1" strike="noStrike">
                <a:solidFill>
                  <a:srgbClr val="898989"/>
                </a:solidFill>
                <a:latin typeface="Arial"/>
                <a:ea typeface="Arial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CRI11E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3505320" y="6347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0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380C-69D6-4CE1-9237-6C2A05EA75AE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8"/>
          <p:cNvSpPr/>
          <p:nvPr/>
        </p:nvSpPr>
        <p:spPr>
          <a:xfrm>
            <a:off x="152280" y="171936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national framework for the management of foodstuff in Japan following the Fukushima acc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2"/>
          <p:cNvSpPr/>
          <p:nvPr/>
        </p:nvSpPr>
        <p:spPr>
          <a:xfrm>
            <a:off x="136800" y="14112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22 May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CIEMAT, Madrid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12"/>
          <p:cNvSpPr/>
          <p:nvPr/>
        </p:nvSpPr>
        <p:spPr>
          <a:xfrm>
            <a:off x="156960" y="96840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2nd Meet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NERIS Working Group on Contaminated goods (ConGo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イチゴのバスケット"/>
          <p:cNvPicPr/>
          <p:nvPr/>
        </p:nvPicPr>
        <p:blipFill>
          <a:blip r:embed="rId2"/>
          <a:stretch/>
        </p:blipFill>
        <p:spPr>
          <a:xfrm>
            <a:off x="171360" y="3645000"/>
            <a:ext cx="1517760" cy="1719000"/>
          </a:xfrm>
          <a:prstGeom prst="rect">
            <a:avLst/>
          </a:prstGeom>
          <a:ln w="0">
            <a:noFill/>
          </a:ln>
        </p:spPr>
      </p:pic>
      <p:pic>
        <p:nvPicPr>
          <p:cNvPr id="98" name="図 10" descr=""/>
          <p:cNvPicPr/>
          <p:nvPr/>
        </p:nvPicPr>
        <p:blipFill>
          <a:blip r:embed="rId3"/>
          <a:stretch/>
        </p:blipFill>
        <p:spPr>
          <a:xfrm>
            <a:off x="6946920" y="3505320"/>
            <a:ext cx="1892160" cy="177156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スライド番号プレースホルダ 10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08B3-DAD6-44EC-9AAD-6B4DFFE934FE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テキスト ボックス 8"/>
          <p:cNvSpPr/>
          <p:nvPr/>
        </p:nvSpPr>
        <p:spPr>
          <a:xfrm>
            <a:off x="2106360" y="11448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ces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CD49-9F8C-410A-8054-491272230659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4"/>
          <p:cNvSpPr/>
          <p:nvPr/>
        </p:nvSpPr>
        <p:spPr>
          <a:xfrm>
            <a:off x="77760" y="1844640"/>
            <a:ext cx="8987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were derived from the index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in water, and five categories of food (i.e., all fo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 level/category considered was a committed effective dose of 1 mSv/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x values were calculated as radioactive concentrations of indicator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) by postulating the relative radioactive concentration of coexisting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テキスト ボックス 8"/>
          <p:cNvSpPr/>
          <p:nvPr/>
        </p:nvSpPr>
        <p:spPr>
          <a:xfrm>
            <a:off x="216000" y="1144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iodines and radioces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AF4-2A43-4B5A-9CC8-C0BE23EC673C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4"/>
          <p:cNvSpPr/>
          <p:nvPr/>
        </p:nvSpPr>
        <p:spPr>
          <a:xfrm>
            <a:off x="157320" y="4495680"/>
            <a:ext cx="898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PRV, the levels of indicator radionuclides were only moni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V was used until 31 March 2012 albeit “provision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’s see the food safety regulations implemented until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図 4" descr=""/>
          <p:cNvPicPr/>
          <p:nvPr/>
        </p:nvPicPr>
        <p:blipFill>
          <a:blip r:embed="rId1"/>
          <a:stretch/>
        </p:blipFill>
        <p:spPr>
          <a:xfrm>
            <a:off x="98280" y="1328760"/>
            <a:ext cx="89474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テキスト ボックス 8"/>
          <p:cNvSpPr/>
          <p:nvPr/>
        </p:nvSpPr>
        <p:spPr>
          <a:xfrm>
            <a:off x="2613960" y="11448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reas of conc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F171-9BD8-40EF-A13F-DCA32A7581F0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4"/>
          <p:cNvSpPr/>
          <p:nvPr/>
        </p:nvSpPr>
        <p:spPr>
          <a:xfrm>
            <a:off x="4572000" y="1536840"/>
            <a:ext cx="441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prefectures of which name is indicated in the map were assigned as target local governments for food monitoring surv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y-colored area emphasizes prefectures in which restrictions on distribution and/or consumption of food and/or water were imple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denotes the Fukushima nuclea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pla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図 5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433404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511-8B7E-4935-AC61-FCA4E7095FCA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4"/>
          <p:cNvSpPr/>
          <p:nvPr/>
        </p:nvSpPr>
        <p:spPr>
          <a:xfrm>
            <a:off x="157320" y="914400"/>
            <a:ext cx="8986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instructed and lifted restrictions on consumption (distribution restrictions were not instruc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exceeded in 68 samples among 83,074 samples of which monitoring data was reported between 21 March 2011 and 31 March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RHQ imposed and removed restrictions on distribution and consumption, taking into account the advice from NSC as to the necessity of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exceeded in 1,519 samples among 137,337 samples of which monitoring data was reported between 19 March 2011 and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ear criteria were provided to remove restrictions, but not to order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ely, concrete boundary values of radioactive concentrations for “highly contaminated food” and “very highly contaminated food” were not defined to restrict distribution and consumption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12A-4EDF-4630-8294-62595A954044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4"/>
          <p:cNvSpPr/>
          <p:nvPr/>
        </p:nvSpPr>
        <p:spPr>
          <a:xfrm>
            <a:off x="76320" y="84456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for radioiodines was exceeded in tap water and food sampled from 16 March 2011 to 21 May 2011 (i.e., 67 day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it remains unclear whether contamination at levels of concern had occurred on 12-15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etected was 54,100 Bq/kg in spinach sampled in Ibaraki Prefecture on 18 March 2011 (max in Fukushima = 22,000 Bq/k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for radiocesiums was exceeded in tap water and food sampled from 18 March 2011 to 31 March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otal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detected was 82,000 Bq/kg in kukitachi-na sampled in Fukushima Prefecture on 21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initially exceeded in tap water, raw milk and leafy vegetables, and subsequently in other foodstuffs such as mushrooms, aquatic products, beef and tea le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astal fish that inhabit the deeper sea tended to become contaminated at a lat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テキスト ボックス 8"/>
          <p:cNvSpPr/>
          <p:nvPr/>
        </p:nvSpPr>
        <p:spPr>
          <a:xfrm>
            <a:off x="1575360" y="11448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Brief outline of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BBF0-7A6A-43E9-B901-238F34FCC53D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4"/>
          <p:cNvSpPr/>
          <p:nvPr/>
        </p:nvSpPr>
        <p:spPr>
          <a:xfrm>
            <a:off x="79200" y="1295280"/>
            <a:ext cx="8987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ook 6 and 7 days to start sampling food and water for monitoring surveys, and to set RPV, respectively, after the establishment of the NERH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restrictions were instructed 11 days after the establishment of the NERH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restrictions were instructed within 318 days of PRV first being exceeded in each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rtial removal of restrictions (restrictions for each lot) was conducted for beef and wild boar m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wn rice but not polished rice exceeded PRV for radiocesiums regardless of three-stage strategies (i.e., cultivation restrictions, pre-harvest survey and post-harvest surv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テキスト ボックス 8"/>
          <p:cNvSpPr/>
          <p:nvPr/>
        </p:nvSpPr>
        <p:spPr>
          <a:xfrm>
            <a:off x="151920" y="114480"/>
            <a:ext cx="88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Restrictions implemented in Fukush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1CD-C043-44C5-8026-DE76A334670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4"/>
          <p:cNvSpPr/>
          <p:nvPr/>
        </p:nvSpPr>
        <p:spPr>
          <a:xfrm>
            <a:off x="76320" y="2151000"/>
            <a:ext cx="8986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oodstuffs contaminated above PRV were restricted except sea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minated seafood items were not restricted except konago fish, but were not distributed because fishing was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ce enforced, many restrictions were not removed for a long period of time after PRV was last exc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long-term restrictions may affect the sustainable development and rehabilitation of the affected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テキスト ボックス 8"/>
          <p:cNvSpPr/>
          <p:nvPr/>
        </p:nvSpPr>
        <p:spPr>
          <a:xfrm>
            <a:off x="2360160" y="11448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Experience for be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4637-E009-4B6D-B7EE-BA205CD2C11B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4"/>
          <p:cNvSpPr/>
          <p:nvPr/>
        </p:nvSpPr>
        <p:spPr>
          <a:xfrm>
            <a:off x="76320" y="76212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9 March 2011, Ministry of Agriculture, Forestry and Fisheries (MAFF) provided directives to prevent or minimize exposure of farm animals to radioactive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4 April 2011, MAFF set the provisional tolerance values (PTV)  to minimize contamination of milk and beef by regulating contaminated livestock feed for daily c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8 July 2011, the first beef sample that exceeded PRV was re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2 September 2011, it became known that the beef from cattle slaughtered as far back as 30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beef was recalled but most of them from the cattle slaughtered by July 2011 had already been consu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contamination of beef resulted from the highly contaminated rice straw  (reportedly ~690,000 Bq/kg of radiocesiums) being fed to cattle. Though MAFF had provided directives and PTV, farmers had not been well notified regarding the rice str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テキスト ボックス 8"/>
          <p:cNvSpPr/>
          <p:nvPr/>
        </p:nvSpPr>
        <p:spPr>
          <a:xfrm>
            <a:off x="2412720" y="11448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Social dis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D49-CCAF-4E5C-8B12-0B1E56079EED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4"/>
          <p:cNvSpPr/>
          <p:nvPr/>
        </p:nvSpPr>
        <p:spPr>
          <a:xfrm>
            <a:off x="76320" y="762120"/>
            <a:ext cx="8986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restrictions in March 2011 was concurrent with the massive social dislocations that were manifested as the selling out of bottled water, milk, instant noodles and various non-perish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, drinking water, for in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buy-up, bottled drinking water disappeared from the grocery stores in many prefectures even where radionuclide concentrations in tap water were below detectabl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23 March 2011, the Tokyo Metropolitan government decided to mitigate the social dislocations by distributing 240,000 bottles of drinking water for free to ~80,000 infant residents of Tokyo Metropo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ximum level detected in tap water sampled in Tokyo was 210 Bq/kg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 This was above PRV (i.e., 100 Bq/kg, Codex’s guideline level) but still below the index value (300 Bq/k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experience for beef and social dislocations highlights the importance of strategies for effective communications between the risk management authorities and individuals conce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テキスト ボックス 8"/>
          <p:cNvSpPr/>
          <p:nvPr/>
        </p:nvSpPr>
        <p:spPr>
          <a:xfrm>
            <a:off x="888120" y="11448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Dose posed by internal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A203-0D68-4F8D-BC18-C85B608EC3BF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4"/>
          <p:cNvSpPr/>
          <p:nvPr/>
        </p:nvSpPr>
        <p:spPr>
          <a:xfrm>
            <a:off x="77760" y="1143000"/>
            <a:ext cx="8987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iod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late March 2011, surveys of 1,149 children living in Fukushima were conducted, and a maximum level detected was a committed equivalent dose to the thyroid of 43 mS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ces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June-October 2011, surveys of 6,608 people were conducted (measured by whole body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3 mSv:      19 individuals (0.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1 mSv: 6,589 individuals (99.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se posed by internal exposure is much lower than the Chernobyl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ogether, it can be concluded that food safety regulations were successfully implemented following the Fukushima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図 5" descr=""/>
          <p:cNvPicPr/>
          <p:nvPr/>
        </p:nvPicPr>
        <p:blipFill>
          <a:blip r:embed="rId2"/>
          <a:stretch/>
        </p:blipFill>
        <p:spPr>
          <a:xfrm>
            <a:off x="1185840" y="838080"/>
            <a:ext cx="6772320" cy="3541680"/>
          </a:xfrm>
          <a:prstGeom prst="rect">
            <a:avLst/>
          </a:prstGeom>
          <a:ln w="0">
            <a:noFill/>
          </a:ln>
        </p:spPr>
      </p:pic>
      <p:sp>
        <p:nvSpPr>
          <p:cNvPr id="106" name="スライド番号プレースホルダ 6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70C7-75E9-4AFE-881C-370182ECE8EF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テキスト ボックス 8"/>
          <p:cNvSpPr/>
          <p:nvPr/>
        </p:nvSpPr>
        <p:spPr>
          <a:xfrm>
            <a:off x="915480" y="114480"/>
            <a:ext cx="73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Change to new regulation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89DE-D3B3-488D-A9E5-22B17BD89468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4"/>
          <p:cNvSpPr/>
          <p:nvPr/>
        </p:nvSpPr>
        <p:spPr>
          <a:xfrm>
            <a:off x="79200" y="3770280"/>
            <a:ext cx="8987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alues were promulgated on 15 March 2012, and became effective on 1 April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as a total radioactive concentration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not to exceed a committed effective dose of 1 mSv/year (stems from lifetime effective dose of 100 mSv), considering the contributions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 where physical half-life is ≥1 year (radioiodines were not conside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intervention level, but not the referenc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図 4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199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テキスト ボックス 8"/>
          <p:cNvSpPr/>
          <p:nvPr/>
        </p:nvSpPr>
        <p:spPr>
          <a:xfrm>
            <a:off x="471240" y="11448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Ongoing regulations and restri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6B72-5139-443E-8CD5-546A3959A2F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4"/>
          <p:cNvSpPr/>
          <p:nvPr/>
        </p:nvSpPr>
        <p:spPr>
          <a:xfrm>
            <a:off x="77760" y="1295280"/>
            <a:ext cx="8987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pril 2012 to 31 March 2013 (Fiscal Year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egulation values were exceeded in 2,372 samples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78,275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se, 17 samples exceeded PRV for radiocesi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pril 2013 to 21 May 2013 (Fiscal Year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egulation values were exceeded in 170 samples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3,645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of 21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Fukushima Prefecture, consumption of leafy vegetables, wi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hrooms, yamame fish, and wild boar meat, and distribu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ous foodstuff items have been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other 13 prefectures, distribution of vegetables, mushrooms, cere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h, and meat have been imp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テキスト ボックス 8"/>
          <p:cNvSpPr/>
          <p:nvPr/>
        </p:nvSpPr>
        <p:spPr>
          <a:xfrm>
            <a:off x="1092960" y="1144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mpact on European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F629-57AE-4DFA-8C96-40E762914FC8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"/>
          <p:cNvSpPr/>
          <p:nvPr/>
        </p:nvSpPr>
        <p:spPr>
          <a:xfrm>
            <a:off x="77760" y="768240"/>
            <a:ext cx="8987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set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297/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351/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rnobyl regulatory limits (No. 3954/1987) were basically resurrected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led to a discrepancy, such that, whereas a limit for radiostrontiums was set for imports from Japan, Japan has not conducted monitoring surveys and has not set a limit for radiostronti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Jun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was reported that at the Paris Charles de Gaulle Airport, 1,038 Bq/kg of radiocesiums exceeding the EU’s maximum permitted level of 500 Bq/kg (= PRV) were detected in dried tea leaves that were shipped as a lot of 162 kg from Shizuoka Prefecture. On 22 June 2011, Shizuoka Prefecture confirmed 981 Bq/kg of radiocesiums in the same lot, and so recalled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テキスト ボックス 8"/>
          <p:cNvSpPr/>
          <p:nvPr/>
        </p:nvSpPr>
        <p:spPr>
          <a:xfrm>
            <a:off x="1092960" y="1144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mpact on European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A85D-3F69-4F35-A1E7-FD55F5986A33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77760" y="1844640"/>
            <a:ext cx="8987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March 201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promulgated new regulation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. Commission Implementing Regulation (EU) No. 284/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one hand, limits for radiostrontiums, plutonium and americium were now exclu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the other, there is a discrepancy again, such that, for radiocesiums in adult food, limits are 10-100 Bq/kg for imports from Japan, but 600 Bq/kg for agricultural products that become contaminated with fallout from the Chernobyl accident and originate within European countries (EC No. 733/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テキスト ボックス 8"/>
          <p:cNvSpPr/>
          <p:nvPr/>
        </p:nvSpPr>
        <p:spPr>
          <a:xfrm>
            <a:off x="826920" y="114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ublished source of our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5D3-586F-4F0A-B24E-00F5A99629F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20"/>
          <p:cNvSpPr/>
          <p:nvPr/>
        </p:nvSpPr>
        <p:spPr>
          <a:xfrm>
            <a:off x="452520" y="1844640"/>
            <a:ext cx="84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mada N, Ogino H. Food safety regulations: what we learn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ukushima nuclear accident. J Environ Radioact 111 (2012) 83-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mada N, Ogino H, Fujimichi Y. Safety regulations of food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in the first year following the Fukushima nuclear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 Radiat Res 53 (2012) 641-671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rz S, Steinhauser G, Hamada N. Anthropogenic radionuclid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panese food: environmental and legal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 Sci Technol 47 (2013) 1248-1256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8"/>
          <p:cNvSpPr/>
          <p:nvPr/>
        </p:nvSpPr>
        <p:spPr>
          <a:xfrm>
            <a:off x="168120" y="2550960"/>
            <a:ext cx="880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We hope that the lessons learned from the Fukushima accident should help improve the nuclear or emergency preparedness all over the wor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D87-436E-4F48-BDE7-B0F539E7CE3F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テキスト ボックス 8"/>
          <p:cNvSpPr/>
          <p:nvPr/>
        </p:nvSpPr>
        <p:spPr>
          <a:xfrm>
            <a:off x="457560" y="2550960"/>
            <a:ext cx="82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 am happy to answer your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7B1-B8BB-45C8-8AF4-0FB49A0FFF5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テキスト ボックス 6"/>
          <p:cNvSpPr/>
          <p:nvPr/>
        </p:nvSpPr>
        <p:spPr>
          <a:xfrm>
            <a:off x="131040" y="63864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©CRI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8"/>
          <p:cNvSpPr/>
          <p:nvPr/>
        </p:nvSpPr>
        <p:spPr>
          <a:xfrm>
            <a:off x="152280" y="171936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Arial"/>
              </a:rPr>
              <a:t>The national framework for the management of foodstuff in Japan following the Fukushima acci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9"/>
          <p:cNvSpPr/>
          <p:nvPr/>
        </p:nvSpPr>
        <p:spPr>
          <a:xfrm>
            <a:off x="84240" y="5345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Radiation Safety Research Center, Nuclear Technology Research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Central Research Institute of Electric Power Industry (CRIEPI), Tokyo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12"/>
          <p:cNvSpPr/>
          <p:nvPr/>
        </p:nvSpPr>
        <p:spPr>
          <a:xfrm>
            <a:off x="136800" y="14112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22 May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CIEMAT, Madrid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図 7" descr="Logo.jpg"/>
          <p:cNvPicPr/>
          <p:nvPr/>
        </p:nvPicPr>
        <p:blipFill>
          <a:blip r:embed="rId1"/>
          <a:stretch/>
        </p:blipFill>
        <p:spPr>
          <a:xfrm>
            <a:off x="7448400" y="6323040"/>
            <a:ext cx="1508400" cy="433440"/>
          </a:xfrm>
          <a:prstGeom prst="rect">
            <a:avLst/>
          </a:prstGeom>
          <a:ln w="0">
            <a:noFill/>
          </a:ln>
        </p:spPr>
      </p:pic>
      <p:sp>
        <p:nvSpPr>
          <p:cNvPr id="185" name="テキスト ボックス 12"/>
          <p:cNvSpPr/>
          <p:nvPr/>
        </p:nvSpPr>
        <p:spPr>
          <a:xfrm>
            <a:off x="156960" y="96840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2nd Meet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he NERIS Working Group on Contaminated goods (ConGo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イチゴのバスケット"/>
          <p:cNvPicPr/>
          <p:nvPr/>
        </p:nvPicPr>
        <p:blipFill>
          <a:blip r:embed="rId2"/>
          <a:stretch/>
        </p:blipFill>
        <p:spPr>
          <a:xfrm>
            <a:off x="171360" y="3645000"/>
            <a:ext cx="1517760" cy="1719000"/>
          </a:xfrm>
          <a:prstGeom prst="rect">
            <a:avLst/>
          </a:prstGeom>
          <a:ln w="0">
            <a:noFill/>
          </a:ln>
        </p:spPr>
      </p:pic>
      <p:pic>
        <p:nvPicPr>
          <p:cNvPr id="187" name="図 10" descr=""/>
          <p:cNvPicPr/>
          <p:nvPr/>
        </p:nvPicPr>
        <p:blipFill>
          <a:blip r:embed="rId3"/>
          <a:stretch/>
        </p:blipFill>
        <p:spPr>
          <a:xfrm>
            <a:off x="6946920" y="3505320"/>
            <a:ext cx="1892160" cy="177156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10"/>
          <p:cNvSpPr/>
          <p:nvPr/>
        </p:nvSpPr>
        <p:spPr>
          <a:xfrm>
            <a:off x="1486080" y="44100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Nobuyuki Hamada,</a:t>
            </a:r>
            <a:r>
              <a:rPr b="1" lang="ja-JP" sz="25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5968"/>
                </a:solidFill>
                <a:latin typeface="Arial"/>
                <a:ea typeface="Arial"/>
              </a:rPr>
              <a:t>Haruyuki Ogino, and Yuki Fujimich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スライド番号プレースホルダ 10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774-6F38-495D-AB16-A2BC1F93305F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テキスト ボックス 8"/>
          <p:cNvSpPr/>
          <p:nvPr/>
        </p:nvSpPr>
        <p:spPr>
          <a:xfrm>
            <a:off x="836280" y="114480"/>
            <a:ext cx="74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The Great East Jap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FC6-2504-42C4-8D90-1F2363044B0D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157320" y="1387440"/>
            <a:ext cx="882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curred off the northeastern coast of Japan at 14:46 (Japan Standard Time) on 11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a moment magnitude of 9.0 (fourth largest in the 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eashed a substantial tsunami as high as 40.5 m reportedly that traveled to as far as 10 km in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used a massive destruction across a wide area: there have been 15,883 confirmed fatalities with 2,676 people missing as of 10 May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led to the first-ever declaration of nuclear emergency situation at the Fukushima nuclear power plant 1 at 19:03 on 11 March 2011, and Nuclear Emergency Response Headquarters (NERHQ) was established on the sam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8"/>
          <p:cNvSpPr/>
          <p:nvPr/>
        </p:nvSpPr>
        <p:spPr>
          <a:xfrm>
            <a:off x="1408320" y="11448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Fukushima nuclear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E5B1-0AF4-47B6-9B08-255C79C4F3CA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4"/>
          <p:cNvSpPr/>
          <p:nvPr/>
        </p:nvSpPr>
        <p:spPr>
          <a:xfrm>
            <a:off x="77760" y="762120"/>
            <a:ext cx="8987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on the quake, all operating plants underwent automatic shut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mergency diesel generators successfully started to supply power for nuclear fuel cool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about 1 h after the quake, the 14 m high tsunami overwhelmed the site’s sea defenses designed to withstand 5.7 m high tsunamis, and generators become inope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vation of temperature and pressure inside the reactors resulted in a partial meltdown and hydrogen explosions, followed by the radionuclide discha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discharge was recorded on the early morning of 12 Marc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into the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0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18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, 15 PBq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(11-16 March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into sea (a total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7 PBq (1-6 April 2011), 150 GBq (4-10 April 2011), 20 TBq (11 May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テキスト ボックス 8"/>
          <p:cNvSpPr/>
          <p:nvPr/>
        </p:nvSpPr>
        <p:spPr>
          <a:xfrm>
            <a:off x="1764360" y="11448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Fukushima vs Chernob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109A-CBC5-46A8-980E-878ED58A62A8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4"/>
          <p:cNvSpPr/>
          <p:nvPr/>
        </p:nvSpPr>
        <p:spPr>
          <a:xfrm>
            <a:off x="77760" y="1428840"/>
            <a:ext cx="8987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ukushima and Chernobyl were both rated at the top level 7 on the International Nuclear and Radiological Event Scale (IN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Fukushima accident  (compared with the Chernobyl acciden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mount of discharged radionuclides was about one-sevent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nuclide releases continued over a longer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.g., until cold shutdown in December 2012 or even later, albe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eases in the first one mont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he dose posed by internal exposure was much lower (details w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provided la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テキスト ボックス 8"/>
          <p:cNvSpPr/>
          <p:nvPr/>
        </p:nvSpPr>
        <p:spPr>
          <a:xfrm>
            <a:off x="3060360" y="11448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Stable io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70B-6CFD-4950-A9D9-091648EBBC55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4"/>
          <p:cNvSpPr/>
          <p:nvPr/>
        </p:nvSpPr>
        <p:spPr>
          <a:xfrm>
            <a:off x="79200" y="2151000"/>
            <a:ext cx="8987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16 March 2011, NERHQ gave the Governor of the Fukushima Prefecture instruction that evacuees aged &lt;40 years leaving the stay-away evacuation zone to take stable i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Fukushima Prefecture did not pass this instruction to its municipalities to distribute stable iodine, so that evacuees failed to receive and take stable i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b., there is an exception for several municipalities (Futaba, Tomioka, Okuma, Miharu towns) where local governments distributed stable iodines without awaiting NERHQ’s instruction and some of those pills were ta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テキスト ボックス 8"/>
          <p:cNvSpPr/>
          <p:nvPr/>
        </p:nvSpPr>
        <p:spPr>
          <a:xfrm>
            <a:off x="622800" y="114480"/>
            <a:ext cx="78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Initial responses for food and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E0A-1D2C-4D01-BA6C-C9DB380916C9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4"/>
          <p:cNvSpPr/>
          <p:nvPr/>
        </p:nvSpPr>
        <p:spPr>
          <a:xfrm>
            <a:off x="77760" y="1690560"/>
            <a:ext cx="8987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surveys revealed that high levels of radioiodines and radiocesiums were detected, so that the Nuclear Safety Commission (NSC) advised that monitoring surveys of food and water should begin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Labour and Welfare (MHLW) set regulatory limits stipulated as “provisional regulation valu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restrictions on distribution and consumption were imp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8"/>
          <p:cNvSpPr/>
          <p:nvPr/>
        </p:nvSpPr>
        <p:spPr>
          <a:xfrm>
            <a:off x="749160" y="11448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ovisional regulation value (PR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BD6-89AE-4215-8706-92C7449CCD4B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4"/>
          <p:cNvSpPr/>
          <p:nvPr/>
        </p:nvSpPr>
        <p:spPr>
          <a:xfrm>
            <a:off x="77760" y="1371600"/>
            <a:ext cx="8987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asked Food Safety Commission (FSC) to assess the validity of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9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SC guaranteed that PRV set by MHLW is effective enough to ensure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LW decided to use for the mea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was set for radioiodines, radiocesiums, uranium, plutonium and other transuranic alpha emi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se, my talk focuses on radioiodines and radiocesiums, because other radionuclides did not exceed PR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テキスト ボックス 8"/>
          <p:cNvSpPr/>
          <p:nvPr/>
        </p:nvSpPr>
        <p:spPr>
          <a:xfrm>
            <a:off x="2222280" y="11448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PRV for radioiod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スライド番号プレースホルダ 3"/>
          <p:cNvSpPr/>
          <p:nvPr/>
        </p:nvSpPr>
        <p:spPr>
          <a:xfrm>
            <a:off x="3505320" y="6348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83E-23AB-459B-9EA0-CBFD35FEE092}" type="slidenum">
              <a:rPr b="1" lang="ja-JP" sz="20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4"/>
          <p:cNvSpPr/>
          <p:nvPr/>
        </p:nvSpPr>
        <p:spPr>
          <a:xfrm>
            <a:off x="77760" y="990720"/>
            <a:ext cx="8987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V in water and milk ingested by infants was adopted from the guideline level indicated by the Codex Alimentalius Commission in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V in aquatic products was newly set on 5 April 2011 by adapting the value for vegetables, because radioiodines at levels of concern were detected in fish sampled on 1 April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values were derived from the “index values” that NSC had provided as evaluation criteria to launch discussion on whether NERHQ needs to restrict the consumption of food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were defined in water, and two categories of food (milk and vegetables), but not for other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 level/category considered was a committed equivalent dose to the thyroid of 11.1 mSv/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x values were calculated as radioactive concentrations of indicator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) by postulating the relative radioactive concentration of coexisting radionuclides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8:52:23Z</dcterms:created>
  <dc:creator>f-yuki</dc:creator>
  <dc:description/>
  <dc:language>en-US</dc:language>
  <cp:lastModifiedBy>浜田 信行</cp:lastModifiedBy>
  <cp:lastPrinted>2013-05-15T22:30:18Z</cp:lastPrinted>
  <dcterms:modified xsi:type="dcterms:W3CDTF">2013-05-22T07:21:05Z</dcterms:modified>
  <cp:revision>203</cp:revision>
  <dc:subject/>
  <dc:title>スライド 1</dc:title>
</cp:coreProperties>
</file>