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14B-D600-412F-ACAC-6BDD4CDF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092-59D1-474B-BA89-3E5F74BC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29D-F21B-4A15-9094-25352CE3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5B3-F8C2-4E21-B115-751C9F0B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5AA-93A9-44EF-850E-4AAF346D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D61-DB1A-40D0-8B37-DF2BFFC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FAC-0B43-4FE2-BCA5-A17E3F6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AF8-E488-42DA-B6C3-703CB28D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84F-8C0A-4E97-A0AA-F83162F8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3F2-1C38-4CE0-B969-63EACD9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2C1-73E7-4C06-B72A-FEB5E4E5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768-E688-4D08-ACA9-AA0C2E9D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6EFD-57AF-4336-8744-82633A561C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1342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The evolution of the management of agricultural products in Belarus following the Chernobyl ac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458960"/>
            <a:ext cx="83516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Iossif Bogdevitch – BRISSA –  Bela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551664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ERIS Topical Workshop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anagement of Contaminated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CIEMAT, Madrid, 22 May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B8C-839B-4C6B-A990-5C2DC3EB14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medial actions in rehabilitation period, since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main goal –  Rehabilitation of contaminated territories, providing the safe food and  living condition, economic and social development of rural sett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ng for optimization (pH –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M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fertility optimization and maintenance. Site specific fertilization P and K, slow release N and compound fertiliz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cal and surface improvement of pastures and hay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esium-binding ferrocene supplemented mixed feed for diary cows  (Prussian b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 two stage  feeding diets for anim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ization and re-specialization of f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193-6C01-449C-8CBA-C0D3369EF2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DUCTION FACTORS OF COUNTERMEASURES USED IN THE CIS COUNTRIES  (1992-2000)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French-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German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 Initiativ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eville-Cavelin et al., 2001, Bogdevitch et al., 2002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557360"/>
          <a:ext cx="7772400" cy="4896000"/>
        </p:xfrm>
        <a:graphic>
          <a:graphicData uri="http://schemas.openxmlformats.org/drawingml/2006/table">
            <a:tbl>
              <a:tblPr/>
              <a:tblGrid>
                <a:gridCol w="3556080"/>
                <a:gridCol w="2152440"/>
                <a:gridCol w="206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er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 ploughing (first ye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–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m and burial plough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–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 of mineral fertilis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 of organic fertili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–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cal improve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ther applica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9,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–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face improve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ther applica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–3,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–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–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 in fodder cro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–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 f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–5 (time depend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–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ration of Cs bi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–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 milk to bu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–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–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 rapeseed to 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B7F-9075-4A20-B5CF-3FF773DB49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urrent permissible levels (Bq/kg) for caesium radionuclide in main food produc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aphicFrame>
        <p:nvGraphicFramePr>
          <p:cNvPr id="73" name=""/>
          <p:cNvGraphicFramePr/>
          <p:nvPr/>
        </p:nvGraphicFramePr>
        <p:xfrm>
          <a:off x="684360" y="1916280"/>
          <a:ext cx="7775280" cy="4340160"/>
        </p:xfrm>
        <a:graphic>
          <a:graphicData uri="http://schemas.openxmlformats.org/drawingml/2006/table">
            <a:tbl>
              <a:tblPr/>
              <a:tblGrid>
                <a:gridCol w="2692080"/>
                <a:gridCol w="979560"/>
                <a:gridCol w="1152720"/>
                <a:gridCol w="1584360"/>
                <a:gridCol w="136656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ela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ssian Fed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r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of adoption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ant food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k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iry products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t and products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80-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h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getables, fruit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d, flour, cereals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internal dose, mSv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491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37B-7E56-4B67-A7A4-6F3F003C2B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58920" y="260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ussian blue (PB) for c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9920" y="2776680"/>
            <a:ext cx="374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s of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 activity of mi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PB appli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3121200"/>
            <a:ext cx="3744720" cy="179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RF of milk and meat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Milk:3  beef: 2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Cost 28 Euro per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dverted dose 0.25-0.50 m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Cost of adverted dose 4.8 kEuro/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067280" y="3489480"/>
            <a:ext cx="4843440" cy="2460600"/>
            <a:chOff x="4067280" y="3489480"/>
            <a:chExt cx="4843440" cy="2460600"/>
          </a:xfrm>
        </p:grpSpPr>
        <p:grpSp>
          <p:nvGrpSpPr>
            <p:cNvPr id="79" name=""/>
            <p:cNvGrpSpPr/>
            <p:nvPr/>
          </p:nvGrpSpPr>
          <p:grpSpPr>
            <a:xfrm>
              <a:off x="4067280" y="3489480"/>
              <a:ext cx="4843440" cy="2460600"/>
              <a:chOff x="4067280" y="3489480"/>
              <a:chExt cx="4843440" cy="2460600"/>
            </a:xfrm>
          </p:grpSpPr>
          <p:graphicFrame>
            <p:nvGraphicFramePr>
              <p:cNvPr id="80" name=""/>
              <p:cNvGraphicFramePr/>
              <p:nvPr/>
            </p:nvGraphicFramePr>
            <p:xfrm>
              <a:off x="4067280" y="3489480"/>
              <a:ext cx="4843440" cy="2460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067280" y="3489480"/>
                        <a:ext cx="4843440" cy="246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2" name=""/>
              <p:cNvSpPr/>
              <p:nvPr/>
            </p:nvSpPr>
            <p:spPr>
              <a:xfrm>
                <a:off x="4734000" y="4910040"/>
                <a:ext cx="3925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372360" y="4203720"/>
              <a:ext cx="1295280" cy="304920"/>
            </a:xfrm>
            <a:prstGeom prst="wedgeRoundRectCallout">
              <a:avLst>
                <a:gd name="adj1" fmla="val -56615"/>
                <a:gd name="adj2" fmla="val 17552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Permissi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Level for mil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95280" y="836640"/>
            <a:ext cx="8353440" cy="161856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easiest and cheapest remedial action  is direct incorporation of Prussian Blue (Hexacyanoferrate compounds) into concentrate during manufacturing. Concentrate was prepared with 0.6% PB  and was feed to cow in rate of 0.5 kg of concentrate daily in 2004 – 2005 in the settlement Svetilovich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2D2-4AF2-496D-9442-6DA9F2AD07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ffect of remediation actions (PB+RI)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n  the internal dose reductio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 Svetilovichi (IAEA RER 9074  2004 -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268280"/>
          <a:ext cx="7797600" cy="4326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268280"/>
                    <a:ext cx="779760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55640" y="5589720"/>
            <a:ext cx="7488360" cy="64260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whole body measurements were undertaken for dynamics estimation of internal doses irradiation of peopl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RF=2 during 1.5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AD4-B9CB-425C-BFBC-302803F35A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dified Use of Land</a:t>
            </a:r>
            <a:br>
              <a:rPr sz="28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wing &amp; Processing  of Rapeseed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AEA TC Project BYE 5/00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03280" y="1341360"/>
          <a:ext cx="6201000" cy="414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341360"/>
                    <a:ext cx="6201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476360" y="4581360"/>
            <a:ext cx="6264360" cy="39888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 allocation in spring rapeseed bio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413000"/>
            <a:ext cx="7920000" cy="64260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ly about 3% of the total 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s and 6 % of the total 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r taken up by rape plant are involved in the chain soil-plant-fodder-animal-ma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064360" cy="82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1996-2012 the production of rape seed increased from   18 to 700 thousand tons. Net return for growing 1 tone of rape seed - 30 Euro, for processing - 34 Eur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0B4-3AA9-4776-965C-3377A27926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8064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fferentiated doses of K-ferti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6315120" y="2841480"/>
            <a:ext cx="9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4651200" y="3573360"/>
            <a:ext cx="9288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ximum yi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трелка вниз 13"/>
          <p:cNvSpPr/>
          <p:nvPr/>
        </p:nvSpPr>
        <p:spPr>
          <a:xfrm flipH="1">
            <a:off x="5076000" y="4076640"/>
            <a:ext cx="96840" cy="978120"/>
          </a:xfrm>
          <a:prstGeom prst="downArrow">
            <a:avLst>
              <a:gd name="adj1" fmla="val 50000"/>
              <a:gd name="adj2" fmla="val 50128"/>
            </a:avLst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56000" y="1268280"/>
          <a:ext cx="447696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268280"/>
                    <a:ext cx="4476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500720" y="907920"/>
            <a:ext cx="4174920" cy="7333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 transfer to clover green mass in rel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K status of Luvisol loamy sand soi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981000"/>
            <a:ext cx="4033800" cy="502308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 fertilizer could effectively inhibit the transfer of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 (and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 in lesser  extension) from soil to plants</a:t>
            </a:r>
            <a:r>
              <a:rPr b="1" lang="bn-I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in soils with “Low to Optimal” K stat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mal accumulation of radionuclides in plant production is found on soil with higher K content  than needed for maximum yield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moderate potash fertilizer rates are needed for medium and rich K-supplied soils (K 5.3-7.4 mmol kg-1) to replace of the crop K-remov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ses for averted 1 man Sv =40-60 k Euro if deposition of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 ≥370  kBq/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ses for averted expose are covered by extra crop yields with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fficient net return on soils with low to optimal  content of exchangeable 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E55-2B51-486D-AD88-D1280FB8B18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ynamics of K-content in soils dur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st Chernobyl peri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268280"/>
          <a:ext cx="8136000" cy="482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813600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12A-CF0C-4A73-8F9F-3236DE490E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ynamics of P-content in soils during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st Chernobyl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341360"/>
          <a:ext cx="8424720" cy="489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341360"/>
                    <a:ext cx="84247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AF1-FBE0-48D5-AFEA-A58D4F1125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62320" y="166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197000"/>
            <a:ext cx="4978440" cy="53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nvolvement of stakeholders in process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of rehabil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Measurements of radioactive contamination and processing of milk, vegetables, berries, mushro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Modern technologies: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ncrease the potato &amp; vegetable yields in 1.6-1.8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duction on 20-30%  of  </a:t>
            </a: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</a:rPr>
              <a:t>137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s and </a:t>
            </a: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</a:rPr>
              <a:t>90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r concentration in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1 EURO invested   (430-9400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€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ha</a:t>
            </a: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</a:rPr>
              <a:t>-1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) has made 1.5-2.5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€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of net retur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ransition from personal field to farmer’s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3552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commendation to farmers on personal field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national projects /ETHOS - CORE 1999-2007/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1800" y="2400480"/>
          <a:ext cx="1895400" cy="8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1800" y="2400480"/>
                    <a:ext cx="1895400" cy="8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508720" y="1268280"/>
            <a:ext cx="3306600" cy="496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687-3833-4D41-B9DA-D5D77FBCF45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rnobyl accident: consequences for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medial actions implemented to reduce  the contamination of agricultural produc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Emergency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Site specific remedial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Rehabilita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ommendations to farmers – self-hel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ssons lear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C0E-FF9A-48D3-AB58-715014F46B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ynamics of grain and milk production with an excessive levels of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s  in Belarus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gainst the levels: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PL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– 1986-89, RKU – 1990-92, RDU- 1993-97, RDU-99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1700280"/>
          <a:ext cx="7704000" cy="446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00280"/>
                    <a:ext cx="7704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E19-6984-4139-9093-582AA6A790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00920" y="2857680"/>
          <a:ext cx="90468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00920" y="2857680"/>
                    <a:ext cx="904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990720" y="2286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836640"/>
            <a:ext cx="86407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umber of settlements with samples of milk  exceeded th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f 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137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s activity (&gt; 100 Bq l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4680" y="24444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lk produced in personal farmst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4360" y="1557360"/>
          <a:ext cx="7991280" cy="4680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1557360"/>
                    <a:ext cx="79912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897-A44A-4D2F-8058-8A71EFD0FC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Lessons learned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38980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eam of experts and the comprehensive plan  for the protection of affected people in emergency period should be prepared in the long time before the possible nuclear accid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 PGothic"/>
              </a:rPr>
              <a:t>Permissible levels of radionuclide content in food products are important target instruments for selection and optimizing appropriate countermeasures and remedial actions. Evolution of TPL’s after Chernobyl accident was a dynamic compromise between the  radiation protection requirements and resources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ountermeasures in the early phase of the Chernobyl accident were only partially effective. Little reduction of </a:t>
            </a:r>
            <a:r>
              <a:rPr b="1" lang="en-GB" sz="2000" spc="-1" strike="noStrike" baseline="30000">
                <a:solidFill>
                  <a:srgbClr val="0000ff"/>
                </a:solidFill>
                <a:latin typeface="Arial"/>
              </a:rPr>
              <a:t>131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 intake with milk due the lack of timely information on the accident and appropriate countermeas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gricultural countermeasures and remedial actions  applied in Belarus proved to be highly efficient averting about 40%of collective  internal dos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Radical improvement of pastures &amp; medows is 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 most efficient and acceptable by farmers remedial action. Application of Prussian Blue to cows started only  6 years after the accident: its an effective alternative for short period to the more expensive radical improvement. However in normal practice the expenses for pasture improvement are covered by extra yield of mi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7C2-931F-4270-BC1A-448EAB56BF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691920"/>
            <a:ext cx="777528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dified Use of Land by growing and processing of rapeseed strongly reduced  inflow of  radionuclides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s and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r into food chain. It was profitab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il fertility improvements through liming and fertilizer application resulted in optimization of soil properties in Belarus on 70-85% of cultivated area. These are the basic guarantee for minimization of radionuclide accumulation in farm products in the long-term period after  acciden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, K and P amendments are efficient only in the range of “Low to Optimal” related Ca, K and P status of soil. The expenses for fertilization are covered by extra crop yiel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il today, agricultural remedial actions are still effective. To identify priorities in remediation strategies with full involvement of all interested parties in planning is necess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ernational cooperation and assistance are very important in mitigation of consequences of radiation accidents. There are many examples of effective International projects implemented in Belarus: IAEA projects and training courses 1986-2012; EC projects; French-German initiative; ETHOS-COR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CA9-DF2A-4214-B1A4-646149803B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rnobyl accident: consequences for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528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ccident occurred 28.04.1986 in an vulnerable period, end of sowing campaign and start of cattle graz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larus  had the highest share of contaminated territory:   23 % (46 thousand k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including 1.8 million ha agricultural land was contaminated with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s (&gt;37 kBq/m2). 10% of territory  - with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r (&gt;5.5 kBq/m2). 2%of territory - with Pu isotopes (&gt;0.37 kBq/m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pulation on contaminated territory in 1986 - 2.2 million.  25 thousand of citizens were evacuated from 30 km zone in 1986 . 113 thousands - relocated in 1991-2000 years. About 200 thousand - left contaminated territory volunt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fter 27  years the contaminated territory reduced on 37% (30 thousand k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 population – to 1.0 million of inhabitants. Agriculture is conducted on area of1 million ha of land contaminated with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s including  0.37 million ha simultaneously contaminated with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AEF-5081-467C-9475-545C42024F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317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od management in an  emergency period (1986-1989)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fter Chernobyl accident in Bela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2276640"/>
          <a:ext cx="8136000" cy="3705120"/>
        </p:xfrm>
        <a:graphic>
          <a:graphicData uri="http://schemas.openxmlformats.org/drawingml/2006/table">
            <a:tbl>
              <a:tblPr/>
              <a:tblGrid>
                <a:gridCol w="2160720"/>
                <a:gridCol w="1224000"/>
                <a:gridCol w="1368360"/>
                <a:gridCol w="1295280"/>
                <a:gridCol w="1297080"/>
                <a:gridCol w="790560"/>
              </a:tblGrid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of adoption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5.1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5.1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12. 1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01. 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nuclide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 emit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 &amp;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 &amp;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nking water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k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-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-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t and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0-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h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getables, frui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d, flour, cereals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internal dose, mS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539640" y="1844640"/>
            <a:ext cx="8136000" cy="33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L (Bq/kg) of radionuclide content in food in USSR after Chernobyl (1986-19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907920"/>
            <a:ext cx="8136000" cy="9169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main goal -  to reduce  internal doses of irradiation  to prevent the deterministic effects and provide production  of foodstuff with radionuclide content below TPL (Bq/kg) USS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9E1-52D7-419E-9DA0-D4A553673E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250920" y="1628640"/>
            <a:ext cx="4465440" cy="35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932360" y="1052640"/>
            <a:ext cx="3960720" cy="533340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vacuation of 25 thousand inhabitants from 30-km zone of Chernobyl NP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laughtering of cattle from evacuated settlements (unjustified countermeasure)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onitoring of radionuclide content in soil, water,  food stuff (deficit of measurement devices. Soil maps of Cs and Sr deposition were prepared in August 198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eeding the milky cows with “clean” fodder (restricted us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jection of milk with 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13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 content &gt; PL and further processing for but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ormation &amp; recommendations for population on the contaminated territory (luck of experienced experts and reliable information, recommendations directed mainly to public sector of agricultur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300640"/>
            <a:ext cx="4392360" cy="137268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7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8.04.1986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e lowest concentrations of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131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in air on North of Belarus were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150-20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q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ru-RU" sz="1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afety limit  is 7.3 Bq/m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ere was no Emergency preparedness for the protection of affected people in case of accident on Chernobyl NP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47680"/>
            <a:ext cx="4465440" cy="33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odine-131 deposition in Belarus  10.05.19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9960" y="115920"/>
            <a:ext cx="743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untermeasures in an early period of emergency   (spring – autumn 19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74D-56B5-4AD4-9AE4-C9D247024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8134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untermeasures related to food management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the late emergency period (1987-1989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on of heavily contaminated agriculture land from use – 265 000 ha (1986-199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ep ploughing of  meadows on peat soil (limited u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clusion of crops with high accumulation  of radionuclides (legumes, buckwheat, et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ming 682 000 ha &amp; fertilization with higher doses of  K (1.2 million t) and P(0.6 million t) fertili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triction on the consumption of milk produced in the personal farmstead and milk process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wo stage cattle clean  feeding w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utinely used for meat production  on land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osition of 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s &gt; 185 kBq 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Clean feed of animals for 1.5 months before slaughter was combin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live monitoring. Animals exceeding PLs were  returned to the farm for further clean fee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FFB-037F-495A-9D48-6027397B3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oning of the territory of Belarus according to radioactive contamination and dose loads on popul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81080"/>
          <a:ext cx="7772400" cy="4353120"/>
        </p:xfrm>
        <a:graphic>
          <a:graphicData uri="http://schemas.openxmlformats.org/drawingml/2006/table">
            <a:tbl>
              <a:tblPr/>
              <a:tblGrid>
                <a:gridCol w="3086280"/>
                <a:gridCol w="1109520"/>
                <a:gridCol w="1233360"/>
                <a:gridCol w="1109880"/>
                <a:gridCol w="123336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e descrip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valent dose, mSv/ye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tion density, kBq/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urie/k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-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-238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39, -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bitation zone with periodic radiation check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–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–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5–1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7–0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e with the right to re-settl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1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&lt;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–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–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–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4–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e of subsequent re-settl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5–1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–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–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5–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e of priority re-settl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1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&gt;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 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cuation (alienation) zo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ritory around Chernobyl nuclear power station which the population was evacuated from in 19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BEF-E64C-4A56-A7D2-1ED7429C65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806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ynamics of population on the contaminated territory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 Belarus after Chernoby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1125360"/>
          <a:ext cx="7702560" cy="496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125360"/>
                    <a:ext cx="7702560" cy="49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509-5C9E-477B-914C-0E8B14E5B7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te specific remediation actions                               in agriculture of Belarus 1990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772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main goal – gradual reduction of radionuclide content  in  locally produced food stuff  to the 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xpected final dose for normal life &lt;1  mSv/a (The state Programme for overcoming the consequences of Chernobyl for 1990- 1995 and 1996-2000)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radual change the Permissible Levels of </a:t>
            </a:r>
            <a:r>
              <a:rPr b="1" lang="en-US" sz="1600" spc="-1" strike="noStrike" baseline="30000">
                <a:solidFill>
                  <a:srgbClr val="0000ff"/>
                </a:solidFill>
                <a:latin typeface="Arial"/>
              </a:rPr>
              <a:t>137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s and </a:t>
            </a:r>
            <a:r>
              <a:rPr b="1" lang="en-US" sz="1600" spc="-1" strike="noStrike" baseline="30000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r in foodstuff (RKU – 1990-92, RDU- 1993-97, RDU-99). PL for milk </a:t>
            </a: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1987 – 370 Bq/l, 1990 – 185 Bq/l, 1992 – 111 Bq/l 1999-100Bq/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Remediation  in the key chains of radionuclides transfer: soil-plant, fodder-animal, raw material- foodstu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ng for optimization (pH –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 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 specific fertilization P and K, slow release N fertiliz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 land use (growing and processing rapeseed). Selection of crops and varie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cal and surface improvement of pastures and hayfie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esium-binding ferrocene supplemented mixed feed for diary cows  (Prussian blu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stage clean  feeding diets for animals according to their age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of milk (that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med 40-80% of internal dose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other locally produced food stu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94D-9224-4C4A-B6C0-64EF06DC1A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8:09:33Z</dcterms:created>
  <dc:creator>Bogdevitch Iossif</dc:creator>
  <dc:description/>
  <dc:language>en-US</dc:language>
  <cp:lastModifiedBy>Богдевич </cp:lastModifiedBy>
  <cp:lastPrinted>2003-03-26T09:16:22Z</cp:lastPrinted>
  <dcterms:modified xsi:type="dcterms:W3CDTF">2013-05-18T12:46:18Z</dcterms:modified>
  <cp:revision>205</cp:revision>
  <dc:subject/>
  <dc:title>Post Chernobyl Management</dc:title>
</cp:coreProperties>
</file>