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8"/>
          </p:nvPr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26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93c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666360" y="4714920"/>
            <a:ext cx="5335560" cy="4465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9"/>
          </p:nvPr>
        </p:nvSpPr>
        <p:spPr>
          <a:xfrm>
            <a:off x="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0"/>
          </p:nvPr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3AE2D78-A414-4D40-A9E4-4C5FA227A1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308EE04-8205-494D-AC6A-19676CD4E2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4920"/>
            <a:ext cx="5335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BFF10-12A0-44CD-AE7B-C2324B381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71280" y="389268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43E70-B7DE-4C7E-818A-4CD78EBBB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480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20600-2328-401F-AC4C-E9C6A09B8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984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840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7128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7984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840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6F7D3-2A65-471F-9B45-2E72F8470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50560" y="538200"/>
            <a:ext cx="889308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619AF-ED7B-4915-BA0F-532C7EB5F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2480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71280" y="389268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2480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7984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7128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7984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3316E-87DC-455B-928A-AD1B61E17E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5B8AC-A316-417A-90D9-FBF3ECC70A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62723-8FFD-4BFF-8455-F8E23C1D31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A97AE-EDE7-40CE-8BE3-73D853823E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BCF9A-A5D7-4D68-9693-F479105606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AF135-36CC-4E08-A749-0B821F385B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50560" y="538200"/>
            <a:ext cx="889308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46E28-1631-4923-AE20-ECEB6A1396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DB7B8-92A2-4244-8FCA-950A17127E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2480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96F75-2930-44B9-8159-77608F7B72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4EC35-8514-4CC4-92A2-1FD82BB818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71280" y="389268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C29C7-D950-4D8E-B7A1-5A5E8CA6D9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2480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DAFA2-645C-4E1D-A650-33790AA9AB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7984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8840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7128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7984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8840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E3C89-BC3E-4BB3-9ECB-6C45142EF7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063BDA-B1A8-4BA6-88B9-0B3BA197B9C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2A3AA5-4A96-4504-B639-7428B08D6CD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14D1F4-0D5D-4757-BE95-2EF116E5C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D33C9-B34F-4E31-B91B-F28168DA75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E95010-05A8-4091-9813-553A5112CFC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298990-E8EE-46CA-907D-6B4ABC71A9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50560" y="538200"/>
            <a:ext cx="889308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6F5A25-6B4E-44D6-9F70-FDDB55BADC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7975CA-3C81-4C93-9822-A40C1500D8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2480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7D994A-3617-4341-8487-74A11F20E7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E2E979-E70B-4DA7-BC03-7BE236347F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971280" y="389268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80E9EB-7E82-45A9-9A98-8D94E34B75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92480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E37FCC-6BF8-435D-8F18-87F1037CA3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57984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88400" y="187920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97128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57984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88400" y="3892680"/>
            <a:ext cx="24840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7CBDC8-9A49-41A7-B461-C1024544F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C99AB-C58D-4A90-871B-04C32BB3D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0560" y="538200"/>
            <a:ext cx="889308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A5C28-4A1B-4FA6-8008-756AD1FFF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C5A91-69EA-48DC-A000-D8ECD4089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4800" y="389268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3AFB3-4401-4A21-87A6-1DB3B4934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28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4800" y="1879200"/>
            <a:ext cx="376488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71280" y="3892680"/>
            <a:ext cx="771516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6E6CA-A140-49D9-BEEE-4F80549C5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93c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59840" indent="-159840">
              <a:lnSpc>
                <a:spcPts val="2398"/>
              </a:lnSpc>
              <a:spcBef>
                <a:spcPts val="2625"/>
              </a:spcBef>
              <a:buClr>
                <a:srgbClr val="5793c9"/>
              </a:buClr>
              <a:buSzPct val="75000"/>
              <a:buFont typeface="Arial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16020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69120" indent="-15156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4028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20640" y="6497280"/>
            <a:ext cx="4680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NERIS-ConGoo 2</a:t>
            </a:r>
            <a:r>
              <a:rPr b="0" lang="fr-FR" sz="1100" spc="-1" strike="noStrike" baseline="30000">
                <a:solidFill>
                  <a:srgbClr val="ffffff"/>
                </a:solidFill>
                <a:latin typeface="Trebuchet MS"/>
              </a:rPr>
              <a:t>nd</a:t>
            </a: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 meeting – Intro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24720" y="6497280"/>
            <a:ext cx="71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FBED-61C5-4B6A-8377-D1A67C30B805}" type="slidenum">
              <a:rPr b="0" lang="fr-FR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r>
              <a:rPr b="0" lang="fr-FR" sz="1000" spc="-1" strike="noStrike">
                <a:solidFill>
                  <a:srgbClr val="ffffff"/>
                </a:solidFill>
                <a:latin typeface="Trebuchet MS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579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0" y="719280"/>
            <a:ext cx="2340000" cy="2286000"/>
          </a:xfrm>
          <a:prstGeom prst="rect">
            <a:avLst/>
          </a:prstGeom>
          <a:solidFill>
            <a:srgbClr val="579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0" y="1087560"/>
            <a:ext cx="1943280" cy="15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IRSN_logo"/>
          <p:cNvPicPr/>
          <p:nvPr/>
        </p:nvPicPr>
        <p:blipFill>
          <a:blip r:embed="rId2"/>
          <a:stretch/>
        </p:blipFill>
        <p:spPr>
          <a:xfrm>
            <a:off x="357120" y="1465200"/>
            <a:ext cx="1200240" cy="792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5"/>
          <p:cNvSpPr/>
          <p:nvPr/>
        </p:nvSpPr>
        <p:spPr>
          <a:xfrm>
            <a:off x="5724360" y="3438360"/>
            <a:ext cx="3419640" cy="3419640"/>
          </a:xfrm>
          <a:prstGeom prst="rect">
            <a:avLst/>
          </a:prstGeom>
          <a:solidFill>
            <a:srgbClr val="c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ignatureIRSNB"/>
          <p:cNvPicPr/>
          <p:nvPr/>
        </p:nvPicPr>
        <p:blipFill>
          <a:blip r:embed="rId3"/>
          <a:srcRect l="1121" t="21782" r="1737" b="19307"/>
          <a:stretch/>
        </p:blipFill>
        <p:spPr>
          <a:xfrm>
            <a:off x="357120" y="2778120"/>
            <a:ext cx="1590840" cy="85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93c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59840" indent="-159840">
              <a:lnSpc>
                <a:spcPts val="2398"/>
              </a:lnSpc>
              <a:spcBef>
                <a:spcPts val="2625"/>
              </a:spcBef>
              <a:buClr>
                <a:srgbClr val="5793c9"/>
              </a:buClr>
              <a:buSzPct val="75000"/>
              <a:buFont typeface="Arial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16020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69120" indent="-15156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4028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53964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"/>
          <p:cNvSpPr/>
          <p:nvPr/>
        </p:nvSpPr>
        <p:spPr>
          <a:xfrm>
            <a:off x="8424720" y="6497640"/>
            <a:ext cx="719280" cy="360360"/>
          </a:xfrm>
          <a:prstGeom prst="rect">
            <a:avLst/>
          </a:prstGeom>
          <a:solidFill>
            <a:srgbClr val="579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58920" y="6497640"/>
            <a:ext cx="6984720" cy="360360"/>
          </a:xfrm>
          <a:prstGeom prst="rect">
            <a:avLst/>
          </a:prstGeom>
          <a:solidFill>
            <a:srgbClr val="579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58920" y="0"/>
            <a:ext cx="8785080" cy="360360"/>
          </a:xfrm>
          <a:prstGeom prst="rect">
            <a:avLst/>
          </a:prstGeom>
          <a:solidFill>
            <a:srgbClr val="579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IRSN_logo"/>
          <p:cNvPicPr/>
          <p:nvPr/>
        </p:nvPicPr>
        <p:blipFill>
          <a:blip r:embed="rId2"/>
          <a:srcRect l="0" t="0" r="0" b="51885"/>
          <a:stretch/>
        </p:blipFill>
        <p:spPr>
          <a:xfrm>
            <a:off x="7485120" y="6500880"/>
            <a:ext cx="784080" cy="247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93c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59840" indent="-159840">
              <a:lnSpc>
                <a:spcPts val="2398"/>
              </a:lnSpc>
              <a:spcBef>
                <a:spcPts val="2625"/>
              </a:spcBef>
              <a:buClr>
                <a:srgbClr val="5793c9"/>
              </a:buClr>
              <a:buSzPct val="75000"/>
              <a:buFont typeface="Arial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16020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69120" indent="-15156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4028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620640" y="6497280"/>
            <a:ext cx="4680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Trebuchet MS"/>
              </a:rPr>
              <a:t>TITRE DE LA PRESENTATION - </a:t>
            </a: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DATE DE LA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8424720" y="6497280"/>
            <a:ext cx="71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AB83-A266-4520-BCC3-10461AEE06C1}" type="slidenum">
              <a:rPr b="0" lang="fr-FR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r>
              <a:rPr b="0" lang="fr-FR" sz="1000" spc="-1" strike="noStrike">
                <a:solidFill>
                  <a:srgbClr val="ffffff"/>
                </a:solidFill>
                <a:latin typeface="Trebuchet MS"/>
              </a:rPr>
              <a:t>/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0"/>
          <p:cNvSpPr/>
          <p:nvPr/>
        </p:nvSpPr>
        <p:spPr>
          <a:xfrm>
            <a:off x="8424720" y="6497640"/>
            <a:ext cx="719280" cy="360360"/>
          </a:xfrm>
          <a:prstGeom prst="rect">
            <a:avLst/>
          </a:prstGeom>
          <a:solidFill>
            <a:srgbClr val="579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358920" y="6497640"/>
            <a:ext cx="6984720" cy="360360"/>
          </a:xfrm>
          <a:prstGeom prst="rect">
            <a:avLst/>
          </a:prstGeom>
          <a:solidFill>
            <a:srgbClr val="579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58920" y="0"/>
            <a:ext cx="8785080" cy="360360"/>
          </a:xfrm>
          <a:prstGeom prst="rect">
            <a:avLst/>
          </a:prstGeom>
          <a:solidFill>
            <a:srgbClr val="579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IRSN_logo"/>
          <p:cNvPicPr/>
          <p:nvPr/>
        </p:nvPicPr>
        <p:blipFill>
          <a:blip r:embed="rId2"/>
          <a:srcRect l="0" t="0" r="0" b="51885"/>
          <a:stretch/>
        </p:blipFill>
        <p:spPr>
          <a:xfrm>
            <a:off x="7485120" y="6500880"/>
            <a:ext cx="784080" cy="2476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3820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93c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71280" y="1879200"/>
            <a:ext cx="771516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59840" indent="-159840">
              <a:lnSpc>
                <a:spcPts val="2398"/>
              </a:lnSpc>
              <a:spcBef>
                <a:spcPts val="2625"/>
              </a:spcBef>
              <a:buClr>
                <a:srgbClr val="5793c9"/>
              </a:buClr>
              <a:buSzPct val="75000"/>
              <a:buFont typeface="Arial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16020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69120" indent="-15156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4028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711800" indent="-207720">
              <a:lnSpc>
                <a:spcPts val="2398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6"/>
          </p:nvPr>
        </p:nvSpPr>
        <p:spPr>
          <a:xfrm>
            <a:off x="620640" y="6497280"/>
            <a:ext cx="4680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NERIS-ConGoo 2</a:t>
            </a:r>
            <a:r>
              <a:rPr b="0" lang="fr-FR" sz="1100" spc="-1" strike="noStrike" baseline="30000">
                <a:solidFill>
                  <a:srgbClr val="ffffff"/>
                </a:solidFill>
                <a:latin typeface="Trebuchet MS"/>
              </a:rPr>
              <a:t>nd</a:t>
            </a: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 meeting – Intro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7"/>
          </p:nvPr>
        </p:nvSpPr>
        <p:spPr>
          <a:xfrm>
            <a:off x="8424720" y="6497280"/>
            <a:ext cx="71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455B-5DD4-46BB-86D6-D990F559709A}" type="slidenum">
              <a:rPr b="0" lang="fr-FR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r>
              <a:rPr b="0" lang="fr-FR" sz="1000" spc="-1" strike="noStrike">
                <a:solidFill>
                  <a:srgbClr val="ffffff"/>
                </a:solidFill>
                <a:latin typeface="Trebuchet MS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55640" y="571320"/>
            <a:ext cx="6048360" cy="2603160"/>
          </a:xfrm>
          <a:prstGeom prst="rect">
            <a:avLst/>
          </a:prstGeom>
          <a:noFill/>
          <a:ln w="0">
            <a:noFill/>
          </a:ln>
        </p:spPr>
        <p:txBody>
          <a:bodyPr lIns="1080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63d4d"/>
                </a:solidFill>
                <a:latin typeface="Trebuchet MS"/>
              </a:rPr>
              <a:t>NERIS</a:t>
            </a:r>
            <a:br>
              <a:rPr sz="3200"/>
            </a:br>
            <a:r>
              <a:rPr b="0" lang="en-GB" sz="3200" spc="-1" strike="noStrike">
                <a:solidFill>
                  <a:srgbClr val="e63d4d"/>
                </a:solidFill>
                <a:latin typeface="Trebuchet MS"/>
              </a:rPr>
              <a:t>WG on Contaminated Goods (ConGoo)</a:t>
            </a:r>
            <a:br>
              <a:rPr sz="3200"/>
            </a:br>
            <a:r>
              <a:rPr b="0" lang="en-GB" sz="3200" spc="-1" strike="noStrike">
                <a:solidFill>
                  <a:srgbClr val="e63d4d"/>
                </a:solidFill>
                <a:latin typeface="Trebuchet MS"/>
              </a:rPr>
              <a:t>2</a:t>
            </a:r>
            <a:r>
              <a:rPr b="0" lang="en-GB" sz="3200" spc="-1" strike="noStrike" baseline="30000">
                <a:solidFill>
                  <a:srgbClr val="e63d4d"/>
                </a:solidFill>
                <a:latin typeface="Trebuchet MS"/>
              </a:rPr>
              <a:t>nd</a:t>
            </a:r>
            <a:r>
              <a:rPr b="0" lang="en-GB" sz="3200" spc="-1" strike="noStrike">
                <a:solidFill>
                  <a:srgbClr val="e63d4d"/>
                </a:solidFill>
                <a:latin typeface="Trebuchet MS"/>
              </a:rPr>
              <a:t> meeting</a:t>
            </a:r>
            <a:br>
              <a:rPr sz="3200"/>
            </a:br>
            <a:r>
              <a:rPr b="0" lang="en-GB" sz="3200" spc="-1" strike="noStrike">
                <a:solidFill>
                  <a:srgbClr val="e63d4d"/>
                </a:solidFill>
                <a:latin typeface="Trebuchet MS"/>
              </a:rPr>
              <a:t>Madrid – 22 May 2013</a:t>
            </a:r>
            <a:endParaRPr b="0" lang="en-US" sz="32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76360" y="3551040"/>
            <a:ext cx="5580000" cy="1228680"/>
          </a:xfrm>
          <a:prstGeom prst="rect">
            <a:avLst/>
          </a:prstGeom>
          <a:noFill/>
          <a:ln w="0">
            <a:noFill/>
          </a:ln>
        </p:spPr>
        <p:txBody>
          <a:bodyPr lIns="126000" anchor="t">
            <a:noAutofit/>
          </a:bodyPr>
          <a:p>
            <a:pPr indent="0">
              <a:lnSpc>
                <a:spcPts val="2398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793c9"/>
                </a:solidFill>
                <a:latin typeface="Trebuchet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5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793c9"/>
                </a:solidFill>
                <a:latin typeface="Trebuchet MS"/>
              </a:rPr>
              <a:t>Stakes identified in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5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793c9"/>
                </a:solidFill>
                <a:latin typeface="Trebuchet MS"/>
              </a:rPr>
              <a:t>1st ConGoo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457280" y="5619600"/>
            <a:ext cx="40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Jean-François Lecomte - IR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2"/>
          <p:cNvSpPr/>
          <p:nvPr/>
        </p:nvSpPr>
        <p:spPr>
          <a:xfrm>
            <a:off x="620640" y="6497640"/>
            <a:ext cx="46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NERIS-ConGoo 2</a:t>
            </a:r>
            <a:r>
              <a:rPr b="0" lang="fr-FR" sz="1100" spc="-1" strike="noStrike" baseline="30000">
                <a:solidFill>
                  <a:srgbClr val="ffffff"/>
                </a:solidFill>
                <a:latin typeface="Trebuchet MS"/>
              </a:rPr>
              <a:t>nd</a:t>
            </a: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 meeting – Introdu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8424720" y="6497640"/>
            <a:ext cx="7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3C67-1075-4629-B97C-B3671DB5F0FD}" type="slidenum">
              <a:rPr b="0" lang="fr-FR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r>
              <a:rPr b="0" lang="fr-FR" sz="1000" spc="-1" strike="noStrike">
                <a:solidFill>
                  <a:srgbClr val="ffffff"/>
                </a:solidFill>
                <a:latin typeface="Trebuchet MS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78000" y="385920"/>
            <a:ext cx="8766000" cy="715680"/>
          </a:xfrm>
          <a:prstGeom prst="rect">
            <a:avLst/>
          </a:prstGeom>
          <a:noFill/>
          <a:ln w="0">
            <a:noFill/>
          </a:ln>
        </p:spPr>
        <p:txBody>
          <a:bodyPr lIns="72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ee1010"/>
                </a:solidFill>
                <a:latin typeface="Trebuchet MS"/>
              </a:rPr>
              <a:t>WG-ConGoo</a:t>
            </a:r>
            <a:endParaRPr b="0" lang="en-US" sz="37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509760" y="1957320"/>
            <a:ext cx="831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reated by the NERIS-General Assembly in Glasgow (Scotland) in Ma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For addressing the management of “contaminated goods” after an accident (WG “ConGoo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1st meeting the 25-26 October 2012 in Paris (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upport for PREPARE/WP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pied de page 2"/>
          <p:cNvSpPr/>
          <p:nvPr/>
        </p:nvSpPr>
        <p:spPr>
          <a:xfrm>
            <a:off x="620640" y="6497640"/>
            <a:ext cx="46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NERIS-ConGoo 2</a:t>
            </a:r>
            <a:r>
              <a:rPr b="0" lang="fr-FR" sz="1100" spc="-1" strike="noStrike" baseline="30000">
                <a:solidFill>
                  <a:srgbClr val="ffffff"/>
                </a:solidFill>
                <a:latin typeface="Trebuchet MS"/>
              </a:rPr>
              <a:t>nd</a:t>
            </a: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 meeting – Introdu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8424720" y="6497640"/>
            <a:ext cx="7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EACC-0A3B-45EA-8326-B1936FCCD484}" type="slidenum">
              <a:rPr b="0" lang="fr-FR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r>
              <a:rPr b="0" lang="fr-FR" sz="1000" spc="-1" strike="noStrike">
                <a:solidFill>
                  <a:srgbClr val="ffffff"/>
                </a:solidFill>
                <a:latin typeface="Trebuchet MS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78000" y="385920"/>
            <a:ext cx="8766000" cy="715680"/>
          </a:xfrm>
          <a:prstGeom prst="rect">
            <a:avLst/>
          </a:prstGeom>
          <a:noFill/>
          <a:ln w="0">
            <a:noFill/>
          </a:ln>
        </p:spPr>
        <p:txBody>
          <a:bodyPr lIns="72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ee1010"/>
                </a:solidFill>
                <a:latin typeface="Trebuchet MS"/>
              </a:rPr>
              <a:t>1st Meeting </a:t>
            </a:r>
            <a:endParaRPr b="0" lang="en-US" sz="37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509760" y="1338120"/>
            <a:ext cx="831672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17 participants from 8 countries (Belgium, France, Greece, Ireland, The Netherlands, Norway, Switzerland, United Kingdom) + OECD/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Topical presentations on national approaches after Chernobyl, Fukushima or other crisis (dioxin in Ireland, heavy metal in Norwegian salmon) for the management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Foodst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ther 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resentation of the NEA/CRPPH WG on trade in commodities and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resentation of the IRSN (France) WG on foodstu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2"/>
          <p:cNvSpPr/>
          <p:nvPr/>
        </p:nvSpPr>
        <p:spPr>
          <a:xfrm>
            <a:off x="620640" y="6497640"/>
            <a:ext cx="46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NERIS-ConGoo 2</a:t>
            </a:r>
            <a:r>
              <a:rPr b="0" lang="fr-FR" sz="1100" spc="-1" strike="noStrike" baseline="30000">
                <a:solidFill>
                  <a:srgbClr val="ffffff"/>
                </a:solidFill>
                <a:latin typeface="Trebuchet MS"/>
              </a:rPr>
              <a:t>nd</a:t>
            </a: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 meeting – Introdu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8424720" y="6497640"/>
            <a:ext cx="7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3875-54CA-4AB2-8B34-EADE1D803390}" type="slidenum">
              <a:rPr b="0" lang="fr-FR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r>
              <a:rPr b="0" lang="fr-FR" sz="1000" spc="-1" strike="noStrike">
                <a:solidFill>
                  <a:srgbClr val="ffffff"/>
                </a:solidFill>
                <a:latin typeface="Trebuchet MS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78000" y="385920"/>
            <a:ext cx="8766000" cy="715680"/>
          </a:xfrm>
          <a:prstGeom prst="rect">
            <a:avLst/>
          </a:prstGeom>
          <a:noFill/>
          <a:ln w="0">
            <a:noFill/>
          </a:ln>
        </p:spPr>
        <p:txBody>
          <a:bodyPr lIns="72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ee1010"/>
                </a:solidFill>
                <a:latin typeface="Trebuchet MS"/>
              </a:rPr>
              <a:t>Characteristics </a:t>
            </a:r>
            <a:endParaRPr b="0" lang="en-US" sz="37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509760" y="1460520"/>
            <a:ext cx="831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mplex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Food = sensitive issue, Man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ack of harmo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ifficulties for the authorities to respond adequ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ublic attitude toward risk, Role of the market (possible boycott even &lt; MP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mpromise between protection of populations and preservation of activities and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2"/>
          <p:cNvSpPr/>
          <p:nvPr/>
        </p:nvSpPr>
        <p:spPr>
          <a:xfrm>
            <a:off x="620640" y="6497640"/>
            <a:ext cx="46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NERIS-ConGoo 2</a:t>
            </a:r>
            <a:r>
              <a:rPr b="0" lang="fr-FR" sz="1100" spc="-1" strike="noStrike" baseline="30000">
                <a:solidFill>
                  <a:srgbClr val="ffffff"/>
                </a:solidFill>
                <a:latin typeface="Trebuchet MS"/>
              </a:rPr>
              <a:t>nd</a:t>
            </a: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 meeting – Introdu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8424720" y="6497640"/>
            <a:ext cx="7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7518-5C37-4CBD-B7B3-C3E7D7101812}" type="slidenum">
              <a:rPr b="0" lang="fr-FR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r>
              <a:rPr b="0" lang="fr-FR" sz="1000" spc="-1" strike="noStrike">
                <a:solidFill>
                  <a:srgbClr val="ffffff"/>
                </a:solidFill>
                <a:latin typeface="Trebuchet MS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78000" y="385920"/>
            <a:ext cx="8766000" cy="715680"/>
          </a:xfrm>
          <a:prstGeom prst="rect">
            <a:avLst/>
          </a:prstGeom>
          <a:noFill/>
          <a:ln w="0">
            <a:noFill/>
          </a:ln>
        </p:spPr>
        <p:txBody>
          <a:bodyPr lIns="72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ee1010"/>
                </a:solidFill>
                <a:latin typeface="Trebuchet MS"/>
              </a:rPr>
              <a:t>Discussion </a:t>
            </a:r>
            <a:endParaRPr b="0" lang="en-US" sz="37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09760" y="1130400"/>
            <a:ext cx="831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eed of a reflection at European level for a comprehensive system for managing contaminated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n coherence with ICRP recommendations, HERCA statement, International(IAEA) BSS, future Euratom BSS, possible evolution of FAO/WHO Codex Alimenta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Need to involve stakeholders: producers, consumers, processing and retail industries representatives, health and radiological safety authorities, RP exper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Both during preparedness and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ceptual and topical issu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Espace réservé du pied de page 2"/>
          <p:cNvSpPr/>
          <p:nvPr/>
        </p:nvSpPr>
        <p:spPr>
          <a:xfrm>
            <a:off x="620640" y="6497640"/>
            <a:ext cx="46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NERIS-ConGoo 2</a:t>
            </a:r>
            <a:r>
              <a:rPr b="0" lang="fr-FR" sz="1100" spc="-1" strike="noStrike" baseline="30000">
                <a:solidFill>
                  <a:srgbClr val="ffffff"/>
                </a:solidFill>
                <a:latin typeface="Trebuchet MS"/>
              </a:rPr>
              <a:t>nd</a:t>
            </a: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 meeting – Introdu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8424720" y="6497640"/>
            <a:ext cx="7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61BB-8804-4893-86B6-0A4376ECE93B}" type="slidenum">
              <a:rPr b="0" lang="fr-FR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r>
              <a:rPr b="0" lang="fr-FR" sz="1000" spc="-1" strike="noStrike">
                <a:solidFill>
                  <a:srgbClr val="ffffff"/>
                </a:solidFill>
                <a:latin typeface="Trebuchet MS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78000" y="275760"/>
            <a:ext cx="8766000" cy="716040"/>
          </a:xfrm>
          <a:prstGeom prst="rect">
            <a:avLst/>
          </a:prstGeom>
          <a:noFill/>
          <a:ln w="0">
            <a:noFill/>
          </a:ln>
        </p:spPr>
        <p:txBody>
          <a:bodyPr lIns="72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ee1010"/>
                </a:solidFill>
                <a:latin typeface="Trebuchet MS"/>
              </a:rPr>
              <a:t>Issues considered (Food)</a:t>
            </a:r>
            <a:endParaRPr b="0" lang="en-US" sz="37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620640" y="852480"/>
            <a:ext cx="8317080" cy="85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Exposure situations: emergency, existing, not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ublic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Justification (why not zero risk) and Optim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nternationally: derived MPL for trade (Codex, EU regu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erived from what? (rationale should be explained and justifi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mparison with non-radioactively contaminated produ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Evolution with t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ocally: protection at s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Zoning strate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PL? Same as international? Rationale? Evolu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ther strategy? Solidarity versus Quality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rinking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nitoring, Dilution, Exemption-Clearanc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nformation and communication (e.g. crowd sourc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Espace réservé du pied de page 2"/>
          <p:cNvSpPr/>
          <p:nvPr/>
        </p:nvSpPr>
        <p:spPr>
          <a:xfrm>
            <a:off x="620640" y="6497640"/>
            <a:ext cx="46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NERIS-ConGoo 2</a:t>
            </a:r>
            <a:r>
              <a:rPr b="0" lang="fr-FR" sz="1100" spc="-1" strike="noStrike" baseline="30000">
                <a:solidFill>
                  <a:srgbClr val="ffffff"/>
                </a:solidFill>
                <a:latin typeface="Trebuchet MS"/>
              </a:rPr>
              <a:t>nd</a:t>
            </a: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 meeting – Introdu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8424720" y="6497640"/>
            <a:ext cx="7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C60F-DECF-4C79-8E6F-76A987D6FEBA}" type="slidenum">
              <a:rPr b="0" lang="fr-FR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r>
              <a:rPr b="0" lang="fr-FR" sz="1000" spc="-1" strike="noStrike">
                <a:solidFill>
                  <a:srgbClr val="ffffff"/>
                </a:solidFill>
                <a:latin typeface="Trebuchet MS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78000" y="385920"/>
            <a:ext cx="8766000" cy="715680"/>
          </a:xfrm>
          <a:prstGeom prst="rect">
            <a:avLst/>
          </a:prstGeom>
          <a:noFill/>
          <a:ln w="0">
            <a:noFill/>
          </a:ln>
        </p:spPr>
        <p:txBody>
          <a:bodyPr lIns="72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ee1010"/>
                </a:solidFill>
                <a:latin typeface="Trebuchet MS"/>
              </a:rPr>
              <a:t>Other goods </a:t>
            </a:r>
            <a:endParaRPr b="0" lang="en-US" sz="3700" spc="-1" strike="noStrike">
              <a:solidFill>
                <a:srgbClr val="5793c9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09760" y="1338120"/>
            <a:ext cx="831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tamination process ≠ for food (except raw materi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MPL currently existing (transport number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econtamination of goods? Di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Transport (goods + cr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anagement of 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trol and controllability: do we need much regu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takeholder approach (how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Espace réservé du pied de page 2"/>
          <p:cNvSpPr/>
          <p:nvPr/>
        </p:nvSpPr>
        <p:spPr>
          <a:xfrm>
            <a:off x="620640" y="6497640"/>
            <a:ext cx="46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NERIS-ConGoo 2</a:t>
            </a:r>
            <a:r>
              <a:rPr b="0" lang="fr-FR" sz="1100" spc="-1" strike="noStrike" baseline="30000">
                <a:solidFill>
                  <a:srgbClr val="ffffff"/>
                </a:solidFill>
                <a:latin typeface="Trebuchet MS"/>
              </a:rPr>
              <a:t>nd</a:t>
            </a:r>
            <a:r>
              <a:rPr b="0" lang="fr-FR" sz="1100" spc="-1" strike="noStrike">
                <a:solidFill>
                  <a:srgbClr val="ffffff"/>
                </a:solidFill>
                <a:latin typeface="Trebuchet MS"/>
              </a:rPr>
              <a:t> meeting – Introdu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8424720" y="6497640"/>
            <a:ext cx="7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612F-F494-416D-A778-11FB5B554B8A}" type="slidenum">
              <a:rPr b="0" lang="fr-FR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r>
              <a:rPr b="0" lang="fr-FR" sz="1000" spc="-1" strike="noStrike">
                <a:solidFill>
                  <a:srgbClr val="ffffff"/>
                </a:solidFill>
                <a:latin typeface="Trebuchet MS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1181160" y="2900520"/>
            <a:ext cx="72644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63d4d"/>
                </a:solidFill>
                <a:latin typeface="Trebuchet MS"/>
                <a:ea typeface="ＭＳ Ｐゴシック"/>
              </a:rPr>
              <a:t> </a:t>
            </a:r>
            <a:r>
              <a:rPr b="0" lang="en-GB" sz="4000" spc="-1" strike="noStrike">
                <a:solidFill>
                  <a:srgbClr val="e63d4d"/>
                </a:solidFill>
                <a:latin typeface="Trebuchet MS"/>
                <a:ea typeface="ＭＳ Ｐゴシック"/>
              </a:rPr>
              <a:t>The reflection must go 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0:11:41Z</dcterms:created>
  <dc:creator>TRAN</dc:creator>
  <dc:description/>
  <dc:language>en-US</dc:language>
  <cp:lastModifiedBy>Sandra BIGUENET</cp:lastModifiedBy>
  <dcterms:modified xsi:type="dcterms:W3CDTF">2013-05-24T09:27:54Z</dcterms:modified>
  <cp:revision>45</cp:revision>
  <dc:subject/>
  <dc:title>Diapositive 1</dc:title>
</cp:coreProperties>
</file>