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2A534-593D-44F9-A51D-640EC65DF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884FE-5380-4997-BBB2-EC591E968D9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40FB2-C380-4A76-8952-303BD4C8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9A849-88C9-42F1-A74E-E0DCAB93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1F925-7DBC-4E04-A39F-83372915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BE40C-A97B-4A9D-9987-A5F4CAFD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42474-8FD4-47EC-AE0D-9861E4EA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C9179-681D-4D31-95B1-041E1D34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D853E-31EA-4FFD-AB0D-65DE760A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56671-D765-428E-B4F3-375647DA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65142-332D-4089-9652-81CED97B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4083F-CABE-46F9-86FE-C2AD63DC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577E6-CB21-4CFD-81BB-3F6ED27CEA9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075C4-E3FD-4A60-B132-9976FA47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01D42-678A-47B6-8BA7-33C0D904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1A238-1650-4326-AE5E-D9EAA48E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47FD7-E001-49D4-AD3E-6ED818EA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83F8C-D637-4B30-8A53-68A4E26F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C3FE0-8719-42B6-A1A9-C9E6CBD0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1AB64-C68A-41E6-9571-794E49EF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F8FAA-FFD5-4AAA-A24A-4894681D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7B111-33A1-450D-9321-23C2490D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1BB92-3587-4B43-B9D9-02C7F221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55C69-AC33-4560-9DCD-DAB4FC4C4A5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4D7A7-8F40-4B01-9A62-B620C632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D6129-B1EB-424E-9A75-B1EA1016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F0C52-E993-4BF5-9BE5-6A76F069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1EF24-023B-47AB-B002-9806FFB1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E1374-7118-40E2-B5C6-0A1BCB2D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F7872-E1BC-4011-9192-05A0015C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5DB95-CADE-4E91-B220-210A3020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AD127-4715-40FE-B35B-DC82246C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58443-0E9E-4451-B522-0615A40F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4F172-328E-4F8B-B7A6-BB8D71DD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46E2-443E-4140-8541-93004E683EB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89A5E-FADA-442A-B477-3DCF5123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01BCE-CC39-4073-89EC-BE4428E7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E252B-8D28-4BA0-A271-69658B42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D99ED-0027-4905-BFA1-3586C307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CDD35-9DD1-4E3E-B4CD-F919F779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0AD82-B419-40B6-9AAE-68FA6ECB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D2BB5-AD87-46BD-9A0B-B72E7069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B0BF9-BBCF-4011-8B45-1BFE588A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5AD30-D0FB-43B9-A17E-0B09B9DD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9EEF7-1EC0-476A-B521-833A2ED4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55D-ED05-4883-B36A-BC79421B952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F31C9-0CC9-443F-B075-872D609F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66137-8545-429B-B28E-8BB58F9F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B2486-B318-4173-83D6-3EE85DE3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BDD6A-A5D2-426D-B411-0F9F7618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95FB9-FE2C-4B78-9697-1C581D67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A722A-8A39-47FF-B408-E744146393F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F05A6-2002-4EDA-9A0C-7E178AC828F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EDDC8-5DBA-4009-AB36-DFCC6C8CCA5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5E158-8A20-4F9C-82BF-AEC9D7C734E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39A94-0C12-4F67-9A74-2524CCA8EE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F9DD-886C-4A77-BAFD-12B31817B7B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53815-6937-4AF2-BDF9-E9EF161E8B7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FFF5D-A3D6-47FC-9977-370227A20FC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0D828-8B2B-4CAE-AAD9-7855789AC6A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44AF9-A12B-4B51-8960-82F5D42C10E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676E9-6D81-47D1-8D66-2423A652201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B0CC4-148F-47DD-B60C-A01B969612D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49973-ECC6-4024-99F7-CDF7196CFD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E61E-7DF3-4406-898B-76A391D377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394-17A8-402B-946C-EF6A3ED67E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890E-BBF6-4BAD-B59B-938126661A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364-64F3-49E9-98AD-555A9EE960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AF631-32D2-4ED7-91A8-DAC5DE159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8ED-5F24-40F6-B052-8A14DBC413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049-A281-4CAC-B9FB-867C734161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D45-64DC-4D31-9B4D-3F1B2CC73B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24B-D2C6-4DEC-9F19-FB39914043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8F2C-84C5-4A88-B620-66797727F0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1609-434B-4EF1-B737-340FBD37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BA75-2CD4-4DC5-B80A-0D9767C5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2230-E034-4088-A68D-C6CAC904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EA11-7A1C-460E-8ED4-F923DE63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F7CD-C8AB-44E3-B6BB-138F29AB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95853-0842-4001-892C-BBF35C5205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9720-4AD5-417F-8A1C-8F7D4DB3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B1A0-9B0A-4BB6-8AE2-9F8C3247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F480-5E2A-4219-BC8A-B5DF485A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E42E-5868-49A0-A2EC-5ED9852D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C772-0690-4DD1-8696-24F8783A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8950-780B-410E-A003-69E74F05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5879-3FCA-4B1E-9B63-3B1D91B6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66933-A291-4FE9-BDE4-5EA8BF25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A636D-C27C-4939-B35E-39E828CF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5A310-6D94-4862-AD0D-78135F17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DC0A7-B9DD-463B-AE0C-DF402787AF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D8F8D-CF0D-4907-8E1F-4D00830D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148C3-9ACB-4908-A8EC-98088FBD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ECF94-6A2B-4DE7-ACCF-DFF0403B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4C8F2-01F8-481E-9A06-7684FBAB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2BF73-97C8-4098-A3C3-5606B4C1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07687-78E0-4C9A-9DDF-617C024C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80C0A-A44E-4760-A38D-24C4D9D9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02D56-5CB4-4085-97FA-4DFAF081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CB64B-6F30-4E10-B8F6-FA536BF0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9A548-266B-45CD-BE36-7D7F755A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63A26-F30D-42B5-8D4B-47D46C66665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2226A-830D-40E5-8E8F-9DCFB845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5B43A-C8F0-4496-8034-172803EC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B6C6B-DFB8-46CD-A7EC-3AC5D3EE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1DDBF-A5CA-4A1C-9429-A81366A3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E8989-FD27-4749-96CB-C1187BB4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4FFAB-E12C-4BA7-AF8D-2A4C7A4E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E85FE-CB95-416A-B4FA-B5EF2BA6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8FE5B-1A27-4B78-B20F-4980826A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9E399-5474-4639-BFFE-C040B2D0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E1FAD-7462-49B3-8753-997D8936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A9E6D-5DC0-49F0-8DCB-009AE25CC4B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51334-7385-4964-8F63-3BBEAC2F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85AE9-560B-4D50-B68D-E2D68808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69D3E-EE40-4076-90DB-050BE6E6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EC97B-9756-4706-A14D-7B028DEE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48510-A6CC-4D81-A25A-BED75D26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5032F-69E5-4CEC-904D-5CA00654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DBD3B-F205-43B1-9047-A1669BC6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2E0FF-995E-492B-A242-DAF822C8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E9FCE-BAB3-45A8-984E-3A08C570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6413F-BB81-4A9B-B272-C7D8D3BE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0C90C-9384-4DBC-BF2A-20D4E8CE028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D9C0C-626D-4581-9FC0-8D29C072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AF898-B90C-4616-BB1D-FBFD25B5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2DD66-53BC-41EC-8050-087AE9F9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7A7AB-10D7-416E-909C-39F96FD3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700E8-468E-4A26-88D0-E4443D8D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08A25-F6D7-448A-BCB6-27304757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44CBC-3CC2-4CD7-984C-6A94438A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C3996-0C93-4A03-9D97-5A7C5342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9C8FD-32B6-42FF-A78C-4ED7F6AB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705E7-4AAA-4441-91D0-44C68325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18D08-2D22-47B3-8229-08087C43108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928F6-1507-432B-BFC0-94CD9F6F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3D1A1-CCC4-4DAA-979D-7BEE0DA9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003AD-D653-456B-A22B-F679D396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67EE3-6775-48B4-B83E-8785D831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A91A3-2C38-4CB2-BCEF-E30BEE19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BFD28-0283-4DF5-BDC8-9A39C6A7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FE452-F7F5-4CC9-9A19-62C374F0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76E28-D8BB-4822-9701-3B42CE12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6B6FA-9E23-40D2-A25B-782ABDF7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FDE84-E7A8-41B9-A009-37CDD011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A8859-CE00-494E-A650-2540A9707EF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CB142-6E3D-4BD0-8614-808935F0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FA206-AF88-4495-A85B-25DC2158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E4AD5-79C9-451D-B58F-12D60D6F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381D4-C30F-4B88-99F2-98BB6B9A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93A23-DFDE-42B7-9531-22A1C19E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384E0-DEFA-40AE-BBD5-BB4B14A5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C03F9-48DA-4092-B8D9-ED9BF876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81AE8-7949-4DF4-8B07-69136907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A77D0-FD62-4E07-A3F4-5D391350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6D3E1-456F-41B1-8D5A-4BF8421B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en-GB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0C74-A559-4277-9AD3-F80031C3B388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dt" idx="26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27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CD42-0136-4054-8A39-1921ED020F45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8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29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30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939F-45F8-4A41-A162-E5D4DD969AAD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1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32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33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B342-B60A-44AB-B153-4EABA4214317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4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ftr" idx="35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en-GB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36"/>
          </p:nvPr>
        </p:nvSpPr>
        <p:spPr>
          <a:xfrm>
            <a:off x="8100720" y="6453000"/>
            <a:ext cx="3985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FE5D-2845-4792-B8FC-13D85FE5AB8E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3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1FF3-2D4E-45EB-A868-C9018117B83D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4c98"/>
                </a:solidFill>
                <a:latin typeface="Calibri"/>
              </a:rPr>
              <a:t>NERIS – ICRP, Bratislava, 6-8 February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3A69-2EA9-46A3-AC13-83448FA4FD6C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8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9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72BA-23B9-4B5A-A947-6CFC22F2736F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1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2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2F9B-D910-454B-B8F4-9F807764603E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4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5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1373-51D3-4E23-890B-B87221CC5874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6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7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8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F4F1-C28D-453A-A35C-BBDDB0C36E4A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9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20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21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CC20-7230-4FD7-BE4B-F21B6754EC8F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2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23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4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5748-337F-43D1-9440-7DE2AC5E308E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5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476360" y="4868640"/>
            <a:ext cx="6400800" cy="11588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imo Mustonen, STU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RIS – ICRP Worksh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-8 February 2012, Bratisla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8172360" y="645336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DCAD-D173-4337-9AD6-99292A8FF7FE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ooter Placeholder 4"/>
          <p:cNvSpPr/>
          <p:nvPr/>
        </p:nvSpPr>
        <p:spPr>
          <a:xfrm>
            <a:off x="3059280" y="6453360"/>
            <a:ext cx="3006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4c98"/>
                </a:solidFill>
                <a:latin typeface="Calibri"/>
              </a:rPr>
              <a:t>NERIS – ICRP, Bratislava, 6-8 February 20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826920" y="1916280"/>
            <a:ext cx="7490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RIS – ICRP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come of the Break-out Group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ory challenges in the preparation for an emergency and how simulation models may support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Questions discussed in the grou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re the present information exchange systems (ECURIE, EURDEP, etc.) enough for today’s condi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could we improve European coherence of national decisions in a nuclear or radiological emergency having radiological impact in several countri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 we need a joint European data bank for various radiological and meteorological parameters to be used by national experts in different European countri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 we need a joint European data bank for decisions taken by different countries, including bases for the decis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 we need a new European ordinance presuming national authorities to use such kind of data bank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8172360" y="645336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4F4E-4092-434A-BCE0-A21205D234E9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3059280" y="6453360"/>
            <a:ext cx="3006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 fontScale="98000"/>
          </a:bodyPr>
          <a:p>
            <a:pPr marL="281520" indent="-2815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oth the Fukushima accident and the Karlsruhe scenario were address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81520" indent="-2815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ystems used in routine bases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8152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CURIE, EURDEP, REM, CTBT (under continuous improvement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8152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systems work wel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81520" indent="-2815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RIX format soon in operations us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8152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RIX format allows several kinds of information to be exchang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81520" indent="-2815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oth ECURIE and EURDEP could be extended to exchange various kind of informatio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81520" indent="-2815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ssessment results should be included in European data exchange system (Karlsruhe-type scenario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8172360" y="645336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0F35-E133-4B42-8ED2-F2BAD2D3360D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059280" y="6453360"/>
            <a:ext cx="3006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mon European data/information exchange system or data bank? Y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ded data/information exchange system should be only for experts (but also a public pag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 or some other body could take responsibility to maintain th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ew European ordinance ? Not binding ordinance or regulation. Updating of ECURIE Regulation or EURDEP Recommend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scenarios and data achieved in exercises could be put in the European data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8172360" y="645336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283C-3797-411A-9E8C-DD26CA304E51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059280" y="6453360"/>
            <a:ext cx="3006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3:04:19Z</dcterms:created>
  <dc:creator>Raimo Mustonen</dc:creator>
  <dc:description/>
  <dc:language>en-US</dc:language>
  <cp:lastModifiedBy>Raimo Mustonen</cp:lastModifiedBy>
  <dcterms:modified xsi:type="dcterms:W3CDTF">2012-02-07T16:48:00Z</dcterms:modified>
  <cp:revision>8</cp:revision>
  <dc:subject/>
  <dc:title> </dc:title>
</cp:coreProperties>
</file>