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wmf" ContentType="image/x-wmf"/>
  <Override PartName="/ppt/media/image14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dt" idx="13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C960-EE5C-40E9-B9CE-C94E523B4975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sldImg"/>
          </p:nvPr>
        </p:nvSpPr>
        <p:spPr>
          <a:xfrm>
            <a:off x="918720" y="740880"/>
            <a:ext cx="4932360" cy="369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body"/>
          </p:nvPr>
        </p:nvSpPr>
        <p:spPr>
          <a:xfrm>
            <a:off x="676080" y="4687560"/>
            <a:ext cx="5413320" cy="44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ftr" idx="14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 type="sldNum" idx="15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6DA9-BF74-4918-A7DC-8F900483D178}" type="slidenum">
              <a:rPr b="0" lang="en-C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1908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76080" y="4687560"/>
            <a:ext cx="5413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CFB4-0793-4E8D-8657-50AC1586C596}" type="slidenum">
              <a:rPr b="0" lang="en-C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1908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76080" y="4687560"/>
            <a:ext cx="5413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Espace réservé de la date 3"/>
          <p:cNvSpPr/>
          <p:nvPr/>
        </p:nvSpPr>
        <p:spPr>
          <a:xfrm>
            <a:off x="3833640" y="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BF85-3357-4F3B-AECB-142E262D70FE}" type="datetime">
              <a:rPr b="0" lang="fr-FR" sz="1200" spc="-1" strike="noStrike">
                <a:solidFill>
                  <a:srgbClr val="000000"/>
                </a:solidFill>
                <a:latin typeface="Constantia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1" name="Espace réservé du numéro de diapositive 4"/>
          <p:cNvSpPr/>
          <p:nvPr/>
        </p:nvSpPr>
        <p:spPr>
          <a:xfrm>
            <a:off x="3833640" y="937260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574E-844E-45AC-87E4-1DAEC7F4DB5D}" type="slidenum">
              <a:rPr b="0" lang="fr-FR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E7C0-1AF0-448D-AEAD-5383F47B6320}" type="slidenum">
              <a:rPr b="0" lang="fr-FR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91908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76080" y="4687560"/>
            <a:ext cx="541332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1908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76080" y="4687560"/>
            <a:ext cx="5413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F248-7D62-4C31-883F-3AB6AFE32F9B}" type="slidenum">
              <a:rPr b="0" lang="en-C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1908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76080" y="4687560"/>
            <a:ext cx="5413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Espace réservé de la date 3"/>
          <p:cNvSpPr/>
          <p:nvPr/>
        </p:nvSpPr>
        <p:spPr>
          <a:xfrm>
            <a:off x="3833640" y="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B5EC-F778-4A1D-8F30-D336A85EE2FD}" type="datetime">
              <a:rPr b="0" lang="fr-FR" sz="1200" spc="-1" strike="noStrike">
                <a:solidFill>
                  <a:srgbClr val="000000"/>
                </a:solidFill>
                <a:latin typeface="Constantia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Espace réservé du numéro de diapositive 4"/>
          <p:cNvSpPr/>
          <p:nvPr/>
        </p:nvSpPr>
        <p:spPr>
          <a:xfrm>
            <a:off x="3833640" y="937260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1AEC-D3AC-4D7D-BC32-2C9B807A6B85}" type="slidenum">
              <a:rPr b="0" lang="fr-FR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1908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76080" y="4687560"/>
            <a:ext cx="5413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Espace réservé de la date 3"/>
          <p:cNvSpPr/>
          <p:nvPr/>
        </p:nvSpPr>
        <p:spPr>
          <a:xfrm>
            <a:off x="3833640" y="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B862-441B-4327-B007-2AEB225DDC02}" type="datetime">
              <a:rPr b="0" lang="fr-FR" sz="1200" spc="-1" strike="noStrike">
                <a:solidFill>
                  <a:srgbClr val="000000"/>
                </a:solidFill>
                <a:latin typeface="Constantia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Espace réservé du numéro de diapositive 4"/>
          <p:cNvSpPr/>
          <p:nvPr/>
        </p:nvSpPr>
        <p:spPr>
          <a:xfrm>
            <a:off x="3833640" y="937260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0856-C4D2-4920-BED8-9BB7A87365B0}" type="slidenum">
              <a:rPr b="0" lang="fr-FR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1908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76080" y="4687560"/>
            <a:ext cx="5413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Espace réservé de la date 3"/>
          <p:cNvSpPr/>
          <p:nvPr/>
        </p:nvSpPr>
        <p:spPr>
          <a:xfrm>
            <a:off x="3833640" y="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DCCA-5CE0-409A-86FE-C51E5F1A699B}" type="datetime">
              <a:rPr b="0" lang="fr-FR" sz="1200" spc="-1" strike="noStrike">
                <a:solidFill>
                  <a:srgbClr val="000000"/>
                </a:solidFill>
                <a:latin typeface="Constantia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3" name="Espace réservé du numéro de diapositive 4"/>
          <p:cNvSpPr/>
          <p:nvPr/>
        </p:nvSpPr>
        <p:spPr>
          <a:xfrm>
            <a:off x="3833640" y="937260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6A02-5886-43FC-80A9-D7B3F86E2689}" type="slidenum">
              <a:rPr b="0" lang="fr-FR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91908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76080" y="4687560"/>
            <a:ext cx="5413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Espace réservé de la date 3"/>
          <p:cNvSpPr/>
          <p:nvPr/>
        </p:nvSpPr>
        <p:spPr>
          <a:xfrm>
            <a:off x="3833640" y="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7A4A-E2FC-4FA7-A46B-02F685755BEB}" type="datetime">
              <a:rPr b="0" lang="fr-FR" sz="1200" spc="-1" strike="noStrike">
                <a:solidFill>
                  <a:srgbClr val="000000"/>
                </a:solidFill>
                <a:latin typeface="Constantia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Espace réservé du numéro de diapositive 4"/>
          <p:cNvSpPr/>
          <p:nvPr/>
        </p:nvSpPr>
        <p:spPr>
          <a:xfrm>
            <a:off x="3833640" y="937260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B1F8-37A1-4E9D-B70C-0DD7257DC58F}" type="slidenum">
              <a:rPr b="0" lang="fr-FR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1908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76080" y="4687560"/>
            <a:ext cx="5413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Espace réservé de la date 3"/>
          <p:cNvSpPr/>
          <p:nvPr/>
        </p:nvSpPr>
        <p:spPr>
          <a:xfrm>
            <a:off x="3833640" y="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99B5-9F69-4454-A634-87DD5C108B3C}" type="datetime">
              <a:rPr b="0" lang="fr-FR" sz="1200" spc="-1" strike="noStrike">
                <a:solidFill>
                  <a:srgbClr val="000000"/>
                </a:solidFill>
                <a:latin typeface="Constantia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Espace réservé du numéro de diapositive 4"/>
          <p:cNvSpPr/>
          <p:nvPr/>
        </p:nvSpPr>
        <p:spPr>
          <a:xfrm>
            <a:off x="3833640" y="937260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3777-A083-40FE-AFD5-14F0737CE542}" type="slidenum">
              <a:rPr b="0" lang="fr-FR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EBE7E-0017-45EE-A3A5-3079E5EB1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9C24-DF6B-4AAE-8516-2F2B8CA04AD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3AFBD8-1234-4A01-A818-740C4F8552F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F439A2-87CE-4C05-988C-83377E52B4E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64CBB0-7AD5-491C-9824-79BB46A8A43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5E91F0-90C6-4890-A94C-2A4172BF17C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262392-891C-48EE-A845-98D8722F128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6C3EF5-5B92-4293-B7F8-E751DD4B571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1FE78D-CE1F-4F3E-8D80-FD3513E496D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CB4182-CA12-4D97-9E00-0D734E823A0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9B7743-FEC7-4432-8D0D-7D15CA2152F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7A4AB-70C1-42C6-A30A-FDC149599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F54F-B46D-4349-9140-77F9D4AC2B5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E46E0-3DB2-4FCC-8B8C-12AD19C68CE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C7F8A-DAD7-4DBB-AA82-2A587A53C43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349E8D-D7BB-48C8-9056-C30A66D6B68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FAEA9-23A0-45FD-98F7-6CE23A1720A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62A81-3CA0-4DE3-8562-71FE9233C7D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98793-1AAC-4790-ABCD-5431CABFCEC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BA10D-ADC2-451D-9843-00BABF384FE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75664E-AA79-4225-8066-D6F59663D94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5540F-6DBB-45DB-8043-2D132426F97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23F7B-24F7-46D5-AEB1-8172E5F30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2539-456E-4A24-8016-B79E5CF999C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E53B9-BC62-43D4-8ECE-A079B6B2030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44A79-DFBC-410E-AAD5-91052B82DCC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D7803-BE19-43BC-9E34-BF3D9E7868D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0490B-85D5-4DBD-A0DC-C16243F9E84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F5CF6-AC98-4407-82FF-B09491A19FA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9BEB7-427D-428C-8E03-5AFE806B8E3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82748-F6D2-4687-9FE3-B5FF218D809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83C3A-4FD4-4B56-BF79-08AEA7A1F91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3AEB3-336C-4AAF-9D96-DAE34487D4E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7C50B-ACDA-4460-BEEA-844C5BC596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7B75D-88E9-4CF5-A904-A6CBA879944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0B575-4FEE-4745-B43D-84666812C8D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A34BE-A36C-4EE7-A22E-0D312416937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74813-C3B1-453C-8949-7C4B87AD5C4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06DB7-D999-443B-84C9-54A623A672E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70F95-0A5E-4D16-A592-BA8A5A69B77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69FBC5-0CAD-47BE-A949-689F9446CC5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7D433E-3E9C-4C6E-852A-A42D8123CDA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DBA170-95D3-419A-B51F-5DF3B5C7B9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D2DB3-D372-473C-9689-23BFE3E4452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A441C2-EC82-4B40-AEEA-D79C2110EFF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474354-FDFC-4400-A65E-31F3B63BC57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828530-2BD3-45BE-9F4D-2445CA9D61C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15D28E-2995-4C9E-BEE7-A2F6943206F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B88612-0016-4A0F-ADA5-2CB6DFD3FE1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021C43-36D1-4BAD-9B6B-9D5B9CFEB6A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AF33C4-CBB0-4F73-82EF-C30A6C76F35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C81723-E7A5-4E2B-ACA1-A54354BB487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2E3CA9-DF9D-45E5-9132-75D5EDBB99B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BCC47A-F789-4036-BF5C-9E96CF3D98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09639-2DB4-4D7E-98A5-38DE2E2DCE1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52C5AB-3221-41C6-9795-C1C29C32972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B4BBB2-8972-455B-B273-1B07FA357EE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6FA317-6DFE-40BB-9ADF-102ACF2C691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5E18BD-13C8-4DE0-A911-3C3E3BC362E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002598-1E6C-4E69-B777-B7EBE909106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A903D4-9AF1-46D2-A6FD-4DD7D30FEF2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3152E5-C79F-4AEB-8AA9-71367B2659F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AB892E-F4BB-4975-A81E-E097C207B89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E850B2-21E9-4A08-A877-C0AE80F916A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718165-7938-4BB6-8F7C-F8BC9A0F38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06FC8-E273-4E1F-8221-E37D74ADCE3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EA4BD0-7F3C-435E-ADE3-879B485A32D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0B903-A089-40EC-812C-BC6B6A65C6A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85953-8F4E-47C5-91D7-0FC39C05100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09272-21AA-4F38-BF3C-1971A618751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72031-EECA-4492-8413-FD3790149C8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AA55A-A893-400C-BF91-CE23008F3C8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AC2F6-4E31-4900-A6D7-CD0349FE1BB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2A135-00FC-4E5D-BBC6-F9CB9FCE1A1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813D8-4C8B-4E31-9E2F-C8FCC1CDEFE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96C6B-1CA2-414A-9423-448B0EF445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64B11-F39A-408D-8535-9999C5012F7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3E781-6A43-4D47-820D-C16EE6D0EFD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F66F5-A033-484D-9A65-FB2C4A68B64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EB819-EFA1-43A5-BD63-C24E7D9F03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0E54-87E5-4210-850F-48D5001E69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7CF49-EBF8-4F9B-91CE-3B9B3A2806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04810-4C94-43DA-8EA1-990E8A68B5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F7150-8AD2-40B7-A5BA-D506CF6D1A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F60C-12F3-4D68-A2BF-8C24EDE9DA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F2A5D-2282-4AF6-825A-6B1DBA237E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79A-3853-4655-B090-16B7C977D6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A33B-905F-43F6-A3F8-66490571E4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B3D-98E0-4F8C-AF63-E4BC01F6EC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070-1235-4365-BC97-6D4E3693D5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D9B-D932-407C-AFA7-68FF54386D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93232-92EC-497C-88E7-847C395A3D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5F6D-FC26-4E54-8FDE-EE2F42DA6E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80F9-46A9-48C6-9015-726CC74C7D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7C5-648A-4F73-9E6C-676E55FFAD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B3D2-5181-4DA5-9A33-A0C3838090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BD4-29B9-49F6-A1E8-857FF49204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A33-8746-4E8D-B79C-F1232C4D56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F698-DFE8-4A4E-832D-CF5F53FF56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CC22-14AA-442C-94F0-3F0E45156D5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6791D-BCEA-401A-9353-2723DAEF2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D8B2-D025-481D-8121-A9AD117528B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91499-BDFA-45FC-A020-96F6939A2C6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C2796-793E-40F0-A308-83C016CBA05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61035-919C-4F1D-A967-E2878839EA8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1EE7A-B9BD-416F-8D15-3A7B52DE663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54441-7078-441C-A519-2DE955ACA3B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C6642-FB88-4C93-BC11-6B8DD57C6CE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0CD4E-5172-4449-B996-40FFB0EF369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1AC8E-195F-44B0-9A11-85515E164CD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14A63-DBB7-4C1D-9825-E99A64B050C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04B1E-DFFD-44DD-B902-F4AA5C552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23A4-1B56-4185-A0CE-CF6CCE40A0B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9E6FE-9575-45C1-A544-2D7424F3E4A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2B2E5-22E5-4B65-9B50-A7AD0F3F216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7B64E-21E7-40D8-A885-72439DBC10E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1F0F3-406A-4822-9D71-D8C295C710F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D44F7-D210-4773-A131-AF691D2F27A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F3C41-D57D-4D84-BA3F-B5DF8E52712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95557-9397-4A6C-9B55-0ED4B27E956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8B9C6-E0FC-4E6C-A2CC-04906559B1B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BD875-350E-4D0D-B14F-BA51BE7E19B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8F416-ED2D-4912-A366-7067F5243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2DAA8-5C5C-44F7-9006-53ACFF1A450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E326D-C912-48E1-9BDA-4487DF1213E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9A94E-301D-4CEF-AE6A-701E2DA3635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27AD0-021F-4282-BF8D-1DBC16C1E75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7D64-1FBD-497C-B431-669BBC80D5B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CDEE-97BE-4718-81BC-767A9329AB9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F950-5640-4F0D-AF8F-62AE033650F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08E9-2769-4375-A352-2B4BEE2C148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63AB-E0BD-42CE-898E-2516C25B969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14A2-C131-4EEF-8087-74B56E2229E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D8AF-77EF-4A25-835C-2DFF14445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8BE7A-2674-42B0-911B-814C5526699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9FE1-FD91-4DD9-8E95-00093C05A34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F206-F5EF-4FBF-B475-A5ADB95CB01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BDA7-E366-425A-89A5-04731D32E07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6CC6-004A-430C-A52E-452DB8A66C7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5CD2-07D3-4179-B870-B223CCDC550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07C3-15FE-4574-A3E7-0C5689876E2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92064E-6825-421C-90D0-7C93AD4160F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F4ACF1-513A-4FE3-84CD-D369F54F222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1F8C29-E3B9-4784-8F0D-D0C7FCA3F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320" y="6324120"/>
            <a:ext cx="762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69F2-CB2D-45A8-A308-50B77E89FE4A}" type="slidenum">
              <a:rPr b="0" lang="en-C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3" descr="ICRP Logo and Title.gif"/>
          <p:cNvPicPr/>
          <p:nvPr/>
        </p:nvPicPr>
        <p:blipFill>
          <a:blip r:embed="rId2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3" descr="ICRP Logo and Title.gif"/>
          <p:cNvPicPr/>
          <p:nvPr/>
        </p:nvPicPr>
        <p:blipFill>
          <a:blip r:embed="rId2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8"/>
          </p:nvPr>
        </p:nvSpPr>
        <p:spPr>
          <a:xfrm>
            <a:off x="7924320" y="6324120"/>
            <a:ext cx="762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FB91-9434-486D-9538-DF3A03325E6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3" descr="ICRP Logo and Title.gif"/>
          <p:cNvPicPr/>
          <p:nvPr/>
        </p:nvPicPr>
        <p:blipFill>
          <a:blip r:embed="rId2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grpSp>
        <p:nvGrpSpPr>
          <p:cNvPr id="415" name="Rectangle 6"/>
          <p:cNvGrpSpPr/>
          <p:nvPr/>
        </p:nvGrpSpPr>
        <p:grpSpPr>
          <a:xfrm>
            <a:off x="255600" y="407880"/>
            <a:ext cx="2852640" cy="6053400"/>
            <a:chOff x="255600" y="407880"/>
            <a:chExt cx="2852640" cy="6053400"/>
          </a:xfrm>
        </p:grpSpPr>
        <p:pic>
          <p:nvPicPr>
            <p:cNvPr id="416" name="Rectangle 6" descr=""/>
            <p:cNvPicPr/>
            <p:nvPr/>
          </p:nvPicPr>
          <p:blipFill>
            <a:blip r:embed="rId4"/>
            <a:stretch/>
          </p:blipFill>
          <p:spPr>
            <a:xfrm>
              <a:off x="255600" y="407880"/>
              <a:ext cx="2852640" cy="60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304920" y="457200"/>
              <a:ext cx="243828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418" name="Straight Connector 7"/>
          <p:cNvSpPr/>
          <p:nvPr/>
        </p:nvSpPr>
        <p:spPr>
          <a:xfrm flipH="1">
            <a:off x="2895120" y="0"/>
            <a:ext cx="1800" cy="6326280"/>
          </a:xfrm>
          <a:prstGeom prst="line">
            <a:avLst/>
          </a:prstGeom>
          <a:ln cap="rnd"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19" name="Rectangle 8"/>
          <p:cNvGrpSpPr/>
          <p:nvPr/>
        </p:nvGrpSpPr>
        <p:grpSpPr>
          <a:xfrm>
            <a:off x="255600" y="407880"/>
            <a:ext cx="2852640" cy="6053400"/>
            <a:chOff x="255600" y="407880"/>
            <a:chExt cx="2852640" cy="6053400"/>
          </a:xfrm>
        </p:grpSpPr>
        <p:pic>
          <p:nvPicPr>
            <p:cNvPr id="420" name="Rectangle 8" descr=""/>
            <p:cNvPicPr/>
            <p:nvPr/>
          </p:nvPicPr>
          <p:blipFill>
            <a:blip r:embed="rId5"/>
            <a:stretch/>
          </p:blipFill>
          <p:spPr>
            <a:xfrm>
              <a:off x="255600" y="407880"/>
              <a:ext cx="2852640" cy="60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304920" y="457200"/>
              <a:ext cx="243828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422" name="Straight Connector 10"/>
          <p:cNvSpPr/>
          <p:nvPr/>
        </p:nvSpPr>
        <p:spPr>
          <a:xfrm flipH="1">
            <a:off x="2895120" y="0"/>
            <a:ext cx="1800" cy="6326280"/>
          </a:xfrm>
          <a:prstGeom prst="line">
            <a:avLst/>
          </a:prstGeom>
          <a:ln cap="rnd"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9"/>
          </p:nvPr>
        </p:nvSpPr>
        <p:spPr>
          <a:xfrm>
            <a:off x="7924320" y="6324120"/>
            <a:ext cx="762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8391-1AE4-48BC-9558-CCC60298EE55}" type="slidenum">
              <a:rPr b="0" lang="en-C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3" descr="ICRP Logo and Title.gif"/>
          <p:cNvPicPr/>
          <p:nvPr/>
        </p:nvPicPr>
        <p:blipFill>
          <a:blip r:embed="rId2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3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ICRP Logo and Title.gif"/>
          <p:cNvPicPr/>
          <p:nvPr/>
        </p:nvPicPr>
        <p:blipFill>
          <a:blip r:embed="rId4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6" descr="ICRP Logo.gif"/>
          <p:cNvPicPr/>
          <p:nvPr/>
        </p:nvPicPr>
        <p:blipFill>
          <a:blip r:embed="rId5"/>
          <a:stretch/>
        </p:blipFill>
        <p:spPr>
          <a:xfrm>
            <a:off x="60480" y="73080"/>
            <a:ext cx="4298760" cy="2749320"/>
          </a:xfrm>
          <a:prstGeom prst="rect">
            <a:avLst/>
          </a:prstGeom>
          <a:ln w="0">
            <a:noFill/>
          </a:ln>
        </p:spPr>
      </p:pic>
      <p:sp>
        <p:nvSpPr>
          <p:cNvPr id="505" name="Straight Connector 7"/>
          <p:cNvSpPr/>
          <p:nvPr/>
        </p:nvSpPr>
        <p:spPr>
          <a:xfrm>
            <a:off x="0" y="3200400"/>
            <a:ext cx="8381880" cy="1440"/>
          </a:xfrm>
          <a:prstGeom prst="line">
            <a:avLst/>
          </a:prstGeom>
          <a:ln cap="rnd"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6" name="Picture 9" descr="ICRP Logo.gif"/>
          <p:cNvPicPr/>
          <p:nvPr/>
        </p:nvPicPr>
        <p:blipFill>
          <a:blip r:embed="rId6"/>
          <a:stretch/>
        </p:blipFill>
        <p:spPr>
          <a:xfrm>
            <a:off x="60480" y="73080"/>
            <a:ext cx="4298760" cy="2749320"/>
          </a:xfrm>
          <a:prstGeom prst="rect">
            <a:avLst/>
          </a:prstGeom>
          <a:ln w="0">
            <a:noFill/>
          </a:ln>
        </p:spPr>
      </p:pic>
      <p:sp>
        <p:nvSpPr>
          <p:cNvPr id="507" name="Straight Connector 10"/>
          <p:cNvSpPr/>
          <p:nvPr/>
        </p:nvSpPr>
        <p:spPr>
          <a:xfrm>
            <a:off x="0" y="3200400"/>
            <a:ext cx="8381880" cy="1440"/>
          </a:xfrm>
          <a:prstGeom prst="line">
            <a:avLst/>
          </a:prstGeom>
          <a:ln cap="rnd"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3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ICRP Logo and Title.gif"/>
          <p:cNvPicPr/>
          <p:nvPr/>
        </p:nvPicPr>
        <p:blipFill>
          <a:blip r:embed="rId4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10"/>
          </p:nvPr>
        </p:nvSpPr>
        <p:spPr>
          <a:xfrm>
            <a:off x="7924320" y="6324120"/>
            <a:ext cx="762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2CCA-B850-4455-8016-BC20FC6230B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13" descr="ICRP Logo and Title.gif"/>
          <p:cNvPicPr/>
          <p:nvPr/>
        </p:nvPicPr>
        <p:blipFill>
          <a:blip r:embed="rId2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Num" idx="11"/>
          </p:nvPr>
        </p:nvSpPr>
        <p:spPr>
          <a:xfrm>
            <a:off x="7924320" y="6324120"/>
            <a:ext cx="762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C096-795C-40D1-BBAF-BBCBFA5F2C2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13" descr="ICRP Logo and Title.gif"/>
          <p:cNvPicPr/>
          <p:nvPr/>
        </p:nvPicPr>
        <p:blipFill>
          <a:blip r:embed="rId2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grpSp>
        <p:nvGrpSpPr>
          <p:cNvPr id="630" name="Rectangle 6"/>
          <p:cNvGrpSpPr/>
          <p:nvPr/>
        </p:nvGrpSpPr>
        <p:grpSpPr>
          <a:xfrm>
            <a:off x="255600" y="407880"/>
            <a:ext cx="2852640" cy="6053400"/>
            <a:chOff x="255600" y="407880"/>
            <a:chExt cx="2852640" cy="6053400"/>
          </a:xfrm>
        </p:grpSpPr>
        <p:pic>
          <p:nvPicPr>
            <p:cNvPr id="631" name="Rectangle 6" descr=""/>
            <p:cNvPicPr/>
            <p:nvPr/>
          </p:nvPicPr>
          <p:blipFill>
            <a:blip r:embed="rId4"/>
            <a:stretch/>
          </p:blipFill>
          <p:spPr>
            <a:xfrm>
              <a:off x="255600" y="407880"/>
              <a:ext cx="2852640" cy="60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04920" y="457200"/>
              <a:ext cx="243828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633" name="Straight Connector 7"/>
          <p:cNvSpPr/>
          <p:nvPr/>
        </p:nvSpPr>
        <p:spPr>
          <a:xfrm flipH="1">
            <a:off x="2895120" y="0"/>
            <a:ext cx="1800" cy="6326280"/>
          </a:xfrm>
          <a:prstGeom prst="line">
            <a:avLst/>
          </a:prstGeom>
          <a:ln cap="rnd"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634" name="Rectangle 8"/>
          <p:cNvGrpSpPr/>
          <p:nvPr/>
        </p:nvGrpSpPr>
        <p:grpSpPr>
          <a:xfrm>
            <a:off x="255600" y="407880"/>
            <a:ext cx="2852640" cy="6053400"/>
            <a:chOff x="255600" y="407880"/>
            <a:chExt cx="2852640" cy="6053400"/>
          </a:xfrm>
        </p:grpSpPr>
        <p:pic>
          <p:nvPicPr>
            <p:cNvPr id="635" name="Rectangle 8" descr=""/>
            <p:cNvPicPr/>
            <p:nvPr/>
          </p:nvPicPr>
          <p:blipFill>
            <a:blip r:embed="rId5"/>
            <a:stretch/>
          </p:blipFill>
          <p:spPr>
            <a:xfrm>
              <a:off x="255600" y="407880"/>
              <a:ext cx="2852640" cy="60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304920" y="457200"/>
              <a:ext cx="243828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637" name="Straight Connector 10"/>
          <p:cNvSpPr/>
          <p:nvPr/>
        </p:nvSpPr>
        <p:spPr>
          <a:xfrm flipH="1">
            <a:off x="2895120" y="0"/>
            <a:ext cx="1800" cy="6326280"/>
          </a:xfrm>
          <a:prstGeom prst="line">
            <a:avLst/>
          </a:prstGeom>
          <a:ln cap="rnd"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Num" idx="12"/>
          </p:nvPr>
        </p:nvSpPr>
        <p:spPr>
          <a:xfrm>
            <a:off x="7924320" y="6324120"/>
            <a:ext cx="762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E66A-8F34-40C0-945C-458FBF36C0F8}" type="slidenum">
              <a:rPr b="0" lang="en-C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7924320" y="6324120"/>
            <a:ext cx="762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B984-5AD9-4CE1-B76B-1819968D035C}" type="slidenum">
              <a:rPr b="0" lang="en-C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3" descr="ICRP Logo and Title.gif"/>
          <p:cNvPicPr/>
          <p:nvPr/>
        </p:nvPicPr>
        <p:blipFill>
          <a:blip r:embed="rId2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7924320" y="6324120"/>
            <a:ext cx="762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2A86-213F-4515-808B-4B7F6A393EE1}" type="slidenum">
              <a:rPr b="0" lang="en-C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3" descr="ICRP Logo and Title.gif"/>
          <p:cNvPicPr/>
          <p:nvPr/>
        </p:nvPicPr>
        <p:blipFill>
          <a:blip r:embed="rId2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3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ICRP Logo.gif"/>
          <p:cNvPicPr/>
          <p:nvPr/>
        </p:nvPicPr>
        <p:blipFill>
          <a:blip r:embed="rId4"/>
          <a:stretch/>
        </p:blipFill>
        <p:spPr>
          <a:xfrm>
            <a:off x="60480" y="73080"/>
            <a:ext cx="4298760" cy="2749320"/>
          </a:xfrm>
          <a:prstGeom prst="rect">
            <a:avLst/>
          </a:prstGeom>
          <a:ln w="0">
            <a:noFill/>
          </a:ln>
        </p:spPr>
      </p:pic>
      <p:sp>
        <p:nvSpPr>
          <p:cNvPr id="124" name="Straight Connector 6"/>
          <p:cNvSpPr/>
          <p:nvPr/>
        </p:nvSpPr>
        <p:spPr>
          <a:xfrm>
            <a:off x="0" y="3200400"/>
            <a:ext cx="8381880" cy="1440"/>
          </a:xfrm>
          <a:prstGeom prst="line">
            <a:avLst/>
          </a:prstGeom>
          <a:ln cap="rnd"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3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4"/>
          </p:nvPr>
        </p:nvSpPr>
        <p:spPr>
          <a:xfrm>
            <a:off x="7924320" y="6324120"/>
            <a:ext cx="762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03D6-0B1E-4127-97FE-01E80A236C7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3" descr="ICRP Logo and Title.gif"/>
          <p:cNvPicPr/>
          <p:nvPr/>
        </p:nvPicPr>
        <p:blipFill>
          <a:blip r:embed="rId2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5"/>
          </p:nvPr>
        </p:nvSpPr>
        <p:spPr>
          <a:xfrm>
            <a:off x="7924320" y="6324120"/>
            <a:ext cx="762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7183-034B-47DF-9AA3-1F734313E98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3" descr="ICRP Logo and Title.gif"/>
          <p:cNvPicPr/>
          <p:nvPr/>
        </p:nvPicPr>
        <p:blipFill>
          <a:blip r:embed="rId2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grpSp>
        <p:nvGrpSpPr>
          <p:cNvPr id="244" name="Rectangle 5"/>
          <p:cNvGrpSpPr/>
          <p:nvPr/>
        </p:nvGrpSpPr>
        <p:grpSpPr>
          <a:xfrm>
            <a:off x="255600" y="407880"/>
            <a:ext cx="2852640" cy="6053400"/>
            <a:chOff x="255600" y="407880"/>
            <a:chExt cx="2852640" cy="6053400"/>
          </a:xfrm>
        </p:grpSpPr>
        <p:pic>
          <p:nvPicPr>
            <p:cNvPr id="245" name="Rectangle 5" descr=""/>
            <p:cNvPicPr/>
            <p:nvPr/>
          </p:nvPicPr>
          <p:blipFill>
            <a:blip r:embed="rId3"/>
            <a:stretch/>
          </p:blipFill>
          <p:spPr>
            <a:xfrm>
              <a:off x="255600" y="407880"/>
              <a:ext cx="2852640" cy="60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04920" y="457200"/>
              <a:ext cx="243828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47" name="Straight Connector 6"/>
          <p:cNvSpPr/>
          <p:nvPr/>
        </p:nvSpPr>
        <p:spPr>
          <a:xfrm flipH="1">
            <a:off x="2895120" y="0"/>
            <a:ext cx="1800" cy="6326280"/>
          </a:xfrm>
          <a:prstGeom prst="line">
            <a:avLst/>
          </a:prstGeom>
          <a:ln cap="rnd"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6"/>
          </p:nvPr>
        </p:nvSpPr>
        <p:spPr>
          <a:xfrm>
            <a:off x="7924320" y="6324120"/>
            <a:ext cx="762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7E15-80B1-4CE7-970B-4C0D7C756AD1}" type="slidenum">
              <a:rPr b="0" lang="en-C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3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ICRP Logo and Title.gif"/>
          <p:cNvPicPr/>
          <p:nvPr/>
        </p:nvPicPr>
        <p:blipFill>
          <a:blip r:embed="rId4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ICRP Logo.gif"/>
          <p:cNvPicPr/>
          <p:nvPr/>
        </p:nvPicPr>
        <p:blipFill>
          <a:blip r:embed="rId5"/>
          <a:stretch/>
        </p:blipFill>
        <p:spPr>
          <a:xfrm>
            <a:off x="60480" y="73080"/>
            <a:ext cx="4298760" cy="2749320"/>
          </a:xfrm>
          <a:prstGeom prst="rect">
            <a:avLst/>
          </a:prstGeom>
          <a:ln w="0">
            <a:noFill/>
          </a:ln>
        </p:spPr>
      </p:pic>
      <p:sp>
        <p:nvSpPr>
          <p:cNvPr id="290" name="Straight Connector 7"/>
          <p:cNvSpPr/>
          <p:nvPr/>
        </p:nvSpPr>
        <p:spPr>
          <a:xfrm>
            <a:off x="0" y="3200400"/>
            <a:ext cx="8381880" cy="1440"/>
          </a:xfrm>
          <a:prstGeom prst="line">
            <a:avLst/>
          </a:prstGeom>
          <a:ln cap="rnd"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Picture 9" descr="ICRP Logo.gif"/>
          <p:cNvPicPr/>
          <p:nvPr/>
        </p:nvPicPr>
        <p:blipFill>
          <a:blip r:embed="rId6"/>
          <a:stretch/>
        </p:blipFill>
        <p:spPr>
          <a:xfrm>
            <a:off x="60480" y="73080"/>
            <a:ext cx="4298760" cy="2749320"/>
          </a:xfrm>
          <a:prstGeom prst="rect">
            <a:avLst/>
          </a:prstGeom>
          <a:ln w="0">
            <a:noFill/>
          </a:ln>
        </p:spPr>
      </p:pic>
      <p:sp>
        <p:nvSpPr>
          <p:cNvPr id="292" name="Straight Connector 10"/>
          <p:cNvSpPr/>
          <p:nvPr/>
        </p:nvSpPr>
        <p:spPr>
          <a:xfrm>
            <a:off x="0" y="3200400"/>
            <a:ext cx="8381880" cy="1440"/>
          </a:xfrm>
          <a:prstGeom prst="line">
            <a:avLst/>
          </a:prstGeom>
          <a:ln cap="rnd"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3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ICRP Logo and Title.gif"/>
          <p:cNvPicPr/>
          <p:nvPr/>
        </p:nvPicPr>
        <p:blipFill>
          <a:blip r:embed="rId4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7"/>
          </p:nvPr>
        </p:nvSpPr>
        <p:spPr>
          <a:xfrm>
            <a:off x="7924320" y="6324120"/>
            <a:ext cx="762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6D13-1B77-4D0D-BF15-47838853B2F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Title 1" descr=""/>
          <p:cNvPicPr/>
          <p:nvPr/>
        </p:nvPicPr>
        <p:blipFill>
          <a:blip r:embed="rId2"/>
          <a:stretch/>
        </p:blipFill>
        <p:spPr>
          <a:xfrm>
            <a:off x="-6480" y="1444680"/>
            <a:ext cx="8778960" cy="188892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Jacques Lochard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Chair of  ICRP Committee 4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irector of CEPN, Franc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440" y="4952880"/>
            <a:ext cx="80773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First NERIS Platform Workshop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reparedness for Nuclear and Radiological Emergency Response and Recovery: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Implementation of ICRP Recommendations “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ratislava, Slovak Republic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6 - 8 February 2012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3"/>
                </a:solidFill>
                <a:latin typeface="Arial"/>
                <a:ea typeface="Arial"/>
              </a:rPr>
              <a:t>Time factor – Emergency exposure situations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066320" y="15998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can be done for protective actions to be taken to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regain control of the source or the pathway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ective actions must be implemented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urgently and in a timely manne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maximize effectivenes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ure to react means loss of opportunities to reduce expos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87F1-E93B-49CE-847B-12B233140B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5"/>
                </a:solidFill>
                <a:latin typeface="Arial"/>
                <a:ea typeface="Arial"/>
              </a:rPr>
              <a:t>Time factor – Existing exposure situat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6854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lanning protectiv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c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can only be done on the basis of a 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  <a:ea typeface="Arial"/>
              </a:rPr>
              <a:t>good knowledge of the actual conditions of exposure to control the pathways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tective actions should not need to be urgent and can be implemented at any 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tective actions are effective immediately when implemen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aching the desired level of protection may take time (e.g. radon and contaminated areas after a nuclear accident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FBB5-AC97-4115-8E1C-1341689FA9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45"/>
                </a:solidFill>
                <a:latin typeface="Arial"/>
                <a:ea typeface="Arial"/>
              </a:rPr>
              <a:t>Transitions between exposure situat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27" name="Object 2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808760" cy="4572000"/>
          </a:xfrm>
          <a:prstGeom prst="rect">
            <a:avLst/>
          </a:prstGeom>
          <a:ln w="0">
            <a:noFill/>
          </a:ln>
        </p:spPr>
      </p:pic>
      <p:sp>
        <p:nvSpPr>
          <p:cNvPr id="728" name="ZoneTexte 4"/>
          <p:cNvSpPr/>
          <p:nvPr/>
        </p:nvSpPr>
        <p:spPr>
          <a:xfrm>
            <a:off x="990720" y="2438280"/>
            <a:ext cx="2438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oss of control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of the sour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ZoneTexte 5"/>
          <p:cNvSpPr/>
          <p:nvPr/>
        </p:nvSpPr>
        <p:spPr>
          <a:xfrm>
            <a:off x="6019920" y="2362320"/>
            <a:ext cx="1904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Herit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of the sour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ZoneTexte 6"/>
          <p:cNvSpPr/>
          <p:nvPr/>
        </p:nvSpPr>
        <p:spPr>
          <a:xfrm>
            <a:off x="3886200" y="449568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Decis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Oval 7"/>
          <p:cNvSpPr/>
          <p:nvPr/>
        </p:nvSpPr>
        <p:spPr>
          <a:xfrm>
            <a:off x="3352680" y="4267080"/>
            <a:ext cx="2133720" cy="1752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C797-C131-4308-9911-7E90171B47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45"/>
                </a:solidFill>
                <a:latin typeface="Arial"/>
                <a:ea typeface="Arial"/>
              </a:rPr>
              <a:t>The optimisation principle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Connecteur droit 42"/>
          <p:cNvSpPr/>
          <p:nvPr/>
        </p:nvSpPr>
        <p:spPr>
          <a:xfrm flipV="1">
            <a:off x="1600200" y="3733920"/>
            <a:ext cx="1440" cy="1440"/>
          </a:xfrm>
          <a:prstGeom prst="line">
            <a:avLst/>
          </a:prstGeom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Rectangle 5"/>
          <p:cNvSpPr/>
          <p:nvPr/>
        </p:nvSpPr>
        <p:spPr>
          <a:xfrm>
            <a:off x="2133720" y="1447920"/>
            <a:ext cx="49528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ZoneTexte 21"/>
          <p:cNvSpPr/>
          <p:nvPr/>
        </p:nvSpPr>
        <p:spPr>
          <a:xfrm>
            <a:off x="4648320" y="1219320"/>
            <a:ext cx="3886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36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37" name="Grouper 20"/>
          <p:cNvGrpSpPr/>
          <p:nvPr/>
        </p:nvGrpSpPr>
        <p:grpSpPr>
          <a:xfrm>
            <a:off x="2743200" y="1600200"/>
            <a:ext cx="3733920" cy="4421160"/>
            <a:chOff x="2743200" y="1600200"/>
            <a:chExt cx="3733920" cy="4421160"/>
          </a:xfrm>
        </p:grpSpPr>
        <p:grpSp>
          <p:nvGrpSpPr>
            <p:cNvPr id="738" name="Flèche vers le haut 25"/>
            <p:cNvGrpSpPr/>
            <p:nvPr/>
          </p:nvGrpSpPr>
          <p:grpSpPr>
            <a:xfrm>
              <a:off x="3200400" y="4838040"/>
              <a:ext cx="1066680" cy="1183320"/>
              <a:chOff x="3200400" y="4838040"/>
              <a:chExt cx="1066680" cy="1183320"/>
            </a:xfrm>
          </p:grpSpPr>
          <p:pic>
            <p:nvPicPr>
              <p:cNvPr id="739" name="Flèche vers le haut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400" y="4838040"/>
                <a:ext cx="1066680" cy="118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0" name=""/>
              <p:cNvSpPr/>
              <p:nvPr/>
            </p:nvSpPr>
            <p:spPr>
              <a:xfrm>
                <a:off x="3504960" y="5093640"/>
                <a:ext cx="45720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sp>
          <p:nvSpPr>
            <p:cNvPr id="741" name="ZoneTexte 9"/>
            <p:cNvSpPr/>
            <p:nvPr/>
          </p:nvSpPr>
          <p:spPr>
            <a:xfrm>
              <a:off x="2743200" y="1600200"/>
              <a:ext cx="3733920" cy="8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lanned exposure situations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7f7f7f"/>
                  </a:solidFill>
                  <a:latin typeface="Arial"/>
                </a:rPr>
                <a:t>(Identical to “practices”)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2" name="ZoneTexte 10"/>
            <p:cNvSpPr/>
            <p:nvPr/>
          </p:nvSpPr>
          <p:spPr>
            <a:xfrm>
              <a:off x="3809880" y="3309840"/>
              <a:ext cx="19814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00"/>
                  </a:solidFill>
                  <a:latin typeface="Arial"/>
                </a:rPr>
                <a:t>Dose constraint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3" name="ZoneTexte 11"/>
            <p:cNvSpPr/>
            <p:nvPr/>
          </p:nvSpPr>
          <p:spPr>
            <a:xfrm>
              <a:off x="3733920" y="2640600"/>
              <a:ext cx="91440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00"/>
                  </a:solidFill>
                  <a:latin typeface="Arial"/>
                </a:rPr>
                <a:t>Limit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4" name="Connecteur droit 13"/>
            <p:cNvSpPr/>
            <p:nvPr/>
          </p:nvSpPr>
          <p:spPr>
            <a:xfrm>
              <a:off x="3124080" y="3012480"/>
              <a:ext cx="1905120" cy="144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5" name="Connecteur droit 14"/>
            <p:cNvSpPr/>
            <p:nvPr/>
          </p:nvSpPr>
          <p:spPr>
            <a:xfrm>
              <a:off x="3047760" y="3681360"/>
              <a:ext cx="1905120" cy="1440"/>
            </a:xfrm>
            <a:prstGeom prst="line">
              <a:avLst/>
            </a:prstGeom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6" name="ZoneTexte 15"/>
            <p:cNvSpPr/>
            <p:nvPr/>
          </p:nvSpPr>
          <p:spPr>
            <a:xfrm>
              <a:off x="4191120" y="4053240"/>
              <a:ext cx="198144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686d"/>
                  </a:solidFill>
                  <a:latin typeface="Arial"/>
                </a:rPr>
                <a:t>Optimisation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7" name="Connecteur droit 22"/>
            <p:cNvSpPr/>
            <p:nvPr/>
          </p:nvSpPr>
          <p:spPr>
            <a:xfrm flipH="1">
              <a:off x="2895480" y="2789280"/>
              <a:ext cx="1440" cy="3121920"/>
            </a:xfrm>
            <a:prstGeom prst="line">
              <a:avLst/>
            </a:prstGeom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8" name="Connecteur droit 24"/>
            <p:cNvSpPr/>
            <p:nvPr/>
          </p:nvSpPr>
          <p:spPr>
            <a:xfrm>
              <a:off x="2895480" y="5911560"/>
              <a:ext cx="3429360" cy="1440"/>
            </a:xfrm>
            <a:prstGeom prst="line">
              <a:avLst/>
            </a:prstGeom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9" name="Connecteur droit 47"/>
            <p:cNvSpPr/>
            <p:nvPr/>
          </p:nvSpPr>
          <p:spPr>
            <a:xfrm>
              <a:off x="3429000" y="4870800"/>
              <a:ext cx="609480" cy="1440"/>
            </a:xfrm>
            <a:prstGeom prst="line">
              <a:avLst/>
            </a:prstGeom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0" name="ZoneTexte 30"/>
            <p:cNvSpPr/>
            <p:nvPr/>
          </p:nvSpPr>
          <p:spPr>
            <a:xfrm>
              <a:off x="3504960" y="5094000"/>
              <a:ext cx="457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53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1" name="ZoneTexte 32"/>
            <p:cNvSpPr/>
            <p:nvPr/>
          </p:nvSpPr>
          <p:spPr>
            <a:xfrm>
              <a:off x="4191120" y="5391000"/>
              <a:ext cx="2133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53"/>
                  </a:solidFill>
                  <a:latin typeface="Arial"/>
                </a:rPr>
                <a:t>1. Added dose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752" name="Connecteur droit avec flèche 37"/>
            <p:cNvCxnSpPr/>
            <p:nvPr/>
          </p:nvCxnSpPr>
          <p:spPr>
            <a:xfrm flipH="1">
              <a:off x="3731760" y="3682800"/>
              <a:ext cx="3600" cy="1189800"/>
            </a:xfrm>
            <a:prstGeom prst="straightConnector1">
              <a:avLst/>
            </a:prstGeom>
            <a:ln w="25560">
              <a:solidFill>
                <a:srgbClr val="0f6fc6"/>
              </a:solidFill>
              <a:miter/>
              <a:tailEnd len="med" type="arrow" w="med"/>
            </a:ln>
          </p:spPr>
        </p:cxnSp>
      </p:grpSp>
      <p:sp>
        <p:nvSpPr>
          <p:cNvPr id="753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527B-DAE0-4154-8609-DC7EA91FA8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47"/>
          <p:cNvSpPr/>
          <p:nvPr/>
        </p:nvSpPr>
        <p:spPr>
          <a:xfrm>
            <a:off x="533520" y="1219320"/>
            <a:ext cx="807696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55" name="Grouper 14"/>
          <p:cNvGrpSpPr/>
          <p:nvPr/>
        </p:nvGrpSpPr>
        <p:grpSpPr>
          <a:xfrm>
            <a:off x="4876920" y="2514600"/>
            <a:ext cx="3429000" cy="3201840"/>
            <a:chOff x="4876920" y="2514600"/>
            <a:chExt cx="3429000" cy="3201840"/>
          </a:xfrm>
        </p:grpSpPr>
        <p:grpSp>
          <p:nvGrpSpPr>
            <p:cNvPr id="756" name="Flèche vers le haut 4"/>
            <p:cNvGrpSpPr/>
            <p:nvPr/>
          </p:nvGrpSpPr>
          <p:grpSpPr>
            <a:xfrm>
              <a:off x="5181480" y="4544280"/>
              <a:ext cx="1066680" cy="1172160"/>
              <a:chOff x="5181480" y="4544280"/>
              <a:chExt cx="1066680" cy="1172160"/>
            </a:xfrm>
          </p:grpSpPr>
          <p:pic>
            <p:nvPicPr>
              <p:cNvPr id="757" name="Flèche vers le haut 4" descr=""/>
              <p:cNvPicPr/>
              <p:nvPr/>
            </p:nvPicPr>
            <p:blipFill>
              <a:blip r:embed="rId1"/>
              <a:stretch/>
            </p:blipFill>
            <p:spPr>
              <a:xfrm>
                <a:off x="5181480" y="4544280"/>
                <a:ext cx="1066680" cy="117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8" name=""/>
              <p:cNvSpPr/>
              <p:nvPr/>
            </p:nvSpPr>
            <p:spPr>
              <a:xfrm>
                <a:off x="5486040" y="4797360"/>
                <a:ext cx="457200" cy="81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sp>
          <p:nvSpPr>
            <p:cNvPr id="759" name="ZoneTexte 10"/>
            <p:cNvSpPr/>
            <p:nvPr/>
          </p:nvSpPr>
          <p:spPr>
            <a:xfrm>
              <a:off x="5791320" y="3030120"/>
              <a:ext cx="19810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00"/>
                  </a:solidFill>
                  <a:latin typeface="Arial"/>
                </a:rPr>
                <a:t>Reference level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0" name="Connecteur droit 6"/>
            <p:cNvSpPr/>
            <p:nvPr/>
          </p:nvSpPr>
          <p:spPr>
            <a:xfrm>
              <a:off x="5105520" y="3471840"/>
              <a:ext cx="1905120" cy="144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1" name="ZoneTexte 15"/>
            <p:cNvSpPr/>
            <p:nvPr/>
          </p:nvSpPr>
          <p:spPr>
            <a:xfrm>
              <a:off x="5715000" y="3840120"/>
              <a:ext cx="198108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686d"/>
                  </a:solidFill>
                  <a:latin typeface="Arial"/>
                </a:rPr>
                <a:t>Optimisation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2" name="Connecteur droit 8"/>
            <p:cNvSpPr/>
            <p:nvPr/>
          </p:nvSpPr>
          <p:spPr>
            <a:xfrm flipH="1">
              <a:off x="4876920" y="2514600"/>
              <a:ext cx="1440" cy="3093120"/>
            </a:xfrm>
            <a:prstGeom prst="line">
              <a:avLst/>
            </a:prstGeom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3" name="Connecteur droit 9"/>
            <p:cNvSpPr/>
            <p:nvPr/>
          </p:nvSpPr>
          <p:spPr>
            <a:xfrm>
              <a:off x="4876920" y="5607720"/>
              <a:ext cx="3429000" cy="1440"/>
            </a:xfrm>
            <a:prstGeom prst="line">
              <a:avLst/>
            </a:prstGeom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4" name="Connecteur droit 10"/>
            <p:cNvSpPr/>
            <p:nvPr/>
          </p:nvSpPr>
          <p:spPr>
            <a:xfrm>
              <a:off x="5410080" y="4576680"/>
              <a:ext cx="609480" cy="1440"/>
            </a:xfrm>
            <a:prstGeom prst="line">
              <a:avLst/>
            </a:prstGeom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5" name="ZoneTexte 30"/>
            <p:cNvSpPr/>
            <p:nvPr/>
          </p:nvSpPr>
          <p:spPr>
            <a:xfrm>
              <a:off x="5486400" y="47973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53"/>
                  </a:solidFill>
                  <a:latin typeface="Constanti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6" name="ZoneTexte 32"/>
            <p:cNvSpPr/>
            <p:nvPr/>
          </p:nvSpPr>
          <p:spPr>
            <a:xfrm>
              <a:off x="6172200" y="5092200"/>
              <a:ext cx="2133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53"/>
                  </a:solidFill>
                  <a:latin typeface="Arial"/>
                </a:rPr>
                <a:t>C. Added dose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767" name="Connecteur droit avec flèche 13"/>
            <p:cNvCxnSpPr/>
            <p:nvPr/>
          </p:nvCxnSpPr>
          <p:spPr>
            <a:xfrm flipH="1">
              <a:off x="5713200" y="3471840"/>
              <a:ext cx="2160" cy="1106640"/>
            </a:xfrm>
            <a:prstGeom prst="straightConnector1">
              <a:avLst/>
            </a:prstGeom>
            <a:ln w="25560">
              <a:solidFill>
                <a:srgbClr val="0f6fc6"/>
              </a:solidFill>
              <a:miter/>
              <a:tailEnd len="med" type="arrow" w="med"/>
            </a:ln>
          </p:spPr>
        </p:cxnSp>
      </p:grpSp>
      <p:grpSp>
        <p:nvGrpSpPr>
          <p:cNvPr id="768" name="Grouper 29"/>
          <p:cNvGrpSpPr/>
          <p:nvPr/>
        </p:nvGrpSpPr>
        <p:grpSpPr>
          <a:xfrm>
            <a:off x="838080" y="2514600"/>
            <a:ext cx="3659400" cy="3201840"/>
            <a:chOff x="838080" y="2514600"/>
            <a:chExt cx="3659400" cy="3201840"/>
          </a:xfrm>
        </p:grpSpPr>
        <p:sp>
          <p:nvSpPr>
            <p:cNvPr id="769" name="Connecteur droit 30"/>
            <p:cNvSpPr/>
            <p:nvPr/>
          </p:nvSpPr>
          <p:spPr>
            <a:xfrm flipH="1">
              <a:off x="838080" y="2516040"/>
              <a:ext cx="2880" cy="3093120"/>
            </a:xfrm>
            <a:prstGeom prst="line">
              <a:avLst/>
            </a:prstGeom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0" name="Connecteur droit 31"/>
            <p:cNvSpPr/>
            <p:nvPr/>
          </p:nvSpPr>
          <p:spPr>
            <a:xfrm>
              <a:off x="839520" y="5607720"/>
              <a:ext cx="3353040" cy="1440"/>
            </a:xfrm>
            <a:prstGeom prst="line">
              <a:avLst/>
            </a:prstGeom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771" name="Flèche vers le haut 32"/>
            <p:cNvGrpSpPr/>
            <p:nvPr/>
          </p:nvGrpSpPr>
          <p:grpSpPr>
            <a:xfrm>
              <a:off x="1218960" y="4320360"/>
              <a:ext cx="1072800" cy="1396080"/>
              <a:chOff x="1218960" y="4320360"/>
              <a:chExt cx="1072800" cy="1396080"/>
            </a:xfrm>
          </p:grpSpPr>
          <p:pic>
            <p:nvPicPr>
              <p:cNvPr id="772" name="Flèche vers le haut 32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8960" y="4320360"/>
                <a:ext cx="1072800" cy="13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3" name=""/>
              <p:cNvSpPr/>
              <p:nvPr/>
            </p:nvSpPr>
            <p:spPr>
              <a:xfrm>
                <a:off x="1525320" y="4576320"/>
                <a:ext cx="457200" cy="103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sp>
          <p:nvSpPr>
            <p:cNvPr id="774" name="Connecteur droit 33"/>
            <p:cNvSpPr/>
            <p:nvPr/>
          </p:nvSpPr>
          <p:spPr>
            <a:xfrm>
              <a:off x="1449360" y="4355640"/>
              <a:ext cx="609480" cy="1440"/>
            </a:xfrm>
            <a:prstGeom prst="line">
              <a:avLst/>
            </a:prstGeom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5" name="ZoneTexte 31"/>
            <p:cNvSpPr/>
            <p:nvPr/>
          </p:nvSpPr>
          <p:spPr>
            <a:xfrm>
              <a:off x="1601640" y="4576680"/>
              <a:ext cx="30456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53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6" name="ZoneTexte 33"/>
            <p:cNvSpPr/>
            <p:nvPr/>
          </p:nvSpPr>
          <p:spPr>
            <a:xfrm>
              <a:off x="2516040" y="4723920"/>
              <a:ext cx="1981440" cy="7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53"/>
                  </a:solidFill>
                  <a:latin typeface="Arial"/>
                </a:rPr>
                <a:t>A. Averted dose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53"/>
                  </a:solidFill>
                  <a:latin typeface="Arial"/>
                </a:rPr>
                <a:t>B. Residual dose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7" name="ZoneTexte 17"/>
            <p:cNvSpPr/>
            <p:nvPr/>
          </p:nvSpPr>
          <p:spPr>
            <a:xfrm>
              <a:off x="2211480" y="3030120"/>
              <a:ext cx="221004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00"/>
                  </a:solidFill>
                  <a:latin typeface="Arial"/>
                </a:rPr>
                <a:t>Reference level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8" name="ZoneTexte 18"/>
            <p:cNvSpPr/>
            <p:nvPr/>
          </p:nvSpPr>
          <p:spPr>
            <a:xfrm>
              <a:off x="2287440" y="3619080"/>
              <a:ext cx="1905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686d"/>
                  </a:solidFill>
                  <a:latin typeface="Arial"/>
                </a:rPr>
                <a:t>Optimisation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779" name="Flèche vers le bas 38"/>
            <p:cNvGrpSpPr/>
            <p:nvPr/>
          </p:nvGrpSpPr>
          <p:grpSpPr>
            <a:xfrm>
              <a:off x="1218960" y="2552760"/>
              <a:ext cx="1072800" cy="1908720"/>
              <a:chOff x="1218960" y="2552760"/>
              <a:chExt cx="1072800" cy="1908720"/>
            </a:xfrm>
          </p:grpSpPr>
          <p:pic>
            <p:nvPicPr>
              <p:cNvPr id="780" name="Flèche vers le bas 38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8960" y="2552760"/>
                <a:ext cx="1072800" cy="19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1" name=""/>
              <p:cNvSpPr/>
              <p:nvPr/>
            </p:nvSpPr>
            <p:spPr>
              <a:xfrm>
                <a:off x="1551600" y="2588040"/>
                <a:ext cx="40428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sp>
          <p:nvSpPr>
            <p:cNvPr id="782" name="Connecteur droit 39"/>
            <p:cNvSpPr/>
            <p:nvPr/>
          </p:nvSpPr>
          <p:spPr>
            <a:xfrm>
              <a:off x="1144440" y="3398040"/>
              <a:ext cx="1905120" cy="144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3" name="ZoneTexte 18"/>
            <p:cNvSpPr/>
            <p:nvPr/>
          </p:nvSpPr>
          <p:spPr>
            <a:xfrm>
              <a:off x="2287440" y="2514600"/>
              <a:ext cx="1905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686d"/>
                  </a:solidFill>
                  <a:latin typeface="Arial"/>
                </a:rPr>
                <a:t>Optimisation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4" name="ZoneTexte 29"/>
            <p:cNvSpPr/>
            <p:nvPr/>
          </p:nvSpPr>
          <p:spPr>
            <a:xfrm>
              <a:off x="1525320" y="35438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53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45"/>
                </a:solidFill>
                <a:latin typeface="Arial"/>
                <a:ea typeface="Arial"/>
              </a:rPr>
              <a:t>The optimisation principl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6" name="ZoneTexte 44"/>
          <p:cNvSpPr/>
          <p:nvPr/>
        </p:nvSpPr>
        <p:spPr>
          <a:xfrm>
            <a:off x="1905120" y="190512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tig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ZoneTexte 45"/>
          <p:cNvSpPr/>
          <p:nvPr/>
        </p:nvSpPr>
        <p:spPr>
          <a:xfrm>
            <a:off x="5715000" y="182880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ven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ZoneTexte 21"/>
          <p:cNvSpPr/>
          <p:nvPr/>
        </p:nvSpPr>
        <p:spPr>
          <a:xfrm>
            <a:off x="1600200" y="1295280"/>
            <a:ext cx="6019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ergency and existing exposure situa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F53D-06E9-4D08-8D26-6CD145439F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5"/>
                </a:solidFill>
                <a:latin typeface="Arial"/>
                <a:ea typeface="Arial"/>
              </a:rPr>
              <a:t>Protection strategy and protective actions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56840" y="12189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90000"/>
                </a:solidFill>
                <a:latin typeface="Arial"/>
                <a:ea typeface="Arial"/>
              </a:rPr>
              <a:t>All exposure pathways and all relevant protective actions </a:t>
            </a:r>
            <a:r>
              <a:rPr b="0" lang="en-GB" sz="2400" spc="-1" strike="noStrike">
                <a:solidFill>
                  <a:srgbClr val="000053"/>
                </a:solidFill>
                <a:latin typeface="Arial"/>
                <a:ea typeface="Arial"/>
              </a:rPr>
              <a:t>have to be considered when deciding on the optimum course of action to be taken</a:t>
            </a:r>
            <a:r>
              <a:rPr b="0" lang="de-DE" sz="2400" spc="-1" strike="noStrike">
                <a:solidFill>
                  <a:srgbClr val="000053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Protection strateg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a set of relevant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protective a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ective actions are implemente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Centrally and locally by authorities, experts, and profession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s self-help actions by the affected people themselves with the support of authorities and professional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2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BB0D-67E0-41D7-9E3D-1C78C2C9EA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5"/>
                </a:solidFill>
                <a:latin typeface="Arial"/>
                <a:ea typeface="Arial"/>
              </a:rPr>
              <a:t>Rationale for setting dose constraints and</a:t>
            </a:r>
            <a:br>
              <a:rPr sz="2800"/>
            </a:br>
            <a:r>
              <a:rPr b="1" lang="en-US" sz="2800" spc="-1" strike="noStrike">
                <a:solidFill>
                  <a:srgbClr val="000045"/>
                </a:solidFill>
                <a:latin typeface="Arial"/>
                <a:ea typeface="Arial"/>
              </a:rPr>
              <a:t> reference level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objective is to keep exposure below 100 mSv (ICRP 103, § 236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« At doses higher than 100 mSv, there is an increased likelihood of deterministic effects and a significant risk of cancer. For these reasons, the Commission considers that the maximum value for a reference level is 100 mSv incurred either acutely or in a year. Exposures above 100 mSv incurred either acutely or in a year would be justified only under extreme circumstances, either because the exposure is unavoidable or in exceptional situations such as the saving of life or the prevention of a serious disaster. No other individual or societal benefit would compensate for such high exposures 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D34F-031A-475B-B637-C79AA09245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5"/>
                </a:solidFill>
                <a:latin typeface="Arial"/>
                <a:ea typeface="Arial"/>
              </a:rPr>
              <a:t>Rationale for setting dose constraints and</a:t>
            </a:r>
            <a:br>
              <a:rPr sz="2800"/>
            </a:br>
            <a:r>
              <a:rPr b="1" lang="en-US" sz="2800" spc="-1" strike="noStrike">
                <a:solidFill>
                  <a:srgbClr val="000045"/>
                </a:solidFill>
                <a:latin typeface="Arial"/>
                <a:ea typeface="Arial"/>
              </a:rPr>
              <a:t> reference level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ccording to the characteristics of the exposure situation, including the degree of controllability of the radiation sources, the Commission is recommending a dose scale (corresponding de facto to a risk scale) with three bands:  0 to 1 mSv/year, 1 to 20 mSv/year and 20 to 100 mSv/year, in order to select dose constraints and reference level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  <a:ea typeface="Arial"/>
              </a:rPr>
              <a:t>For the protection of the public in case of a nuclear accident the Commission is recommending to select reference levels 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spcAft>
                <a:spcPts val="11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  <a:ea typeface="Arial"/>
              </a:rPr>
              <a:t>In the 20–100 mSv/year band for emergency exposure situations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spcAft>
                <a:spcPts val="11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  <a:ea typeface="Arial"/>
              </a:rPr>
              <a:t>In the lower part of the 1–20 mSv/year for existing exposure situations, with the objective of reducing exposure below 1 mSv/year  in the long term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  <a:ea typeface="Arial"/>
              </a:rPr>
              <a:t>Values of reference levels and timeframe will vary from place to place depending on the local circumstanc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428F-D961-4F34-BD22-985CC7E73D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5"/>
                </a:solidFill>
                <a:latin typeface="Arial"/>
                <a:ea typeface="Arial"/>
              </a:rPr>
              <a:t>Decisions  </a:t>
            </a:r>
            <a:br>
              <a:rPr sz="2800"/>
            </a:br>
            <a:r>
              <a:rPr b="1" lang="en-US" sz="2800" spc="-1" strike="noStrike">
                <a:solidFill>
                  <a:srgbClr val="000045"/>
                </a:solidFill>
                <a:latin typeface="Arial"/>
                <a:ea typeface="Arial"/>
              </a:rPr>
              <a:t>in emergency exposure situat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ergency exposure situations correlate to the early and intermediate phases of emergency plann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24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Urgent ac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lude sheltering, evacuation, but also temporary relocation and food ban as mechanisms designed to “quickly” avoid or reduce exposu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24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ontamination is also an urgent action to be implemented wherever it is feasible and effectiv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24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Key decision is whether people must leave, or can sta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1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7199-8934-41EF-B961-F017CB1057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29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ommission does not recommend any particular radiation protectio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riter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29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decision must be taken by the authorities on a case by case basis taking into account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evailing circumstanc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.e. 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29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 residual level of exposure in the affected plac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29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 conditions and means to maintain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  <a:ea typeface="Arial"/>
              </a:rPr>
              <a:t>sustainable societal and economic living condi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the affected population in these pla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45"/>
                </a:solidFill>
                <a:latin typeface="Arial"/>
                <a:ea typeface="Arial"/>
              </a:rPr>
              <a:t>Permanent relocation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6A0E-DA0D-433D-8904-C2573A7CA3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3A27-6780-4669-969E-014F040188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53"/>
                </a:solidFill>
                <a:latin typeface="Arial"/>
                <a:ea typeface="Arial"/>
              </a:rPr>
              <a:t>Content</a:t>
            </a:r>
            <a:br>
              <a:rPr sz="3200"/>
            </a:br>
            <a:br>
              <a:rPr sz="20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72880" indent="-27288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From ICRP 60 to ICRP 10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546120" indent="-27324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Exposure situa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546120" indent="-27324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Optimization of protec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546120" indent="-27324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Dose constraints and reference leve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Management of emergency exposure situa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Transition from an emergency to an existing exposure situ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Management of existing exposure situa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Chernobyl experien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  <a:ea typeface="Arial"/>
              </a:rPr>
              <a:t>good characterizat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f the radiological situation of the environment, foodstuffs, goods and peop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ions have reduced exposure levels to levels where habitation can be allowed living on an ongoing basi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40120" indent="-2401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viduals have returned from evacuation and temporary relocation or they are in an area that was never lef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 organization of public authorities (national and local) adapted to the situ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setting up of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  <a:ea typeface="Arial"/>
              </a:rPr>
              <a:t>the conditions and means for the involvement of local authorities and professionals and the local populat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decisions and actions for the rehabilitation of living conditions in the affected are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0">
              <a:lnSpc>
                <a:spcPct val="100000"/>
              </a:lnSpc>
              <a:spcBef>
                <a:spcPts val="300"/>
              </a:spcBef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0" algn="ctr">
              <a:lnSpc>
                <a:spcPct val="100000"/>
              </a:lnSpc>
              <a:spcBef>
                <a:spcPts val="4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6" name="Rectangle 2" descr=""/>
          <p:cNvPicPr/>
          <p:nvPr/>
        </p:nvPicPr>
        <p:blipFill>
          <a:blip r:embed="rId1"/>
          <a:stretch/>
        </p:blipFill>
        <p:spPr>
          <a:xfrm>
            <a:off x="-6480" y="530280"/>
            <a:ext cx="9156960" cy="1000080"/>
          </a:xfrm>
          <a:prstGeom prst="rect">
            <a:avLst/>
          </a:prstGeom>
          <a:ln w="0">
            <a:noFill/>
          </a:ln>
        </p:spPr>
      </p:pic>
      <p:sp>
        <p:nvSpPr>
          <p:cNvPr id="807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4B20-7073-4733-AA84-1C219B1675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5"/>
                </a:solidFill>
                <a:latin typeface="Arial"/>
                <a:ea typeface="Arial"/>
              </a:rPr>
              <a:t>Return from evacuation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The Commission does not recommend any particular radiation protection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criterion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  <a:ea typeface="Arial"/>
              </a:rPr>
              <a:t>Decision to allow return rests with authorit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  <a:ea typeface="Arial"/>
              </a:rPr>
              <a:t>Consistent with reference levels for existing exposure situatio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  <a:ea typeface="Arial"/>
              </a:rPr>
              <a:t>Ability to provide: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24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  <a:ea typeface="Arial"/>
              </a:rPr>
              <a:t>Protection against potential health consequenc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24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  <a:ea typeface="Arial"/>
              </a:rPr>
              <a:t>Sustainable living conditions including respectable lifestyles and livelihood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  <a:ea typeface="Arial"/>
              </a:rPr>
              <a:t>Individual choice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0F07-E085-47CB-BC7A-BA09A8D439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3"/>
          <p:cNvSpPr/>
          <p:nvPr/>
        </p:nvSpPr>
        <p:spPr>
          <a:xfrm>
            <a:off x="3049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914400" indent="-45720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ving in a contaminated environment is a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  <a:ea typeface="Arial"/>
              </a:rPr>
              <a:t>complex situation generating a lot of concerns</a:t>
            </a:r>
            <a:r>
              <a:rPr b="1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mong the affected popul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the long term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  <a:ea typeface="Arial"/>
              </a:rPr>
              <a:t>inges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is by far the dominant pathwa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posures are driven by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  <a:ea typeface="Arial"/>
              </a:rPr>
              <a:t>individual behaviours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the socio-economic situ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be effective protection strategies should include actions implemented by authorities at the national and local levels and by the affected population itself =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  <a:ea typeface="Arial"/>
              </a:rPr>
              <a:t>self help protection ac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the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  <a:ea typeface="Arial"/>
              </a:rPr>
              <a:t>responsibility of authoriti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establish programmes for continuous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  <a:ea typeface="Arial"/>
              </a:rPr>
              <a:t>radiation monitoring, health surveillance, information and education of the popul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Rectangle 2"/>
          <p:cNvSpPr/>
          <p:nvPr/>
        </p:nvSpPr>
        <p:spPr>
          <a:xfrm>
            <a:off x="0" y="3808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GB" sz="2800" spc="-1" strike="noStrike">
                <a:solidFill>
                  <a:srgbClr val="000053"/>
                </a:solidFill>
                <a:latin typeface="Arial"/>
              </a:rPr>
              <a:t>Living in contaminated area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B62D-D789-459B-AA0E-A2353EB1521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5"/>
                </a:solidFill>
                <a:latin typeface="Arial"/>
                <a:ea typeface="Arial"/>
              </a:rPr>
              <a:t>Self-help protection act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8088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53"/>
                </a:solidFill>
                <a:latin typeface="Arial"/>
              </a:rPr>
              <a:t>Self help protection action </a:t>
            </a:r>
            <a:r>
              <a:rPr b="0" lang="en-CA" sz="2000" spc="-1" strike="noStrike">
                <a:solidFill>
                  <a:srgbClr val="000053"/>
                </a:solidFill>
                <a:latin typeface="Arial"/>
              </a:rPr>
              <a:t>can only be implemented if people understand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Where, when and how </a:t>
            </a:r>
            <a:r>
              <a:rPr b="0" lang="en-CA" sz="2000" spc="-1" strike="noStrike">
                <a:solidFill>
                  <a:srgbClr val="000053"/>
                </a:solidFill>
                <a:latin typeface="Arial"/>
              </a:rPr>
              <a:t>they are exposed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What can be done practically </a:t>
            </a:r>
            <a:r>
              <a:rPr b="0" lang="en-CA" sz="2000" spc="-1" strike="noStrike">
                <a:solidFill>
                  <a:srgbClr val="000058"/>
                </a:solidFill>
                <a:latin typeface="Arial"/>
                <a:ea typeface="Arial"/>
              </a:rPr>
              <a:t>to reduce their exposure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800000"/>
                </a:solidFill>
                <a:latin typeface="Arial"/>
                <a:ea typeface="Arial"/>
              </a:rPr>
              <a:t>      </a:t>
            </a:r>
            <a:r>
              <a:rPr b="1" lang="en-CA" sz="2000" spc="-1" strike="noStrike">
                <a:solidFill>
                  <a:srgbClr val="800000"/>
                </a:solidFill>
                <a:latin typeface="Arial"/>
                <a:ea typeface="Arial"/>
              </a:rPr>
              <a:t>- Basis of the radiation protection culture 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53"/>
                </a:solidFill>
                <a:latin typeface="Arial"/>
              </a:rPr>
              <a:t>Authorities</a:t>
            </a:r>
            <a:r>
              <a:rPr b="0" lang="en-CA" sz="2000" spc="-1" strike="noStrike">
                <a:solidFill>
                  <a:srgbClr val="000053"/>
                </a:solidFill>
                <a:latin typeface="Arial"/>
              </a:rPr>
              <a:t> should provid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 </a:t>
            </a: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Conditions and means for local monitor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 </a:t>
            </a: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General information on the exposure situ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 </a:t>
            </a: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Information on ways to reduce dos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Local forums involving the population, professionals and exper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53"/>
                </a:solidFill>
                <a:latin typeface="Arial"/>
              </a:rPr>
              <a:t>Local monitoring </a:t>
            </a:r>
            <a:r>
              <a:rPr b="0" lang="en-CA" sz="2000" spc="-1" strike="noStrike">
                <a:solidFill>
                  <a:srgbClr val="000053"/>
                </a:solidFill>
                <a:latin typeface="Arial"/>
              </a:rPr>
              <a:t>should be focused o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 </a:t>
            </a: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Ambient dose rates in living are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 </a:t>
            </a: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Concentrations of radionuclides in local foodstuff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 </a:t>
            </a: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Internal exposure of peop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B371-9A56-4B1C-BB02-0BAE07BA9F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5"/>
                </a:solidFill>
                <a:latin typeface="Arial"/>
                <a:ea typeface="Arial"/>
              </a:rPr>
              <a:t>Health surveillanc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800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</a:rPr>
              <a:t>Authorities should establish a health surveillance program ensuring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1800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</a:rPr>
              <a:t>The</a:t>
            </a:r>
            <a:r>
              <a:rPr b="1" lang="en-GB" sz="2000" spc="-1" strike="noStrike">
                <a:solidFill>
                  <a:srgbClr val="00005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follow up of individuals </a:t>
            </a:r>
            <a:r>
              <a:rPr b="0" lang="en-GB" sz="2000" spc="-1" strike="noStrike">
                <a:solidFill>
                  <a:srgbClr val="000053"/>
                </a:solidFill>
                <a:latin typeface="Arial"/>
              </a:rPr>
              <a:t>having received significant exposures during the emergency pha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1800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5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general medical monitoring </a:t>
            </a:r>
            <a:r>
              <a:rPr b="0" lang="en-GB" sz="2000" spc="-1" strike="noStrike">
                <a:solidFill>
                  <a:srgbClr val="000053"/>
                </a:solidFill>
                <a:latin typeface="Arial"/>
              </a:rPr>
              <a:t>of the popul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1800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</a:rPr>
              <a:t>The maintenance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of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health registries </a:t>
            </a:r>
            <a:r>
              <a:rPr b="0" lang="en-GB" sz="2000" spc="-1" strike="noStrike">
                <a:solidFill>
                  <a:srgbClr val="000053"/>
                </a:solidFill>
                <a:latin typeface="Arial"/>
              </a:rPr>
              <a:t>for potential epidemiological stud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800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horities should be prepared to modify protection strateg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3209-9274-40C4-95D9-28AAB1F797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877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53"/>
                </a:solidFill>
                <a:latin typeface="Arial"/>
              </a:rPr>
              <a:t>Management of contaminated foodstuffs </a:t>
            </a:r>
            <a:br>
              <a:rPr sz="2800"/>
            </a:br>
            <a:r>
              <a:rPr b="1" lang="en-GB" sz="2800" spc="-1" strike="noStrike">
                <a:solidFill>
                  <a:srgbClr val="000053"/>
                </a:solidFill>
                <a:latin typeface="Arial"/>
              </a:rPr>
              <a:t>and other commodities</a:t>
            </a:r>
            <a:br>
              <a:rPr sz="32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59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</a:rPr>
              <a:t>Long-term restrictions on the consumption of foodstuffs are difficult to maintain and conflicting with the sustainable development of contaminated territor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</a:rPr>
              <a:t>Authorities should set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contamination criteria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below or above the Guidelines Level of the Codex Alimentarius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53"/>
                </a:solidFill>
                <a:latin typeface="Arial"/>
              </a:rPr>
              <a:t>according the relative importance of the local foodstuffs in the diet of the population residing in the territories</a:t>
            </a:r>
            <a:r>
              <a:rPr b="0" lang="en-GB" sz="2400" spc="-1" strike="noStrike">
                <a:solidFill>
                  <a:srgbClr val="00005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</a:rPr>
              <a:t>Need to reconcile the interest of local farmers and the local population with those of consumers and the food distribution sector outside the affected territor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8058-CC33-47AE-9851-AEFF1FEE00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Rectangle 2" descr=""/>
          <p:cNvPicPr/>
          <p:nvPr/>
        </p:nvPicPr>
        <p:blipFill>
          <a:blip r:embed="rId1"/>
          <a:stretch/>
        </p:blipFill>
        <p:spPr>
          <a:xfrm>
            <a:off x="1060560" y="225360"/>
            <a:ext cx="7907400" cy="615960"/>
          </a:xfrm>
          <a:prstGeom prst="rect">
            <a:avLst/>
          </a:prstGeom>
          <a:ln w="0">
            <a:noFill/>
          </a:ln>
        </p:spPr>
      </p:pic>
      <p:sp>
        <p:nvSpPr>
          <p:cNvPr id="824" name="PlaceHolder 1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Accid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26 April 1986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8"/>
                </a:solidFill>
                <a:latin typeface="Arial"/>
                <a:ea typeface="Arial"/>
              </a:rPr>
              <a:t>Individual dose criteria 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82000" indent="-522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8"/>
                </a:solidFill>
                <a:latin typeface="Arial"/>
                <a:ea typeface="Arial"/>
              </a:rPr>
              <a:t>1986: 100 mSv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82000" indent="-522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8"/>
                </a:solidFill>
                <a:latin typeface="Arial"/>
                <a:ea typeface="Arial"/>
              </a:rPr>
              <a:t>1987: 30 mSv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82000" indent="-522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8"/>
                </a:solidFill>
                <a:latin typeface="Arial"/>
                <a:ea typeface="Arial"/>
              </a:rPr>
              <a:t>1988 and 1989: 25 mSv/yea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posal in </a:t>
            </a:r>
            <a:r>
              <a:rPr b="1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October 1988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f a 350 mSv lifetime projected dose (5 mSv x 70 years) as criterion for allowing permanent residence in the contaminated territori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82000" indent="-5223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350 mSv should include the dose received between April 1986 and December 19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82000" indent="-5223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350 mSv life time projected dose was also proposed for permanent relocation of the population if exceede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82000" indent="-5223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proposal should have been applied from January 1990 i.e. </a:t>
            </a:r>
            <a:r>
              <a:rPr b="1" lang="en-GB" sz="1800" spc="-1" strike="noStrike">
                <a:solidFill>
                  <a:srgbClr val="000053"/>
                </a:solidFill>
                <a:latin typeface="Arial"/>
                <a:ea typeface="Arial"/>
              </a:rPr>
              <a:t>3 years and 8 month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fter the accid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Rectangle 5"/>
          <p:cNvSpPr/>
          <p:nvPr/>
        </p:nvSpPr>
        <p:spPr>
          <a:xfrm>
            <a:off x="0" y="96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58"/>
                </a:solidFill>
                <a:latin typeface="Arial"/>
              </a:rPr>
              <a:t>Chernobyl experi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58"/>
                </a:solidFill>
                <a:latin typeface="Arial"/>
              </a:rPr>
              <a:t>From the emergency to the existing exposure situation (1)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116B-8132-4CD8-8C48-EBBC00B981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4"/>
          <p:cNvSpPr/>
          <p:nvPr/>
        </p:nvSpPr>
        <p:spPr>
          <a:xfrm>
            <a:off x="990720" y="5257800"/>
            <a:ext cx="7391160" cy="838080"/>
          </a:xfrm>
          <a:prstGeom prst="rect">
            <a:avLst/>
          </a:prstGeom>
          <a:solidFill>
            <a:srgbClr val="c8e3fb"/>
          </a:solidFill>
          <a:ln w="9360">
            <a:solidFill>
              <a:srgbClr val="065093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ng debate between the Centre and the Republics, which pushed for a 70 mSv lifetime projected dose as criterion for permanent relocation (1 mSv x 70 year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inally republican laws were adopted in the early 90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67880" indent="-38376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f the average annual individual dose may exceed 5 mS/year the population must be relocat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67880" indent="-38376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f the average annual dose is ranging from 1 to 5 mSv/year voluntary relocation is possible with compensation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of relocation transferred to the individu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67880" indent="-38376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f the average individual dose is lower than 1 mSv/year periodic radiological control is implement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 algn="ctr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58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58"/>
                </a:solidFill>
                <a:latin typeface="Arial"/>
                <a:ea typeface="Arial"/>
              </a:rPr>
              <a:t>From April 1986 to December 1989 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verage individual dose over the period was estimated to be aroun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35 mSv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29" name="Rectangle 2" descr=""/>
          <p:cNvPicPr/>
          <p:nvPr/>
        </p:nvPicPr>
        <p:blipFill>
          <a:blip r:embed="rId1"/>
          <a:stretch/>
        </p:blipFill>
        <p:spPr>
          <a:xfrm>
            <a:off x="-6480" y="20160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830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3340-BD14-4E04-A07E-A9F86EDD0D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Rectangle 2" descr=""/>
          <p:cNvPicPr/>
          <p:nvPr/>
        </p:nvPicPr>
        <p:blipFill>
          <a:blip r:embed="rId1"/>
          <a:stretch/>
        </p:blipFill>
        <p:spPr>
          <a:xfrm>
            <a:off x="1365120" y="-6480"/>
            <a:ext cx="7632720" cy="109692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involvement of local professionals and inhabitan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the implementation of the protection strategy is key to ensure the </a:t>
            </a:r>
            <a:r>
              <a:rPr b="1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effectiveness and sustainabi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the rehabilitation program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diation monitoring in contaminated territories is an </a:t>
            </a:r>
            <a:r>
              <a:rPr b="1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unavoidable dimens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ich is linked to all other dimensions involved in the improvement of living conditions : health, agriculture, social life,..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pluralis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sources of measurement (public and private local, regional and national actors) is important for ensuring </a:t>
            </a:r>
            <a:r>
              <a:rPr b="1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confide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the population in the result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</a:t>
            </a:r>
            <a:r>
              <a:rPr b="1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places for dialogu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important for the dissemination of </a:t>
            </a:r>
            <a:r>
              <a:rPr b="1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inform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nd the development of a </a:t>
            </a:r>
            <a:r>
              <a:rPr b="1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common langu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etween all involved stakehold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Rectangle 2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58"/>
                </a:solidFill>
                <a:latin typeface="Arial"/>
              </a:rPr>
              <a:t>Chernobyl experi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53"/>
                </a:solidFill>
                <a:latin typeface="Arial"/>
              </a:rPr>
              <a:t>Management of the exiting exposure situation</a:t>
            </a:r>
            <a:br>
              <a:rPr sz="2400"/>
            </a:br>
            <a:br>
              <a:rPr sz="20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442F-C918-4325-A24C-3F4B933EEE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45"/>
                </a:solidFill>
                <a:latin typeface="Arial"/>
                <a:ea typeface="Arial"/>
              </a:rPr>
              <a:t>Summary (1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3045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mergency Exposure Situ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ctions driven by urgenc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entralized decision mak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aracterization of the radiological situ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ference levels in the range of 20-100 mSv/yea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5105160" y="137124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isting Exposure Situ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ctions to improve living condit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centralized decision mak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help protectio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ference levels in the lower part of 1-20 mSv/yea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Right Arrow 6"/>
          <p:cNvSpPr/>
          <p:nvPr/>
        </p:nvSpPr>
        <p:spPr>
          <a:xfrm>
            <a:off x="4038480" y="1828800"/>
            <a:ext cx="838440" cy="3886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ment Decis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D73B-25B5-4141-8BA9-50F2BD2DC9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3"/>
                </a:solidFill>
                <a:latin typeface="Arial"/>
                <a:ea typeface="Arial"/>
              </a:rPr>
              <a:t>ICRP Publications 103, 109 &amp; 111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91" name="Content Placeholder 7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2590560" cy="379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2" name="Content Placeholder 7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617920" cy="381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3" name="Picture 4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2494080" cy="381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4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B180-BDCD-49B2-B4AA-D2949B15A0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45"/>
                </a:solidFill>
                <a:latin typeface="Arial"/>
                <a:ea typeface="Arial"/>
              </a:rPr>
              <a:t>Summary (2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8377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CRP Publications 109 and 111 are proposing </a:t>
            </a:r>
            <a:r>
              <a:rPr b="1" lang="en-US" sz="2000" spc="-1" strike="noStrike">
                <a:solidFill>
                  <a:srgbClr val="000045"/>
                </a:solidFill>
                <a:latin typeface="Arial"/>
                <a:ea typeface="Arial"/>
              </a:rPr>
              <a:t>a flexible framework for guiding ac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case of a nuclear accident or a radiological emergenc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key guidance are to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void doses above 100 mSv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ep and reduce exposure  ALARA all the ti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gage affected people in the management of the situ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 radiation protection culture among the affected peop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opt 1 mSv/year as a long term objectiv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7924680" y="6324480"/>
            <a:ext cx="762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9016-56D0-4322-BF77-EE09A835F82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18" descr="ICRP Logo.gif"/>
          <p:cNvPicPr/>
          <p:nvPr/>
        </p:nvPicPr>
        <p:blipFill>
          <a:blip r:embed="rId2"/>
          <a:stretch/>
        </p:blipFill>
        <p:spPr>
          <a:xfrm>
            <a:off x="1279440" y="1901880"/>
            <a:ext cx="6712200" cy="4286160"/>
          </a:xfrm>
          <a:prstGeom prst="rect">
            <a:avLst/>
          </a:prstGeom>
          <a:ln w="0">
            <a:noFill/>
          </a:ln>
        </p:spPr>
      </p:pic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0" y="4495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ww.icrp.org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EDDD-3F50-4AD9-98CD-48A547CB03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53"/>
                </a:solidFill>
                <a:latin typeface="Arial"/>
                <a:ea typeface="Arial"/>
              </a:rPr>
              <a:t>Earlier guidance for the protection </a:t>
            </a:r>
            <a:br>
              <a:rPr sz="2800"/>
            </a:br>
            <a:r>
              <a:rPr b="1" lang="en-GB" sz="2800" spc="-1" strike="noStrike">
                <a:solidFill>
                  <a:srgbClr val="000053"/>
                </a:solidFill>
                <a:latin typeface="Arial"/>
                <a:ea typeface="Arial"/>
              </a:rPr>
              <a:t>of the public in the event of a nuclear accident </a:t>
            </a:r>
            <a:br>
              <a:rPr sz="3200"/>
            </a:br>
            <a:br>
              <a:rPr sz="20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100000"/>
              </a:lnSpc>
              <a:spcAft>
                <a:spcPts val="1800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53"/>
                </a:solidFill>
                <a:latin typeface="Arial"/>
                <a:ea typeface="Arial"/>
              </a:rPr>
              <a:t>ICRP Publication 40 (1984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546120" indent="-27324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53"/>
                </a:solidFill>
                <a:latin typeface="Arial"/>
                <a:ea typeface="Arial"/>
              </a:rPr>
              <a:t>Categorization of accidents in three sequential phases: early, intermediate and recovery phas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546120" indent="-27324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53"/>
                </a:solidFill>
                <a:latin typeface="Arial"/>
                <a:ea typeface="Arial"/>
              </a:rPr>
              <a:t>Decisions about applying a countermeasure should balance social costs and the reduction of risk that will resul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Aft>
                <a:spcPts val="1800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53"/>
                </a:solidFill>
                <a:latin typeface="Arial"/>
                <a:ea typeface="Arial"/>
              </a:rPr>
              <a:t>Publication 63 (199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546120" indent="-27324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53"/>
                </a:solidFill>
                <a:latin typeface="Arial"/>
                <a:ea typeface="Arial"/>
              </a:rPr>
              <a:t>Categorization of accidents in three sequential stages: pre-release, release and post-release stag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546120" indent="-27324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53"/>
                </a:solidFill>
                <a:latin typeface="Arial"/>
                <a:ea typeface="Arial"/>
              </a:rPr>
              <a:t>Recommendations of quantitative intervention levels for the introduction of protective action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53"/>
                </a:solidFill>
                <a:latin typeface="Arial"/>
                <a:ea typeface="Arial"/>
              </a:rPr>
              <a:t>Both Publications are giving general principles for planning protective actions mainly during the early and intermediate phas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54612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53"/>
                </a:solidFill>
                <a:latin typeface="Arial"/>
                <a:ea typeface="Arial"/>
              </a:rPr>
              <a:t>Main </a:t>
            </a:r>
            <a:r>
              <a:rPr b="1" lang="en-GB" sz="2800" spc="-1" strike="noStrike">
                <a:solidFill>
                  <a:srgbClr val="000053"/>
                </a:solidFill>
                <a:latin typeface="Arial"/>
                <a:ea typeface="Arial"/>
              </a:rPr>
              <a:t>evolution from ICRP 60 to ICRP 103</a:t>
            </a:r>
            <a:br>
              <a:rPr sz="3200"/>
            </a:br>
            <a:br>
              <a:rPr sz="20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3"/>
                </a:solidFill>
                <a:latin typeface="Arial"/>
                <a:ea typeface="Arial"/>
              </a:rPr>
              <a:t>No more distinction between </a:t>
            </a:r>
            <a:r>
              <a:rPr b="1" lang="en-US" sz="1800" spc="-1" strike="noStrike">
                <a:solidFill>
                  <a:srgbClr val="000053"/>
                </a:solidFill>
                <a:latin typeface="Arial"/>
                <a:ea typeface="Arial"/>
              </a:rPr>
              <a:t>practices</a:t>
            </a:r>
            <a:r>
              <a:rPr b="0" lang="en-US" sz="1800" spc="-1" strike="noStrike">
                <a:solidFill>
                  <a:srgbClr val="000053"/>
                </a:solidFill>
                <a:latin typeface="Arial"/>
                <a:ea typeface="Arial"/>
              </a:rPr>
              <a:t> and </a:t>
            </a:r>
            <a:r>
              <a:rPr b="1" lang="en-US" sz="1800" spc="-1" strike="noStrike">
                <a:solidFill>
                  <a:srgbClr val="000053"/>
                </a:solidFill>
                <a:latin typeface="Arial"/>
                <a:ea typeface="Arial"/>
              </a:rPr>
              <a:t>interventions</a:t>
            </a:r>
            <a:r>
              <a:rPr b="0" lang="en-US" sz="1800" spc="-1" strike="noStrike">
                <a:solidFill>
                  <a:srgbClr val="000053"/>
                </a:solidFill>
                <a:latin typeface="Arial"/>
                <a:ea typeface="Arial"/>
              </a:rPr>
              <a:t>. The two concepts are replaced by three generic exposure situations, which cover all conceivable exposure situations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3"/>
                </a:solidFill>
                <a:latin typeface="Arial"/>
                <a:ea typeface="Arial"/>
              </a:rPr>
              <a:t>planned exposure situations </a:t>
            </a:r>
            <a:r>
              <a:rPr b="0" lang="en-US" sz="1800" spc="-1" strike="noStrike">
                <a:solidFill>
                  <a:srgbClr val="000053"/>
                </a:solidFill>
                <a:latin typeface="Arial"/>
                <a:ea typeface="Arial"/>
              </a:rPr>
              <a:t>(identical to practices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3"/>
                </a:solidFill>
                <a:latin typeface="Arial"/>
                <a:ea typeface="Arial"/>
              </a:rPr>
              <a:t>emergency exposure situa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3"/>
                </a:solidFill>
                <a:latin typeface="Arial"/>
                <a:ea typeface="Arial"/>
              </a:rPr>
              <a:t>existing exposure situa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Aft>
                <a:spcPts val="1800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3"/>
                </a:solidFill>
                <a:latin typeface="Arial"/>
                <a:ea typeface="Arial"/>
              </a:rPr>
              <a:t>The principles of justification and optimization apply in the same way to the three exposure situa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Aft>
                <a:spcPts val="1800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3"/>
                </a:solidFill>
                <a:latin typeface="Arial"/>
                <a:ea typeface="Arial"/>
              </a:rPr>
              <a:t>Dose limits apply only to planned exposure situa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Aft>
                <a:spcPts val="1800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3"/>
                </a:solidFill>
                <a:latin typeface="Arial"/>
                <a:ea typeface="Arial"/>
              </a:rPr>
              <a:t>Boundaries exist for optimization as either dose constraints or reference level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Aft>
                <a:spcPts val="1800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53"/>
                </a:solidFill>
                <a:latin typeface="Arial"/>
                <a:ea typeface="Arial"/>
              </a:rPr>
              <a:t>The concepts of action levels and intervention levels are abandone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E47D-2C45-4F87-90A4-0FE4F15FC5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5"/>
          <p:cNvSpPr/>
          <p:nvPr/>
        </p:nvSpPr>
        <p:spPr>
          <a:xfrm>
            <a:off x="838080" y="5410080"/>
            <a:ext cx="8001000" cy="685800"/>
          </a:xfrm>
          <a:prstGeom prst="rect">
            <a:avLst/>
          </a:prstGeom>
          <a:solidFill>
            <a:srgbClr val="c8e3fb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53"/>
                </a:solidFill>
                <a:latin typeface="Arial"/>
                <a:ea typeface="Arial"/>
              </a:rPr>
              <a:t>The three exposure situations</a:t>
            </a:r>
            <a:br>
              <a:rPr sz="2800"/>
            </a:br>
            <a:r>
              <a:rPr b="1" lang="en-GB" sz="2800" spc="-1" strike="noStrike">
                <a:solidFill>
                  <a:srgbClr val="000053"/>
                </a:solidFill>
                <a:latin typeface="Arial"/>
                <a:ea typeface="Arial"/>
              </a:rPr>
              <a:t>(Pub 103, § 176) </a:t>
            </a:r>
            <a:br>
              <a:rPr sz="3200"/>
            </a:br>
            <a:br>
              <a:rPr sz="20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29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Planned exposure situations </a:t>
            </a:r>
            <a:r>
              <a:rPr b="0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are</a:t>
            </a:r>
            <a:r>
              <a:rPr b="1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situations involving the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deliberate introduction </a:t>
            </a:r>
            <a:r>
              <a:rPr b="0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and operation of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sources</a:t>
            </a:r>
            <a:r>
              <a:rPr b="0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29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Emergency exposure situations </a:t>
            </a:r>
            <a:r>
              <a:rPr b="0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are</a:t>
            </a:r>
            <a:r>
              <a:rPr b="1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situations that may occur during the operation of a planned situation, or from a malicious act, or from any unexpected situation, and require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urgent actions </a:t>
            </a:r>
            <a:r>
              <a:rPr b="0" lang="en-US" sz="2000" spc="-1" strike="noStrike">
                <a:solidFill>
                  <a:srgbClr val="000058"/>
                </a:solidFill>
                <a:latin typeface="Arial"/>
                <a:ea typeface="Arial"/>
              </a:rPr>
              <a:t>in order to avoid or reduce undesirable consequen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Existing exposure situations </a:t>
            </a:r>
            <a:r>
              <a:rPr b="0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are</a:t>
            </a:r>
            <a:r>
              <a:rPr b="1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exposure</a:t>
            </a:r>
            <a:r>
              <a:rPr b="1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situations that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already exist when a decision on control has to be taken</a:t>
            </a:r>
            <a:r>
              <a:rPr b="0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, including prolonged exposure situations after emergencies.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ommission defines prolonged exposures resulting from nuclear accidents or radiation emergencies as existing exposure situation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00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1CA8-017D-4BF4-895B-28326DDD2E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53"/>
                </a:solidFill>
                <a:latin typeface="Arial"/>
                <a:ea typeface="Arial"/>
              </a:rPr>
              <a:t>What is an exposure situation ?</a:t>
            </a:r>
            <a:br>
              <a:rPr sz="20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304920" y="2819520"/>
            <a:ext cx="20574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Constanti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Rectangle 6"/>
          <p:cNvSpPr/>
          <p:nvPr/>
        </p:nvSpPr>
        <p:spPr>
          <a:xfrm>
            <a:off x="3429000" y="2819520"/>
            <a:ext cx="18288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Constantia"/>
              </a:rPr>
              <a:t>Pathway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Rectangle 7"/>
          <p:cNvSpPr/>
          <p:nvPr/>
        </p:nvSpPr>
        <p:spPr>
          <a:xfrm>
            <a:off x="6400800" y="2819520"/>
            <a:ext cx="22860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Constantia"/>
              </a:rPr>
              <a:t>Exposed individu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ZoneTexte 8"/>
          <p:cNvSpPr/>
          <p:nvPr/>
        </p:nvSpPr>
        <p:spPr>
          <a:xfrm>
            <a:off x="1371600" y="274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36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Flèche vers la droite 9"/>
          <p:cNvSpPr/>
          <p:nvPr/>
        </p:nvSpPr>
        <p:spPr>
          <a:xfrm>
            <a:off x="5410080" y="2971800"/>
            <a:ext cx="825480" cy="7891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d9d9d9"/>
          </a:solidFill>
          <a:ln w="9360">
            <a:solidFill>
              <a:srgbClr val="065093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Flèche vers la droite 10"/>
          <p:cNvSpPr/>
          <p:nvPr/>
        </p:nvSpPr>
        <p:spPr>
          <a:xfrm>
            <a:off x="2514600" y="2971800"/>
            <a:ext cx="825480" cy="7891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d9d9d9"/>
          </a:solidFill>
          <a:ln w="9360">
            <a:solidFill>
              <a:srgbClr val="065093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8B42-B1FD-461F-9B93-8B552EA197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45"/>
                </a:solidFill>
                <a:latin typeface="Arial"/>
                <a:ea typeface="Arial"/>
              </a:rPr>
              <a:t>Characteristics of the source </a:t>
            </a:r>
            <a:br>
              <a:rPr sz="2800"/>
            </a:br>
            <a:r>
              <a:rPr b="1" lang="en-GB" sz="2800" spc="-1" strike="noStrike">
                <a:solidFill>
                  <a:srgbClr val="000045"/>
                </a:solidFill>
                <a:latin typeface="Arial"/>
                <a:ea typeface="Arial"/>
              </a:rPr>
              <a:t>and the exposure situations</a:t>
            </a:r>
            <a:br>
              <a:rPr sz="2800"/>
            </a:br>
            <a:br>
              <a:rPr sz="3200"/>
            </a:br>
            <a:br>
              <a:rPr sz="20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295280" y="1523880"/>
          <a:ext cx="6553440" cy="4419720"/>
        </p:xfrm>
        <a:graphic>
          <a:graphicData uri="http://schemas.openxmlformats.org/drawingml/2006/table">
            <a:tbl>
              <a:tblPr/>
              <a:tblGrid>
                <a:gridCol w="2351160"/>
                <a:gridCol w="420228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53"/>
                          </a:solidFill>
                          <a:latin typeface="Arial"/>
                        </a:rPr>
                        <a:t>Plan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eliberately introduced 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ully under 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53"/>
                          </a:solidFill>
                          <a:latin typeface="Arial"/>
                        </a:rPr>
                        <a:t>Emerg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Loss of contr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or unexpectedly introduc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53"/>
                          </a:solidFill>
                          <a:latin typeface="Arial"/>
                        </a:rPr>
                        <a:t>Exi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Already there when decision to 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716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2310-7A2D-408A-8900-60DDD7AB36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5"/>
                </a:solidFill>
                <a:latin typeface="Arial"/>
                <a:ea typeface="Arial"/>
              </a:rPr>
              <a:t>Time factor – Planned exposure situations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914400" y="15998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ed from the beginning, and protective actions taken on the basis of planning to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prospectively control the source and the pathw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ective actions can be implemented at any time (to prevent exposure to occur or to mitigate exposure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ective actions are effective immediately when implemen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E59E-2BCD-4EA5-A9E6-FC07971C54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8:28:20Z</dcterms:created>
  <dc:creator>Chris</dc:creator>
  <dc:description/>
  <dc:language>en-US</dc:language>
  <cp:lastModifiedBy>Jacques LOCHARD</cp:lastModifiedBy>
  <dcterms:modified xsi:type="dcterms:W3CDTF">2012-02-06T12:53:57Z</dcterms:modified>
  <cp:revision>239</cp:revision>
  <dc:subject/>
  <dc:title>Title Slide</dc:title>
</cp:coreProperties>
</file>