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8529-9DB2-40EC-A0E1-CE663E4679D7}" type="datetime">
              <a:rPr b="0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8591-0F32-4A49-A9AB-88AD35A4E9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e la dat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0092-F5D8-47AF-BD94-89190342F226}" type="datetime">
              <a:rPr b="0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5" name="Espace réservé du numéro de diapositive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5388-60DE-4C87-AD43-C32DC645E0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520C-4D52-4EFF-9FDF-CBBE21A3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9F53-159D-4526-AFAA-09F532CF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9F6-427C-48D5-B75D-194BDE20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D3A-0859-4220-82E9-5A5D46B3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FEA8-B978-41F3-BF30-E34D1E8A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378E-5F12-40EA-93EB-C815E844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6E9C-E8CD-4A33-9A24-D7D00D1D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F47B-669E-442A-82A2-2E941442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8048-9656-4AEE-9D56-2BB24D77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B400-6F0E-4DC3-A7DD-58FEF50E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5999-30C7-4E19-90BC-09320C96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6C79-EE41-4E13-8E0B-C79B6C93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0AB8-AA26-4DE6-B7FC-F9C0B3B7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311C-67DC-4068-8706-7B4A733C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AE21-57B3-4F60-805D-4C8B5E90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042E-4BB2-411C-8093-FEF57074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A846-2E83-46B8-A01D-F5F336F0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A97E-9689-4CBD-91DD-79A425E9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9E2F-7809-4EFC-A68F-10CFDE06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DA38-8653-4AD9-B347-4048986C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009-B3E8-4AFD-9F90-A21FAC60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2E4-757D-43C8-88DD-7FFF30BD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F780-98BD-4099-8B7D-EB04372E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A788-8388-4046-9296-B480A4B8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CDFD-83C1-4ADA-97EF-48E2F74E886A}" type="datetime">
              <a:rPr b="0" lang="fr-FR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7028-514A-4AC7-90D8-578C9E45FA34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607E-382B-443F-A4DE-39A9921D52FD}" type="datetime">
              <a:rPr b="0" lang="fr-FR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F86D-3A1E-4347-BF78-ED256E8901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ilobreaker.com/earless-bunny-video-stokes-japan-nuke-fears-5_2264630023459700860" TargetMode="External"/><Relationship Id="rId3" Type="http://schemas.openxmlformats.org/officeDocument/2006/relationships/hyperlink" Target="http://www.silobreaker.com/experts-say-it-is-unlikely-a-rabbit-born-without-ears-near-japans-damaged-fukushima-5_2264629136548954215" TargetMode="External"/><Relationship Id="rId4" Type="http://schemas.openxmlformats.org/officeDocument/2006/relationships/hyperlink" Target="http://www.silobreaker.com/japanese-earless-rabbit-no-nuclear-mutant-say-experts-5_2264628986225098793" TargetMode="External"/><Relationship Id="rId5" Type="http://schemas.openxmlformats.org/officeDocument/2006/relationships/hyperlink" Target="http://www.silobreaker.com/earless-bunny-raises-fear-of-effects-of-nuclear-disaster-5_2264628279702978737" TargetMode="External"/><Relationship Id="rId6" Type="http://schemas.openxmlformats.org/officeDocument/2006/relationships/hyperlink" Target="http://www.silobreaker.com/japans-earless-rabbit-a-radiation-mutant-5_2264628118641705017" TargetMode="External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4920" y="2739600"/>
            <a:ext cx="831708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4000" spc="-1" strike="noStrike">
                <a:solidFill>
                  <a:srgbClr val="006666"/>
                </a:solidFill>
                <a:latin typeface="Calibri"/>
              </a:rPr>
              <a:t>Topic 4: Societal and communication issues and how decision aiding tools might support th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Moderator: Deborah Oughton, UM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8576-D634-4A82-B91C-06A778CCB705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990720"/>
            <a:ext cx="9144000" cy="34272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92" name="Imag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/>
          <p:cNvSpPr/>
          <p:nvPr/>
        </p:nvSpPr>
        <p:spPr>
          <a:xfrm>
            <a:off x="503280" y="141300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irst NERIS Platform Workshop: 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Bratislava 6-8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February 2012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D095-3C01-4EFE-BE4E-B1ECBA194174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990720"/>
            <a:ext cx="9144000" cy="34272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96" name="Imag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Espace réservé du contenu 2"/>
          <p:cNvSpPr/>
          <p:nvPr/>
        </p:nvSpPr>
        <p:spPr>
          <a:xfrm>
            <a:off x="108000" y="1628640"/>
            <a:ext cx="590400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b-NO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ernobyl lessons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ial, economic, political, ethical aspects of the accident and remediation actions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igma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ographic changes in communities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sk perception (risk aversion not always due to misunderstanding of probabilities)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ial and Self-help countermeasures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a and communication 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0000" y="6519960"/>
            <a:ext cx="45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Academy Award: Best Short Documentary 2004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99" name="Picture 2" descr="http://chernobyl.typepad.com/chernobyl_childrens_proje/images/2007/10/10/chernobylposter.jpg"/>
          <p:cNvPicPr/>
          <p:nvPr/>
        </p:nvPicPr>
        <p:blipFill>
          <a:blip r:embed="rId2"/>
          <a:stretch/>
        </p:blipFill>
        <p:spPr>
          <a:xfrm>
            <a:off x="7020000" y="3789360"/>
            <a:ext cx="1836720" cy="2717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hernobyl bbc3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2575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8"/>
          <p:cNvSpPr/>
          <p:nvPr/>
        </p:nvSpPr>
        <p:spPr>
          <a:xfrm>
            <a:off x="7601400" y="393372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1f497d"/>
                </a:solidFill>
                <a:latin typeface="Arial"/>
              </a:rPr>
              <a:t>bbcnews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760D-16CD-4A74-8D03-249BC7BE3F75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990720"/>
            <a:ext cx="9144000" cy="34272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4" name="Imag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105" name="Espace réservé du contenu 2"/>
          <p:cNvSpPr/>
          <p:nvPr/>
        </p:nvSpPr>
        <p:spPr>
          <a:xfrm>
            <a:off x="0" y="1341360"/>
            <a:ext cx="637236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llenges: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 of thousands died in the Fukushima earthquake, nearly half a million were made homeless, yet since the accident most of the Western media focus was on the nuclear incident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ign governments advised evacuation of citizens from a greater area than the Japanese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dine tablets sold out in Europe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25 embassies closed or relocated from Tokyo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takeholder distrust of models 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5940360" y="4869000"/>
            <a:ext cx="3095640" cy="146556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e also NERIS SRA Topic 3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challenges in stakeholder involvement and local preparedness and communication strategies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7" name="BLOGGER_PHOTO_ID_5620478400620284658" descr="http://3.bp.blogspot.com/-PL_gQPOyaTU/Tf_zU6i6SvI/AAAAAAAABLs/U7_ThJP_eJE/s400/Fukushima.jpg"/>
          <p:cNvPicPr/>
          <p:nvPr/>
        </p:nvPicPr>
        <p:blipFill>
          <a:blip r:embed="rId2"/>
          <a:stretch/>
        </p:blipFill>
        <p:spPr>
          <a:xfrm>
            <a:off x="6107040" y="1800360"/>
            <a:ext cx="2857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57C8-8E6B-40D8-8A61-FF10747B658F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990720"/>
            <a:ext cx="9144000" cy="34272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0" name="Imag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111" name="Espace réservé du contenu 2"/>
          <p:cNvSpPr/>
          <p:nvPr/>
        </p:nvSpPr>
        <p:spPr>
          <a:xfrm>
            <a:off x="108000" y="1628640"/>
            <a:ext cx="887076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er goods: Examples of New Stakeholder Networks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50 countries introduced restrictions on food imports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Total value of agricultural products imported to the EU from Japan: €187 million for agricultural products and €18 million for fishery products. 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In 2010, China was the fourth-largest importer of Japanese farm and fishery products 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after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 Hong Kong, the United States and Taiwan, buying items worth about ¥55.5 billion.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2" name="Picture 1" descr="Imported seafood from Japan is screened for radiation by a chef at a Japanese restaurant in Hong Kong to make sure the food is safe to eat, March 22, 2011"/>
          <p:cNvPicPr/>
          <p:nvPr/>
        </p:nvPicPr>
        <p:blipFill>
          <a:blip r:embed="rId2"/>
          <a:stretch/>
        </p:blipFill>
        <p:spPr>
          <a:xfrm>
            <a:off x="5499000" y="4384800"/>
            <a:ext cx="3394080" cy="22842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7"/>
          <p:cNvSpPr/>
          <p:nvPr/>
        </p:nvSpPr>
        <p:spPr>
          <a:xfrm>
            <a:off x="250920" y="4869000"/>
            <a:ext cx="50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Radioactivity: All cars from Japan to be tested for radiation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”  Headline www.economicsnewspaper.com   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DCA0-5BB0-4C0D-97D8-D3A8A34D890E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990720"/>
            <a:ext cx="9144000" cy="34272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6" name="Imag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117" name="Espace réservé du contenu 2"/>
          <p:cNvSpPr/>
          <p:nvPr/>
        </p:nvSpPr>
        <p:spPr>
          <a:xfrm>
            <a:off x="3276720" y="189000"/>
            <a:ext cx="51829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al Media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1844640"/>
          <a:ext cx="6696000" cy="180036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257040">
                <a:tc>
                  <a:txBody>
                    <a:bodyPr lIns="76320" rIns="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Earless bunny video stokes Japan nuke fears</a:t>
                      </a:r>
                      <a:r>
                        <a:rPr b="0" lang="en-US" sz="1000" spc="-1" strike="noStrike">
                          <a:solidFill>
                            <a:srgbClr val="303030"/>
                          </a:solidFill>
                          <a:latin typeface="Arial"/>
                          <a:ea typeface="Times New Roman"/>
                        </a:rPr>
                        <a:t> - [Jun 10 2011 - 10connects.com] 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76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400">
                <a:tc>
                  <a:txBody>
                    <a:bodyPr lIns="76320" rIns="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  <a:hlinkClick r:id="rId3"/>
                        </a:rPr>
                        <a:t>Experts say it is unlikely a rabbit born withou...</a:t>
                      </a:r>
                      <a:r>
                        <a:rPr b="0" lang="en-US" sz="1000" spc="-1" strike="noStrike">
                          <a:solidFill>
                            <a:srgbClr val="303030"/>
                          </a:solidFill>
                          <a:latin typeface="Arial"/>
                          <a:ea typeface="Times New Roman"/>
                        </a:rPr>
                        <a:t> - [Jun 10 2011 - ONE News] 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76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76320" rIns="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  <a:hlinkClick r:id="rId4"/>
                        </a:rPr>
                        <a:t>Japanese earless rabbit no nuclear mutant, say ...</a:t>
                      </a:r>
                      <a:r>
                        <a:rPr b="0" lang="en-US" sz="1000" spc="-1" strike="noStrike">
                          <a:solidFill>
                            <a:srgbClr val="303030"/>
                          </a:solidFill>
                          <a:latin typeface="Arial"/>
                          <a:ea typeface="Times New Roman"/>
                        </a:rPr>
                        <a:t> - [Jun 10 2011 - ONE News] 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76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400">
                <a:tc>
                  <a:txBody>
                    <a:bodyPr lIns="76320" rIns="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  <a:hlinkClick r:id="rId5"/>
                        </a:rPr>
                        <a:t>Earless bunny raises fear of effects of nuclear...</a:t>
                      </a:r>
                      <a:r>
                        <a:rPr b="0" lang="en-US" sz="1000" spc="-1" strike="noStrike">
                          <a:solidFill>
                            <a:srgbClr val="303030"/>
                          </a:solidFill>
                          <a:latin typeface="Arial"/>
                          <a:ea typeface="Times New Roman"/>
                        </a:rPr>
                        <a:t> - [Jun 09 2011 - New York Daily News] 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76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76320" rIns="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  <a:hlinkClick r:id="rId6"/>
                        </a:rPr>
                        <a:t>Japan's earless rabbit: A radiation mutant?</a:t>
                      </a:r>
                      <a:r>
                        <a:rPr b="0" lang="en-US" sz="1000" spc="-1" strike="noStrike">
                          <a:solidFill>
                            <a:srgbClr val="303030"/>
                          </a:solidFill>
                          <a:latin typeface="Arial"/>
                          <a:ea typeface="Times New Roman"/>
                        </a:rPr>
                        <a:t> - [Jun 09 2011 - The Week Magazine] 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76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76320" rIns="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404080"/>
                          </a:solidFill>
                          <a:latin typeface="Arial"/>
                          <a:ea typeface="Times New Roman"/>
                        </a:rPr>
                        <a:t>Fukushima's "mutant" earless bunny</a:t>
                      </a:r>
                      <a:r>
                        <a:rPr b="0" lang="en-US" sz="1000" spc="-1" strike="noStrike">
                          <a:solidFill>
                            <a:srgbClr val="303030"/>
                          </a:solidFill>
                          <a:latin typeface="Arial"/>
                          <a:ea typeface="Times New Roman"/>
                        </a:rPr>
                        <a:t> - [Jun 09 2011 - Salon] 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76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400">
                <a:tc>
                  <a:txBody>
                    <a:bodyPr lIns="76320" rIns="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404080"/>
                          </a:solidFill>
                          <a:latin typeface="Arial"/>
                          <a:ea typeface="Times New Roman"/>
                        </a:rPr>
                        <a:t>Earless rabbit born near Fukushima nuclear powe...</a:t>
                      </a:r>
                      <a:r>
                        <a:rPr b="0" lang="en-US" sz="1000" spc="-1" strike="noStrike">
                          <a:solidFill>
                            <a:srgbClr val="303030"/>
                          </a:solidFill>
                          <a:latin typeface="Arial"/>
                          <a:ea typeface="Times New Roman"/>
                        </a:rPr>
                        <a:t> - [Jun 09 2011 - Batangas Today] 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76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Picture 3" descr="Screen-shot-2011-03-25-at-11"/>
          <p:cNvPicPr/>
          <p:nvPr/>
        </p:nvPicPr>
        <p:blipFill>
          <a:blip r:embed="rId7"/>
          <a:stretch/>
        </p:blipFill>
        <p:spPr>
          <a:xfrm>
            <a:off x="5651640" y="4365720"/>
            <a:ext cx="3205080" cy="23018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324000" y="4797360"/>
            <a:ext cx="6912000" cy="58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ETHOS IN FUKUSHIMA 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1f497d"/>
                </a:solidFill>
                <a:latin typeface="Arial"/>
              </a:rPr>
              <a:t>原子力災害後の福島で暮らすということ。それでも、ここでの暮らしは素晴らしく、よりよい未来を手渡す事ができるということ。それを、少しずつ、かたちにしていく事を目指しています。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9</a:t>
            </a:r>
            <a:r>
              <a:rPr b="0" lang="ja-JP" sz="1600" spc="-1" strike="noStrike">
                <a:solidFill>
                  <a:srgbClr val="1f497d"/>
                </a:solidFill>
                <a:latin typeface="Arial"/>
              </a:rPr>
              <a:t>月にいわき市で放射線勉強会を開催、そこから、日本版エートス目指して、模索中。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twitter: @ando_ryoko</a:t>
            </a:r>
            <a:r>
              <a:rPr b="0" lang="ja-JP" sz="1600" spc="-1" strike="noStrike">
                <a:solidFill>
                  <a:srgbClr val="1f497d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mail: ethos.fukushima@gmail.com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205560" y="3789360"/>
            <a:ext cx="74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Blog: “When it's grown wings and spits acid then I'll worry” 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2" name="Picture 16" descr="Fresh fears? This bunny, born without ears, was found near the doomed Fukushima nuclear plant - but experts are sceptical over whether radiation was responsible"/>
          <p:cNvPicPr/>
          <p:nvPr/>
        </p:nvPicPr>
        <p:blipFill>
          <a:blip r:embed="rId8"/>
          <a:stretch/>
        </p:blipFill>
        <p:spPr>
          <a:xfrm>
            <a:off x="5796000" y="1484280"/>
            <a:ext cx="3097080" cy="21589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0"/>
          <p:cNvSpPr/>
          <p:nvPr/>
        </p:nvSpPr>
        <p:spPr>
          <a:xfrm>
            <a:off x="0" y="13827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1f497d"/>
                </a:solidFill>
                <a:latin typeface="Arial"/>
              </a:rPr>
              <a:t>The nuclear rabbit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2E1A-D1C9-45EC-A1A9-66E78D80E4EC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990720"/>
            <a:ext cx="9144000" cy="34272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6" name="Imag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127" name="Espace réservé du contenu 2"/>
          <p:cNvSpPr/>
          <p:nvPr/>
        </p:nvSpPr>
        <p:spPr>
          <a:xfrm>
            <a:off x="108000" y="1628640"/>
            <a:ext cx="887076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scussion Groups: Overarching Aims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 the stakeholder and communication dimensions of the challenges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light issues of most relevance to the ICRP recommendations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input on how these may be best addressed in decision aiding tools (tools presented at the meeting plus alternatives) 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D1CB-40B2-4DEB-81EA-40404CB3F4E7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990720"/>
            <a:ext cx="9144000" cy="34272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30" name="Imag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contenu 2"/>
          <p:cNvSpPr/>
          <p:nvPr/>
        </p:nvSpPr>
        <p:spPr>
          <a:xfrm>
            <a:off x="152280" y="1371600"/>
            <a:ext cx="88711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Calibri"/>
              </a:rPr>
              <a:t>Questions for Discussion: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some of the social and political challenges were similar to those seen after Chernobyl, what were the most important differences?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we improve the definition of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keholders and the framing of the problems, recognising the complexity of the stakeholder networks and relationships?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ssue of trade of goods and foodstuffs from contaminated territories clearly illustrates the interaction of technical, management, as well as social concerns. If consumers lose trust in a product this can have serious economic consequences. How might stakeholder and communication processes support the improvement of strategies to address this issue?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Japan, the citizens started to carry out their own decontamination. How can this be addressed in management strategies.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opportunities are there for exploitation of social media and networking within emergency preparedness? How to best approach the issue of contradictory information? 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14:12:03Z</dcterms:created>
  <dc:creator>Cyril Croteau</dc:creator>
  <dc:description/>
  <cp:keywords/>
  <dc:language>en-US</dc:language>
  <cp:lastModifiedBy>Deborah Oughton</cp:lastModifiedBy>
  <cp:lastPrinted>2009-10-29T08:49:44Z</cp:lastPrinted>
  <dcterms:modified xsi:type="dcterms:W3CDTF">2012-02-07T08:07:09Z</dcterms:modified>
  <cp:revision>591</cp:revision>
  <dc:subject/>
  <dc:title>Présentation PowerPoint</dc:title>
</cp:coreProperties>
</file>