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14A-1E34-4C32-A4E2-A45EB837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24B-823B-4356-A42F-AE42C356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825-5132-4972-9DB2-6571BB7F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C2F-65A7-4341-935B-5F682207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45C5-B514-43E0-9426-AC70DD27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95D0-1FB2-4D26-B514-B9C7AB65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B2EE-5D8B-45BB-B7E4-AFD0183A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BAD1-09C9-4C22-B70E-65116D06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AD91-91D0-4431-9A13-72ACB3B3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6155-41D2-4D63-8085-5C047F4D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F729-E35C-4F36-AC60-9F54EF84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184-D3D1-40F6-9655-F3188A7D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7D35-F946-4C68-93FD-3813D3F8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C9C2-D9EF-485B-B467-7EE96D69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8FC1-5609-4ABB-8A65-138DF727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4A64-9142-47EC-BFF4-E6653F6B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4F2B-11E8-410C-9F6A-9FF41606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A52-784D-42AF-BA46-6D339304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005-3673-45E4-8672-E54BDA06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440-4438-48B8-B4BF-762C5657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AB9-3ED8-4F8C-AD48-1FBE0F47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E9E-3952-4FC8-9B22-BC1F41E3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391-2ECA-4BC5-ACE8-7DC12DF3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3C4-7D20-47F2-A66F-A6B40A60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F313-859C-40D0-BA73-AA3EF922B8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5CB5-4F1C-4AAF-858C-25C936ECA4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log.impossibleliving.com/wp-content/uploads/2011/03/Prypiat4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1916280"/>
            <a:ext cx="7772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Break-out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645000"/>
            <a:ext cx="7772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Facilitated discussion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decision aiding tools estimate residual dose with sufficient accuracy so as to distinguish between different countermeasure strategies, giv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tial and temporal var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ertainties about effectiv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factors influencing contaminant  behaviour under specific con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-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current decision support systems and other tools be applied to the management of existing exposure situations resulting from a malicious attac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-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 Group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es in the practical implementation of countermeasure strategies and their optimisation in existing exposure situations and how decision aiding tools can support th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ator: Anne Nisb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What countermeasure strategy?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427120"/>
            <a:ext cx="4105080" cy="273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Japan's soldiers collect fallen leaves during decontamination mission in Fukushima "/>
          <p:cNvPicPr/>
          <p:nvPr/>
        </p:nvPicPr>
        <p:blipFill>
          <a:blip r:embed="rId3"/>
          <a:stretch/>
        </p:blipFill>
        <p:spPr>
          <a:xfrm>
            <a:off x="4500720" y="2421000"/>
            <a:ext cx="4381200" cy="2736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02080" y="549288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ipyat,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30240" y="551664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kushima prefecture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factors need to be considered when selecting RLs for existing exposure situa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w to select a value for the R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 interim RLs assist when contamination is long li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radiological risk be put into context of other risks associated with carrying out a countermeasure strateg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te, cost, environmental imp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ommunicate the risk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lean is cl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for food and w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for inhabited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ols, hospit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residential 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for the countrys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nd what to prepare in advance for managing existing exposure situations arising from nuclear accid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we have the necessary tools to inform the selection of countermeasure strateg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se too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y adequat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still needs to be develop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-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optimise countermeasure strategies when there are multiple factors to consider that can vary on a site specific and temporal ba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-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10:19Z</dcterms:created>
  <dc:creator>anne.nisbet</dc:creator>
  <dc:description/>
  <dc:language>en-US</dc:language>
  <cp:lastModifiedBy>anne.nisbet</cp:lastModifiedBy>
  <dcterms:modified xsi:type="dcterms:W3CDTF">2012-02-01T18:41:18Z</dcterms:modified>
  <cp:revision>4</cp:revision>
  <dc:subject/>
  <dc:title>Slide 1</dc:title>
</cp:coreProperties>
</file>