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FB0-5897-4833-9AEF-F4C3F205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3560" y="357660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633-4D29-429F-B77F-6E99DD09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624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337-E303-483B-BF6F-EC64D342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156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20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356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156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20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D49-5CC6-4B8D-864C-078C6105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BFD99-5451-41F2-B620-276609316B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50E94-7ACA-41F4-97BE-336BA53FC9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CF1EA-A447-47AD-86A7-7EFD40E0CE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7753A-83BF-40C2-B3E5-A6FACA84AC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671D8-2945-4C4E-BBCB-58744AA88B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560" y="76320"/>
            <a:ext cx="777240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C75C5-8478-44AB-AE9F-E746B490EF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70802-3B1E-413F-AF2D-FE7256B0DE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ED8-F69A-41FA-9096-41978A3C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624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7F5EE-C57A-495A-87CD-500FF2E28B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54A1B-58F6-4B63-8A5C-ACD7186EC8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560" y="357660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9E6B2-20E5-4B68-B452-A4DFBB882C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624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C1984-DBD7-4C92-AE77-097D6C9A11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9156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20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56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9156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20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4BA5C-8019-4417-98E6-0BCF23484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42F-7810-4427-B697-5B461660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5D0-65CB-4F61-971E-D5F054C8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988-C500-4C5B-BF27-43C6C8B5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3560" y="76320"/>
            <a:ext cx="777240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FFB-DDAA-4C4A-AAA9-8588168C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D26-68AD-45E8-8614-D39F7CB4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624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BA6-D80B-4FD8-9EBB-2871F987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C55-BEF4-41B8-BB6D-6194CC41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4"/>
          <p:cNvSpPr/>
          <p:nvPr/>
        </p:nvSpPr>
        <p:spPr>
          <a:xfrm>
            <a:off x="142920" y="6375240"/>
            <a:ext cx="3358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Arial"/>
              </a:rPr>
              <a:t>SÄTEILYTURVAKESKUS • STRÅLSÄKERHETSCENTRAL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Arial"/>
              </a:rPr>
              <a:t>RADIATION AND NUCLEAR SAFETY AUTHOR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4681440" y="5737320"/>
            <a:ext cx="4462560" cy="1120680"/>
            <a:chOff x="4681440" y="5737320"/>
            <a:chExt cx="4462560" cy="1120680"/>
          </a:xfrm>
        </p:grpSpPr>
        <p:pic>
          <p:nvPicPr>
            <p:cNvPr id="2" name="Picture 23" descr="kaari"/>
            <p:cNvPicPr/>
            <p:nvPr/>
          </p:nvPicPr>
          <p:blipFill>
            <a:blip r:embed="rId2"/>
            <a:stretch/>
          </p:blipFill>
          <p:spPr>
            <a:xfrm>
              <a:off x="4681440" y="5737320"/>
              <a:ext cx="44625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6" descr="logo4"/>
            <p:cNvPicPr/>
            <p:nvPr/>
          </p:nvPicPr>
          <p:blipFill>
            <a:blip r:embed="rId3"/>
            <a:stretch/>
          </p:blipFill>
          <p:spPr>
            <a:xfrm>
              <a:off x="7772400" y="6353280"/>
              <a:ext cx="121284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C606-48B4-4C66-AEE3-E2BFC93F0AC3}" type="datetime">
              <a:rPr b="0" lang="fi-FI" sz="900" spc="-1" strike="noStrike">
                <a:solidFill>
                  <a:srgbClr val="004c98"/>
                </a:solidFill>
                <a:latin typeface="Calibri"/>
              </a:rPr>
              <a:t>31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621240" y="6432120"/>
            <a:ext cx="3006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31612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0944-A9D6-4BFA-A364-4EF19AAC38B6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4"/>
          <p:cNvSpPr/>
          <p:nvPr/>
        </p:nvSpPr>
        <p:spPr>
          <a:xfrm>
            <a:off x="142920" y="6375240"/>
            <a:ext cx="3358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Arial"/>
              </a:rPr>
              <a:t>SÄTEILYTURVAKESKUS • STRÅLSÄKERHETSCENTRAL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Arial"/>
              </a:rPr>
              <a:t>RADIATION AND NUCLEAR SAFETY AUTHOR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4681440" y="5737320"/>
            <a:ext cx="4462560" cy="1120680"/>
            <a:chOff x="4681440" y="5737320"/>
            <a:chExt cx="4462560" cy="1120680"/>
          </a:xfrm>
        </p:grpSpPr>
        <p:pic>
          <p:nvPicPr>
            <p:cNvPr id="47" name="Picture 23" descr="kaari"/>
            <p:cNvPicPr/>
            <p:nvPr/>
          </p:nvPicPr>
          <p:blipFill>
            <a:blip r:embed="rId2"/>
            <a:stretch/>
          </p:blipFill>
          <p:spPr>
            <a:xfrm>
              <a:off x="4681440" y="5737320"/>
              <a:ext cx="44625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6" descr="logo4"/>
            <p:cNvPicPr/>
            <p:nvPr/>
          </p:nvPicPr>
          <p:blipFill>
            <a:blip r:embed="rId3"/>
            <a:stretch/>
          </p:blipFill>
          <p:spPr>
            <a:xfrm>
              <a:off x="7772400" y="6353280"/>
              <a:ext cx="121284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531612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8CD4-2E6C-4FC2-9887-3DAD4D3F7271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621240" y="6432120"/>
            <a:ext cx="3006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6981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c98"/>
                </a:solidFill>
                <a:latin typeface="Calibri"/>
              </a:rPr>
              <a:t>Planned reference and intervention levels in Finland</a:t>
            </a:r>
            <a:endParaRPr b="1" lang="en-US" sz="32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428640"/>
            <a:ext cx="6400800" cy="144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imo Mustonen, ST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RIS – ICRP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-8 February 2012, Bratislav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1174-E65E-41D5-88F1-8A3C6D903A08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6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3560" y="2476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Dose criteria and operational intervention level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3FE-7D0A-4C53-AFBF-77BE1B7FA6B6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00280" y="1536840"/>
          <a:ext cx="6924600" cy="4146480"/>
        </p:xfrm>
        <a:graphic>
          <a:graphicData uri="http://schemas.openxmlformats.org/drawingml/2006/table">
            <a:tbl>
              <a:tblPr/>
              <a:tblGrid>
                <a:gridCol w="1755720"/>
                <a:gridCol w="1852560"/>
                <a:gridCol w="3316320"/>
              </a:tblGrid>
              <a:tr h="34920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tective 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cri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perational intervention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556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Evac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0 mSv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heltering indoors lasts over 2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10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40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0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ifting evac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&lt; 10mSv/month and decreasing quick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&lt;10 µSv/h and decresing quick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&lt;4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&lt;4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Temporary reloc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 mSv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(Reference level 20 mSv/first ye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1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4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ermanent re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50 mSv/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00 mSv in life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ifetime ambient dose rate 5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3280" y="26676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Dose criteria and operational intervention level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5949-C21C-45E6-9B61-D64E797D46D0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76240" y="1168560"/>
          <a:ext cx="6924600" cy="4956120"/>
        </p:xfrm>
        <a:graphic>
          <a:graphicData uri="http://schemas.openxmlformats.org/drawingml/2006/table">
            <a:tbl>
              <a:tblPr/>
              <a:tblGrid>
                <a:gridCol w="1755720"/>
                <a:gridCol w="1852560"/>
                <a:gridCol w="3316320"/>
              </a:tblGrid>
              <a:tr h="34596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tective 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cri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perational intervention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571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elf-decontamination of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26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rate close to the skin &lt;0.5 µSv/h over the prevailing dose rate at the monitoring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kin contamina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0.4 – 100 Bq/c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 – 1000 Bq/c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trolled decontamination of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26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rate close to the skin &gt;0.5 µSv/h over the prevailing dose rate at the monitoring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kin contamina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&gt;100 Bq/c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&gt;1000 Bq/c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ending a contaminated person to hos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26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rate close to the skin &gt;2 µSv/h over the prevailing dose rate at the monitoring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kin contamina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&gt;1000 Bq/c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&gt;10 000 Bq/c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trol of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26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&gt;10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40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0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c98"/>
                </a:solidFill>
                <a:latin typeface="Calibri"/>
              </a:rPr>
              <a:t>Purpose and procedure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implement the latest ICRP recommendations (ICRP 103, 109 and 111) into the Finnish authority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guidelines drafted by ST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cess still going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guidelines to be issued by the Ministry of Inter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guidelines separately for early phase and intermediate phase of a radiological emer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E375-51C5-4605-8FDB-169CA3AAB9A6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Protective measures for early phase 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6CEE-5941-40AF-84D8-53BA86FFE1D9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743040" y="1558800"/>
            <a:ext cx="7257960" cy="3936960"/>
            <a:chOff x="743040" y="1558800"/>
            <a:chExt cx="7257960" cy="3936960"/>
          </a:xfrm>
        </p:grpSpPr>
        <p:sp>
          <p:nvSpPr>
            <p:cNvPr id="101" name="Rectangle 31"/>
            <p:cNvSpPr/>
            <p:nvPr/>
          </p:nvSpPr>
          <p:spPr>
            <a:xfrm>
              <a:off x="4563360" y="1923480"/>
              <a:ext cx="3437640" cy="258156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0"/>
            <p:cNvSpPr/>
            <p:nvPr/>
          </p:nvSpPr>
          <p:spPr>
            <a:xfrm>
              <a:off x="745920" y="1914120"/>
              <a:ext cx="3083040" cy="358164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7"/>
            <p:cNvSpPr/>
            <p:nvPr/>
          </p:nvSpPr>
          <p:spPr>
            <a:xfrm>
              <a:off x="745920" y="1558800"/>
              <a:ext cx="3083040" cy="368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ctions concerning popu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18"/>
            <p:cNvSpPr/>
            <p:nvPr/>
          </p:nvSpPr>
          <p:spPr>
            <a:xfrm>
              <a:off x="743040" y="2269440"/>
              <a:ext cx="308592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heltering, partial sheltering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r use of civil defence shelte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19"/>
            <p:cNvSpPr/>
            <p:nvPr/>
          </p:nvSpPr>
          <p:spPr>
            <a:xfrm>
              <a:off x="743040" y="2989440"/>
              <a:ext cx="308592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odine prophylax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20"/>
            <p:cNvSpPr/>
            <p:nvPr/>
          </p:nvSpPr>
          <p:spPr>
            <a:xfrm>
              <a:off x="743040" y="3493440"/>
              <a:ext cx="308592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ccess restrictions 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solation of are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21"/>
            <p:cNvSpPr/>
            <p:nvPr/>
          </p:nvSpPr>
          <p:spPr>
            <a:xfrm>
              <a:off x="743040" y="4213800"/>
              <a:ext cx="308592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vacu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22"/>
            <p:cNvSpPr/>
            <p:nvPr/>
          </p:nvSpPr>
          <p:spPr>
            <a:xfrm>
              <a:off x="743040" y="4717800"/>
              <a:ext cx="308592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tection of workers and oth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eople in outdoor activit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23"/>
            <p:cNvSpPr/>
            <p:nvPr/>
          </p:nvSpPr>
          <p:spPr>
            <a:xfrm>
              <a:off x="4562640" y="1558800"/>
              <a:ext cx="3438360" cy="368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oodstuffs and other produc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24"/>
            <p:cNvSpPr/>
            <p:nvPr/>
          </p:nvSpPr>
          <p:spPr>
            <a:xfrm>
              <a:off x="4560480" y="2278800"/>
              <a:ext cx="344052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ctions concerning agricul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25"/>
            <p:cNvSpPr/>
            <p:nvPr/>
          </p:nvSpPr>
          <p:spPr>
            <a:xfrm>
              <a:off x="4560480" y="2801880"/>
              <a:ext cx="344052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ctions concerning raw materi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nd production pla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6"/>
            <p:cNvSpPr/>
            <p:nvPr/>
          </p:nvSpPr>
          <p:spPr>
            <a:xfrm>
              <a:off x="4560480" y="3550680"/>
              <a:ext cx="344052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trictions and recommendation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cerning trade and use of foodstuff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nd good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Protective measures for </a:t>
            </a:r>
            <a:r>
              <a:rPr b="1" lang="en-GB" sz="2800" spc="-1" strike="noStrike">
                <a:solidFill>
                  <a:srgbClr val="004c98"/>
                </a:solidFill>
                <a:latin typeface="Calibri"/>
              </a:rPr>
              <a:t>intermediate phase </a:t>
            </a: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9859-9CA7-4779-9355-D561BD2E0A16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41"/>
          <p:cNvGrpSpPr/>
          <p:nvPr/>
        </p:nvGrpSpPr>
        <p:grpSpPr>
          <a:xfrm>
            <a:off x="492120" y="1263600"/>
            <a:ext cx="8327880" cy="3936960"/>
            <a:chOff x="492120" y="1263600"/>
            <a:chExt cx="8327880" cy="3936960"/>
          </a:xfrm>
        </p:grpSpPr>
        <p:sp>
          <p:nvSpPr>
            <p:cNvPr id="117" name="Rectangle 5"/>
            <p:cNvSpPr/>
            <p:nvPr/>
          </p:nvSpPr>
          <p:spPr>
            <a:xfrm>
              <a:off x="497880" y="1628280"/>
              <a:ext cx="2739960" cy="3572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6"/>
            <p:cNvSpPr/>
            <p:nvPr/>
          </p:nvSpPr>
          <p:spPr>
            <a:xfrm>
              <a:off x="497880" y="1263600"/>
              <a:ext cx="2739960" cy="368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ctions concerning peo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7"/>
            <p:cNvSpPr/>
            <p:nvPr/>
          </p:nvSpPr>
          <p:spPr>
            <a:xfrm>
              <a:off x="492120" y="1764360"/>
              <a:ext cx="274608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tinuation or lifting of sheltering, partial sheltering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r use of civil defence shelte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9"/>
            <p:cNvSpPr/>
            <p:nvPr/>
          </p:nvSpPr>
          <p:spPr>
            <a:xfrm>
              <a:off x="492120" y="2750760"/>
              <a:ext cx="274608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trol of ac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10"/>
            <p:cNvSpPr/>
            <p:nvPr/>
          </p:nvSpPr>
          <p:spPr>
            <a:xfrm>
              <a:off x="492120" y="3242160"/>
              <a:ext cx="274608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vacu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11"/>
            <p:cNvSpPr/>
            <p:nvPr/>
          </p:nvSpPr>
          <p:spPr>
            <a:xfrm>
              <a:off x="492120" y="3736800"/>
              <a:ext cx="274608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tection of workers and oth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eople in outdoor activit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12"/>
            <p:cNvSpPr/>
            <p:nvPr/>
          </p:nvSpPr>
          <p:spPr>
            <a:xfrm>
              <a:off x="492120" y="4713120"/>
              <a:ext cx="274608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econtamination of peop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3241440" y="1628280"/>
              <a:ext cx="2787840" cy="3572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14"/>
            <p:cNvSpPr/>
            <p:nvPr/>
          </p:nvSpPr>
          <p:spPr>
            <a:xfrm>
              <a:off x="3241440" y="1263600"/>
              <a:ext cx="2787840" cy="6426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ctions on production and living environmen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5"/>
            <p:cNvSpPr/>
            <p:nvPr/>
          </p:nvSpPr>
          <p:spPr>
            <a:xfrm>
              <a:off x="3235320" y="2116800"/>
              <a:ext cx="279360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econtamination of buildings, roads, gardens, residential interiors, vehicles, tools, etc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6"/>
            <p:cNvSpPr/>
            <p:nvPr/>
          </p:nvSpPr>
          <p:spPr>
            <a:xfrm>
              <a:off x="3235320" y="3122280"/>
              <a:ext cx="27936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ecreasing spreading of radio-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ctivity in the environ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18"/>
            <p:cNvSpPr/>
            <p:nvPr/>
          </p:nvSpPr>
          <p:spPr>
            <a:xfrm>
              <a:off x="3235320" y="3879720"/>
              <a:ext cx="279360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triction of use of l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3235320" y="4379760"/>
              <a:ext cx="27936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usiness activities in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taminated are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27"/>
            <p:cNvSpPr/>
            <p:nvPr/>
          </p:nvSpPr>
          <p:spPr>
            <a:xfrm>
              <a:off x="6032160" y="1628280"/>
              <a:ext cx="2787840" cy="3572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Box 28"/>
            <p:cNvSpPr/>
            <p:nvPr/>
          </p:nvSpPr>
          <p:spPr>
            <a:xfrm>
              <a:off x="6032160" y="1263600"/>
              <a:ext cx="2787840" cy="6426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ctions on foodstuffs and wat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9"/>
            <p:cNvSpPr/>
            <p:nvPr/>
          </p:nvSpPr>
          <p:spPr>
            <a:xfrm>
              <a:off x="6026400" y="2040840"/>
              <a:ext cx="27936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trictions on foodstuffs 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rinking wat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30"/>
            <p:cNvSpPr/>
            <p:nvPr/>
          </p:nvSpPr>
          <p:spPr>
            <a:xfrm>
              <a:off x="6026400" y="2779200"/>
              <a:ext cx="279360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trictions on foodstuff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duction and processing, an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use of untreated wate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31"/>
            <p:cNvSpPr/>
            <p:nvPr/>
          </p:nvSpPr>
          <p:spPr>
            <a:xfrm>
              <a:off x="6026400" y="3755880"/>
              <a:ext cx="27936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easures on foodstuff produc- tion and water supply sour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2"/>
            <p:cNvSpPr/>
            <p:nvPr/>
          </p:nvSpPr>
          <p:spPr>
            <a:xfrm>
              <a:off x="6026400" y="4474800"/>
              <a:ext cx="27936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easures on processing of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odstuffs and drinking wate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TextBox 42"/>
          <p:cNvSpPr/>
          <p:nvPr/>
        </p:nvSpPr>
        <p:spPr>
          <a:xfrm>
            <a:off x="1885320" y="5886360"/>
            <a:ext cx="4489200" cy="398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ste containing radioactive sub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Down Arrow 43"/>
          <p:cNvSpPr/>
          <p:nvPr/>
        </p:nvSpPr>
        <p:spPr>
          <a:xfrm>
            <a:off x="3924360" y="5334120"/>
            <a:ext cx="714240" cy="466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Main approach 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 mSv effective residual dose from all exposure pathways during the first year of an emergency as the referenc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a projected dose without protective measures during the first year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gher than 10 mSv, it is necessary to perform protective measures; radiation expose is dominant in decision making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– 10 mSv, protective measures are usually justified but other factors effect decision making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low 1 mSv, the protective measures may be carried out especially if they are easily feasible; other factors are dominant in decision m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2F2A-6D8D-4EF9-B361-F3B5FF47A0B8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Main approach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CD7C-98CD-4AB1-BCFB-9102B67D478B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5" name="Straight Arrow Connector 25"/>
          <p:cNvCxnSpPr/>
          <p:nvPr/>
        </p:nvCxnSpPr>
        <p:spPr>
          <a:xfrm flipV="1">
            <a:off x="1295280" y="5438160"/>
            <a:ext cx="6801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Straight Arrow Connector 28"/>
          <p:cNvCxnSpPr/>
          <p:nvPr/>
        </p:nvCxnSpPr>
        <p:spPr>
          <a:xfrm flipH="1" flipV="1">
            <a:off x="1294560" y="1256760"/>
            <a:ext cx="1080" cy="418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Box 31"/>
          <p:cNvSpPr/>
          <p:nvPr/>
        </p:nvSpPr>
        <p:spPr>
          <a:xfrm>
            <a:off x="459360" y="3009960"/>
            <a:ext cx="77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sidu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os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S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2"/>
          <p:cNvSpPr/>
          <p:nvPr/>
        </p:nvSpPr>
        <p:spPr>
          <a:xfrm>
            <a:off x="8108640" y="527688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897560" y="542916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ar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4"/>
          <p:cNvSpPr/>
          <p:nvPr/>
        </p:nvSpPr>
        <p:spPr>
          <a:xfrm>
            <a:off x="4047480" y="5438880"/>
            <a:ext cx="115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5"/>
          <p:cNvSpPr/>
          <p:nvPr/>
        </p:nvSpPr>
        <p:spPr>
          <a:xfrm>
            <a:off x="6572880" y="542916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cove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37"/>
          <p:cNvSpPr/>
          <p:nvPr/>
        </p:nvSpPr>
        <p:spPr>
          <a:xfrm>
            <a:off x="1235160" y="2631960"/>
            <a:ext cx="11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865800" y="2476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95"/>
          <p:cNvGrpSpPr/>
          <p:nvPr/>
        </p:nvGrpSpPr>
        <p:grpSpPr>
          <a:xfrm>
            <a:off x="1419120" y="2629080"/>
            <a:ext cx="2046240" cy="4680"/>
            <a:chOff x="1419120" y="2629080"/>
            <a:chExt cx="2046240" cy="4680"/>
          </a:xfrm>
        </p:grpSpPr>
        <p:sp>
          <p:nvSpPr>
            <p:cNvPr id="155" name="Straight Connector 39"/>
            <p:cNvSpPr/>
            <p:nvPr/>
          </p:nvSpPr>
          <p:spPr>
            <a:xfrm flipV="1">
              <a:off x="1419120" y="2630880"/>
              <a:ext cx="1374480" cy="2880"/>
            </a:xfrm>
            <a:prstGeom prst="line">
              <a:avLst/>
            </a:prstGeom>
            <a:ln w="19080">
              <a:solidFill>
                <a:srgbClr val="004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6" name="Group 73"/>
            <p:cNvGrpSpPr/>
            <p:nvPr/>
          </p:nvGrpSpPr>
          <p:grpSpPr>
            <a:xfrm>
              <a:off x="2838960" y="2629080"/>
              <a:ext cx="626400" cy="4680"/>
              <a:chOff x="2838960" y="2629080"/>
              <a:chExt cx="626400" cy="4680"/>
            </a:xfrm>
          </p:grpSpPr>
          <p:sp>
            <p:nvSpPr>
              <p:cNvPr id="157" name="Straight Connector 46"/>
              <p:cNvSpPr/>
              <p:nvPr/>
            </p:nvSpPr>
            <p:spPr>
              <a:xfrm>
                <a:off x="2838960" y="26290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Straight Connector 66"/>
              <p:cNvSpPr/>
              <p:nvPr/>
            </p:nvSpPr>
            <p:spPr>
              <a:xfrm>
                <a:off x="2954880" y="26290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Straight Connector 69"/>
              <p:cNvSpPr/>
              <p:nvPr/>
            </p:nvSpPr>
            <p:spPr>
              <a:xfrm>
                <a:off x="3069720" y="26326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Straight Connector 70"/>
              <p:cNvSpPr/>
              <p:nvPr/>
            </p:nvSpPr>
            <p:spPr>
              <a:xfrm>
                <a:off x="3179160" y="26326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Straight Connector 71"/>
              <p:cNvSpPr/>
              <p:nvPr/>
            </p:nvSpPr>
            <p:spPr>
              <a:xfrm>
                <a:off x="3288600" y="262980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Straight Connector 72"/>
              <p:cNvSpPr/>
              <p:nvPr/>
            </p:nvSpPr>
            <p:spPr>
              <a:xfrm>
                <a:off x="3398040" y="26326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3" name="Group 96"/>
          <p:cNvGrpSpPr/>
          <p:nvPr/>
        </p:nvGrpSpPr>
        <p:grpSpPr>
          <a:xfrm>
            <a:off x="3527280" y="3878280"/>
            <a:ext cx="2046600" cy="4680"/>
            <a:chOff x="3527280" y="3878280"/>
            <a:chExt cx="2046600" cy="4680"/>
          </a:xfrm>
        </p:grpSpPr>
        <p:sp>
          <p:nvSpPr>
            <p:cNvPr id="164" name="Straight Connector 97"/>
            <p:cNvSpPr/>
            <p:nvPr/>
          </p:nvSpPr>
          <p:spPr>
            <a:xfrm flipV="1">
              <a:off x="3527280" y="3880080"/>
              <a:ext cx="1374840" cy="2880"/>
            </a:xfrm>
            <a:prstGeom prst="line">
              <a:avLst/>
            </a:prstGeom>
            <a:ln w="19080">
              <a:solidFill>
                <a:srgbClr val="004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5" name="Group 73"/>
            <p:cNvGrpSpPr/>
            <p:nvPr/>
          </p:nvGrpSpPr>
          <p:grpSpPr>
            <a:xfrm>
              <a:off x="4947120" y="3878280"/>
              <a:ext cx="626760" cy="4680"/>
              <a:chOff x="4947120" y="3878280"/>
              <a:chExt cx="626760" cy="4680"/>
            </a:xfrm>
          </p:grpSpPr>
          <p:sp>
            <p:nvSpPr>
              <p:cNvPr id="166" name="Straight Connector 99"/>
              <p:cNvSpPr/>
              <p:nvPr/>
            </p:nvSpPr>
            <p:spPr>
              <a:xfrm>
                <a:off x="4947120" y="38782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Straight Connector 100"/>
              <p:cNvSpPr/>
              <p:nvPr/>
            </p:nvSpPr>
            <p:spPr>
              <a:xfrm>
                <a:off x="5063040" y="38782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Straight Connector 101"/>
              <p:cNvSpPr/>
              <p:nvPr/>
            </p:nvSpPr>
            <p:spPr>
              <a:xfrm>
                <a:off x="5177880" y="38818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Straight Connector 102"/>
              <p:cNvSpPr/>
              <p:nvPr/>
            </p:nvSpPr>
            <p:spPr>
              <a:xfrm>
                <a:off x="5287680" y="38818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Straight Connector 103"/>
              <p:cNvSpPr/>
              <p:nvPr/>
            </p:nvSpPr>
            <p:spPr>
              <a:xfrm>
                <a:off x="5397120" y="387900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Straight Connector 104"/>
              <p:cNvSpPr/>
              <p:nvPr/>
            </p:nvSpPr>
            <p:spPr>
              <a:xfrm>
                <a:off x="5506560" y="38818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2" name="Group 105"/>
          <p:cNvGrpSpPr/>
          <p:nvPr/>
        </p:nvGrpSpPr>
        <p:grpSpPr>
          <a:xfrm>
            <a:off x="5961240" y="5006880"/>
            <a:ext cx="2046240" cy="4680"/>
            <a:chOff x="5961240" y="5006880"/>
            <a:chExt cx="2046240" cy="4680"/>
          </a:xfrm>
        </p:grpSpPr>
        <p:sp>
          <p:nvSpPr>
            <p:cNvPr id="173" name="Straight Connector 106"/>
            <p:cNvSpPr/>
            <p:nvPr/>
          </p:nvSpPr>
          <p:spPr>
            <a:xfrm flipV="1">
              <a:off x="5961240" y="5008680"/>
              <a:ext cx="1374480" cy="2880"/>
            </a:xfrm>
            <a:prstGeom prst="line">
              <a:avLst/>
            </a:prstGeom>
            <a:ln w="19080">
              <a:solidFill>
                <a:srgbClr val="004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4" name="Group 73"/>
            <p:cNvGrpSpPr/>
            <p:nvPr/>
          </p:nvGrpSpPr>
          <p:grpSpPr>
            <a:xfrm>
              <a:off x="7381080" y="5006880"/>
              <a:ext cx="626400" cy="4680"/>
              <a:chOff x="7381080" y="5006880"/>
              <a:chExt cx="626400" cy="4680"/>
            </a:xfrm>
          </p:grpSpPr>
          <p:sp>
            <p:nvSpPr>
              <p:cNvPr id="175" name="Straight Connector 108"/>
              <p:cNvSpPr/>
              <p:nvPr/>
            </p:nvSpPr>
            <p:spPr>
              <a:xfrm>
                <a:off x="7381080" y="50068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Straight Connector 109"/>
              <p:cNvSpPr/>
              <p:nvPr/>
            </p:nvSpPr>
            <p:spPr>
              <a:xfrm>
                <a:off x="7497000" y="50068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aight Connector 110"/>
              <p:cNvSpPr/>
              <p:nvPr/>
            </p:nvSpPr>
            <p:spPr>
              <a:xfrm>
                <a:off x="7611840" y="50104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aight Connector 111"/>
              <p:cNvSpPr/>
              <p:nvPr/>
            </p:nvSpPr>
            <p:spPr>
              <a:xfrm>
                <a:off x="7721280" y="50104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aight Connector 112"/>
              <p:cNvSpPr/>
              <p:nvPr/>
            </p:nvSpPr>
            <p:spPr>
              <a:xfrm>
                <a:off x="7830720" y="500760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aight Connector 113"/>
              <p:cNvSpPr/>
              <p:nvPr/>
            </p:nvSpPr>
            <p:spPr>
              <a:xfrm>
                <a:off x="7940160" y="50104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1" name="Right Arrow 114"/>
          <p:cNvSpPr/>
          <p:nvPr/>
        </p:nvSpPr>
        <p:spPr>
          <a:xfrm rot="3240000">
            <a:off x="2980080" y="3117240"/>
            <a:ext cx="995400" cy="190440"/>
          </a:xfrm>
          <a:prstGeom prst="rightArrow">
            <a:avLst>
              <a:gd name="adj1" fmla="val 50000"/>
              <a:gd name="adj2" fmla="val 50187"/>
            </a:avLst>
          </a:prstGeom>
          <a:solidFill>
            <a:srgbClr val="2894ff"/>
          </a:solidFill>
          <a:ln w="25560">
            <a:solidFill>
              <a:srgbClr val="289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ight Arrow 115"/>
          <p:cNvSpPr/>
          <p:nvPr/>
        </p:nvSpPr>
        <p:spPr>
          <a:xfrm rot="3240000">
            <a:off x="5535360" y="4366800"/>
            <a:ext cx="993960" cy="1908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2894ff"/>
          </a:solidFill>
          <a:ln w="25560">
            <a:solidFill>
              <a:srgbClr val="289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Categories of contamination level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4A11-2565-4026-BBA7-D4E5F04E9D9F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90560" y="1457280"/>
          <a:ext cx="7810560" cy="4522680"/>
        </p:xfrm>
        <a:graphic>
          <a:graphicData uri="http://schemas.openxmlformats.org/drawingml/2006/table">
            <a:tbl>
              <a:tblPr/>
              <a:tblGrid>
                <a:gridCol w="2013120"/>
                <a:gridCol w="1609560"/>
                <a:gridCol w="2151000"/>
                <a:gridCol w="2036880"/>
              </a:tblGrid>
              <a:tr h="10256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tamin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(microSv/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gamma and beta emitters together (Bq/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, in detachable form (Bq/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904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tegory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everly contam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&gt; 1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ver 40 000 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ver 400 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</a:tr>
              <a:tr h="6890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tegory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Heavily contam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 -100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4 000 000 – 40 000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ver 40 000 – 400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</a:tr>
              <a:tr h="6904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tegory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tam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 - 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400 000 - 4 000 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4 000 - 40 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</a:tr>
              <a:tr h="73656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tegory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erately contam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&lt;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s than 400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s than 4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</a:tr>
              <a:tr h="6904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Non-contamina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n the level of normal backgrou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no contamination at all or very low  conta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no contamination at all or very low  conta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Dose criteria and operational intervention level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D1AD-A2DD-4036-BF31-3C378534138C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Group 21"/>
          <p:cNvGrpSpPr/>
          <p:nvPr/>
        </p:nvGrpSpPr>
        <p:grpSpPr>
          <a:xfrm>
            <a:off x="1657800" y="1647720"/>
            <a:ext cx="4730040" cy="2940840"/>
            <a:chOff x="1657800" y="1647720"/>
            <a:chExt cx="4730040" cy="2940840"/>
          </a:xfrm>
        </p:grpSpPr>
        <p:sp>
          <p:nvSpPr>
            <p:cNvPr id="191" name="TextBox 5"/>
            <p:cNvSpPr/>
            <p:nvPr/>
          </p:nvSpPr>
          <p:spPr>
            <a:xfrm>
              <a:off x="1873440" y="1647720"/>
              <a:ext cx="42148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ose criterion (as projected first-year do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6"/>
            <p:cNvSpPr/>
            <p:nvPr/>
          </p:nvSpPr>
          <p:spPr>
            <a:xfrm>
              <a:off x="2438280" y="2505240"/>
              <a:ext cx="31050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mbient dose (equivalent) r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7"/>
            <p:cNvSpPr/>
            <p:nvPr/>
          </p:nvSpPr>
          <p:spPr>
            <a:xfrm>
              <a:off x="1657800" y="3362760"/>
              <a:ext cx="47300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irborne concentration (alpha, beta and gamm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8"/>
            <p:cNvSpPr/>
            <p:nvPr/>
          </p:nvSpPr>
          <p:spPr>
            <a:xfrm>
              <a:off x="1998720" y="4220280"/>
              <a:ext cx="39740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rface activity (alpha, beta and gamm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Down Arrow 11"/>
            <p:cNvSpPr/>
            <p:nvPr/>
          </p:nvSpPr>
          <p:spPr>
            <a:xfrm>
              <a:off x="3740040" y="2095560"/>
              <a:ext cx="171360" cy="33336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Down Arrow 12"/>
            <p:cNvSpPr/>
            <p:nvPr/>
          </p:nvSpPr>
          <p:spPr>
            <a:xfrm>
              <a:off x="3736800" y="2965680"/>
              <a:ext cx="171360" cy="33336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Down Arrow 13"/>
            <p:cNvSpPr/>
            <p:nvPr/>
          </p:nvSpPr>
          <p:spPr>
            <a:xfrm>
              <a:off x="3746520" y="3807360"/>
              <a:ext cx="171360" cy="33336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6320" y="219240"/>
            <a:ext cx="7772400" cy="52992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Dose criteria and operational intervention level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8350-45DF-443C-B9BB-505E7F46C101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05040" y="884160"/>
          <a:ext cx="6610320" cy="5345280"/>
        </p:xfrm>
        <a:graphic>
          <a:graphicData uri="http://schemas.openxmlformats.org/drawingml/2006/table">
            <a:tbl>
              <a:tblPr/>
              <a:tblGrid>
                <a:gridCol w="1819080"/>
                <a:gridCol w="1625760"/>
                <a:gridCol w="3165480"/>
              </a:tblGrid>
              <a:tr h="3160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tective 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cri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perational intervention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388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heltering indo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 mSv/2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10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centration in ai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1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beta emitters 5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gamma emitters 1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40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0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artial sheltering indo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856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56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 – 10 mSv/2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1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centration in ai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0,1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beta emitters 5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gamma emitters 1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4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ifting the sheltering indo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&lt; 10 mSv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&lt;1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&lt;4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&lt;4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Iodine prophylax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0 mGy to thyroid (adul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 mGy to thyroid (childr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0 µSv/h for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 µSv/h for child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I-131 concentration in ai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dults 10 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ildren 1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8:07:06Z</dcterms:created>
  <dc:creator>Raimo Mustonen</dc:creator>
  <dc:description/>
  <dc:language>en-US</dc:language>
  <cp:lastModifiedBy>Raimo Mustonen</cp:lastModifiedBy>
  <dcterms:modified xsi:type="dcterms:W3CDTF">2012-01-27T13:04:05Z</dcterms:modified>
  <cp:revision>23</cp:revision>
  <dc:subject/>
  <dc:title>Planned reference and intervention levels in Finland</dc:title>
</cp:coreProperties>
</file>