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E0B-2CF3-4F39-B825-0819365C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A6B-D0C0-467B-93EA-B1CF3BF6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863-C00B-4195-9D82-A889F829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808-61BF-4BF1-9CD0-166F8881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5423-3BB2-4A32-89D0-938DB2F6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A16-7D34-448A-B0E1-47FDBA77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E341-141B-4479-BC6A-D25EE056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1EED-886E-4EB9-B8AA-EE9A6980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130A-1B0B-4C4B-A516-3A877BC7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E635-BEE4-46DD-A2C6-7D23E0A8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D347-DB46-4A9E-BA40-681B504B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F92-D544-4776-8D9C-F55E5C9E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E4C6-EABB-4580-AA63-1611EB9E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4E2F-ABEC-49A1-8555-DC3D25A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9483-EE2B-4309-9575-AD881154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B144-3828-4FBE-9ABF-9A2DCA86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99E2-C01F-4DC1-8F45-61F5059D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9B7-44F8-4A44-A862-8D85A194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5D3-B8EB-48FD-BA66-7D419C7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3C5-3F46-4F8D-9A3C-FA898187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2F4-8473-4F63-8BAD-643B48A1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CBD-F7E0-46B2-94F3-BA16E0E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FED-3F97-4F48-82BD-A2B1DDF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C56-F1E1-4B1F-9814-5E8389B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AED1-81F6-4F54-83E9-CEAE3D83A9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6052-F799-40F1-9AEB-31D5DBD1B724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68360" y="191628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rking Group 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BUT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racterise vulnerabilities (zon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re information needed on long term behaviour of many radionucl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adequate calibration of monitoring equipment (aerial surveys) leading to bad management dec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042920" y="214200"/>
            <a:ext cx="8101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re the right tools available (2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ess overall evolution of residual d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ies exposure pathways and points to interv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ables elimination of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vides audit trail of decisions (BAT – resulting from expert knowledge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pplication of D.A.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n't include uncertain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y not be able to distinguish between similar sets of options on basis of residual d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suitable for malicious 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fferent source terms, particle size, deposition velocity, physico-chemic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pplication of D.A.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orking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llenges in the practical implementation of countermeasure strategies and their optimisation in existing exposure situations and how decision aiding tools can support th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derator: Anne Nisb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pproach ta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ound table intro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lection and reframing of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cu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change of no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scussion top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clean is cl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 we have the necessary tools for managing existing exposure situations? If not, what else can be d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can decision-aiding tools in particular, be used in existing exposure situ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ale (small vs lar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litical factors – respo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ident or malic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ust in auth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edness, awareness,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o participates in de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laces for dialogue at the local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w clean is clea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ing of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ing of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verted dose vs social, ethical, env imp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oritisation of needs in the local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to clean and to what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ceptance of individual p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y/go; self-help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w clean is clea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6920" y="2017440"/>
            <a:ext cx="7767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ccesses from Jap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lture of re-building following natural disa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cal initiatives and networks for decontamination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vailability of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chnical approaches, monitor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cial network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w clean is clean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GRICP and ERM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od production; inhabited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I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ANOS Recovery Hand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od production; inhabited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AGE Handbook  + CODIR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P 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560" y="23796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re the right tools availabl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BUT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l tools need revising post Fukush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additional ‘simple’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app for I-Ph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new training programm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on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gage stakeholders for dialogue under non-crisis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042920" y="214200"/>
            <a:ext cx="8101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re the right tools available (2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10:19Z</dcterms:created>
  <dc:creator>anne.nisbet</dc:creator>
  <dc:description/>
  <dc:language>en-US</dc:language>
  <cp:lastModifiedBy>Anne.Nisbet</cp:lastModifiedBy>
  <dcterms:modified xsi:type="dcterms:W3CDTF">2012-02-07T23:07:51Z</dcterms:modified>
  <cp:revision>22</cp:revision>
  <dc:subject/>
  <dc:title>Slide 1</dc:title>
</cp:coreProperties>
</file>