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663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8756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3774960" y="0"/>
            <a:ext cx="288792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851040" y="742680"/>
            <a:ext cx="49608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rebuchet MS"/>
              </a:rPr>
              <a:t>Click to move the slide</a:t>
            </a: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84840" cy="44686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5"/>
          </p:nvPr>
        </p:nvSpPr>
        <p:spPr>
          <a:xfrm>
            <a:off x="-360" y="9429840"/>
            <a:ext cx="288756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6"/>
          </p:nvPr>
        </p:nvSpPr>
        <p:spPr>
          <a:xfrm>
            <a:off x="3774960" y="9429840"/>
            <a:ext cx="288792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43647FF1-A252-479B-AF5B-05967B18450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031"/>
          <p:cNvSpPr/>
          <p:nvPr/>
        </p:nvSpPr>
        <p:spPr>
          <a:xfrm>
            <a:off x="3774960" y="9429840"/>
            <a:ext cx="2887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85BD20ED-1C97-4D81-AC4D-2AC8ACC10257}" type="slidenum">
              <a:rPr b="0" lang="en-GB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851040" y="74304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84840" cy="447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A39BF-55CE-4253-9864-07B93AEC78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8077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7720" y="3713400"/>
            <a:ext cx="8077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AEF60-19CC-4E5E-A6BA-CFEE0BF033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77000" y="152388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7720" y="371340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77000" y="371340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1DC08-CD2C-4797-9552-BF8A3F08D8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260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68680" y="1523880"/>
            <a:ext cx="260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00000" y="1523880"/>
            <a:ext cx="260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37720" y="3713400"/>
            <a:ext cx="260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68680" y="3713400"/>
            <a:ext cx="260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00000" y="3713400"/>
            <a:ext cx="260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BD9B3-3575-4AA0-9A3E-093DA887A7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048A0-6334-4167-A306-E19C032DC59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37720" y="15238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6752A-3CA6-4ACA-A0D9-496F3D0D8CD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5F920-F829-4203-93D5-0938463B9B0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3941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77000" y="1523880"/>
            <a:ext cx="3941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95C49-F9D4-49B9-A357-6E7422A4055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0AB5D-ABCB-424D-9A75-FB691C10566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03A33-CB20-4440-AB45-8420CC5D168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77000" y="1523880"/>
            <a:ext cx="3941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837720" y="371340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29F0F-6A3F-4836-9B1D-A419F314AE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37720" y="15238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C7CBF-8E7B-4C79-9E32-C2E7EA0C54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3941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7000" y="152388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77000" y="371340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37CF3-D514-47D4-8B10-F28738CBAC8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7000" y="152388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37720" y="3713400"/>
            <a:ext cx="8077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14A67-6E19-41C1-B985-6A2C54203E1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8077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837720" y="3713400"/>
            <a:ext cx="8077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09D0A-3CB3-431D-A084-532F6A77FA7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7000" y="152388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7720" y="371340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977000" y="371340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18AE5-BCFD-49DC-B106-169784FF507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260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68680" y="1523880"/>
            <a:ext cx="260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300000" y="1523880"/>
            <a:ext cx="260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837720" y="3713400"/>
            <a:ext cx="260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68680" y="3713400"/>
            <a:ext cx="260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300000" y="3713400"/>
            <a:ext cx="260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F58A9-FA00-4F7C-B47B-958CEAE6B0E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E445-013E-4F9D-99D8-5EF39FED44F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837720" y="15238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3980-1659-4C78-9AAE-3C393ACE1F8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17AF-3785-4C9E-8DCD-8398E376B39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3941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77000" y="1523880"/>
            <a:ext cx="3941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0B2E-5D02-481A-93CC-A5985714605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5675-D3BE-41F2-AAB8-359129B436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E4423-32E4-4B77-90BA-01BCF609870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2AEC-4A72-4F5D-B42C-D9B71B824CD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77000" y="1523880"/>
            <a:ext cx="3941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837720" y="371340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013D-5112-446B-AF28-8918FCD355D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3941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77000" y="152388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977000" y="371340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EC2D-779F-42AB-8278-80CDCC8E429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77000" y="152388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837720" y="3713400"/>
            <a:ext cx="8077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05FD-5E8D-4BDA-A610-8997EB6E668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8077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837720" y="3713400"/>
            <a:ext cx="8077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DAD2-79CB-4900-9BDB-D24875A316D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77000" y="152388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7720" y="371340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977000" y="371340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21AB-2733-4286-A67E-4824B926184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260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568680" y="1523880"/>
            <a:ext cx="260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300000" y="1523880"/>
            <a:ext cx="260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837720" y="3713400"/>
            <a:ext cx="260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568680" y="3713400"/>
            <a:ext cx="260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300000" y="3713400"/>
            <a:ext cx="260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496C-0694-4CE5-B61A-D35CE5FB3F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3941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77000" y="1523880"/>
            <a:ext cx="3941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75BBE-9143-4F75-BBC6-9F602F4D83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20812-5A60-4478-A2ED-C40684D6E4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FCC15-1EC1-4557-A0B7-E43AA475F4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77000" y="1523880"/>
            <a:ext cx="3941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37720" y="371340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08813-5909-416B-9DA3-2A30BEA5C8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3941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77000" y="152388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77000" y="371340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B3C19-CC5F-4D15-AFBE-E943AF74B7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77000" y="152388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7720" y="3713400"/>
            <a:ext cx="8077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9D2FC-122C-41B6-834F-CC1BEDC50F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15238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rebuchet MS"/>
              </a:rPr>
              <a:t>Click to edit the outline text format</a:t>
            </a: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rebuchet MS"/>
              </a:rPr>
              <a:t>Second Outline Level</a:t>
            </a: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rebuchet MS"/>
              </a:rPr>
              <a:t>Third Outline Level</a:t>
            </a: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ffff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rebuchet MS"/>
              </a:rPr>
              <a:t>Fourth Outline Level</a:t>
            </a: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ffff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rebuchet MS"/>
              </a:rPr>
              <a:t>Fifth Outline Level</a:t>
            </a: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rebuchet MS"/>
              </a:rPr>
              <a:t>Sixth Outline Level</a:t>
            </a: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rebuchet MS"/>
              </a:rPr>
              <a:t>Seventh Outline Level</a:t>
            </a: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BCC5D-E68A-4FE4-B30D-A1F926095D60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837720" y="15238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rebuchet MS"/>
              </a:rPr>
              <a:t>Click to edit the outline text format</a:t>
            </a: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rebuchet MS"/>
              </a:rPr>
              <a:t>Second Outline Level</a:t>
            </a: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rebuchet MS"/>
              </a:rPr>
              <a:t>Third Outline Level</a:t>
            </a: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ffff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rebuchet MS"/>
              </a:rPr>
              <a:t>Fourth Outline Level</a:t>
            </a: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ffff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rebuchet MS"/>
              </a:rPr>
              <a:t>Fifth Outline Level</a:t>
            </a: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rebuchet MS"/>
              </a:rPr>
              <a:t>Sixth Outline Level</a:t>
            </a: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rebuchet MS"/>
              </a:rPr>
              <a:t>Seventh Outline Level</a:t>
            </a: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75C9D-26BC-49D9-A8DA-D4B7DB811448}" type="slidenum">
              <a:rPr b="0" lang="en-GB" sz="10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Line 17"/>
          <p:cNvSpPr/>
          <p:nvPr/>
        </p:nvSpPr>
        <p:spPr>
          <a:xfrm>
            <a:off x="685800" y="1371600"/>
            <a:ext cx="8229600" cy="0"/>
          </a:xfrm>
          <a:prstGeom prst="line">
            <a:avLst/>
          </a:prstGeom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7720" y="15238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rebuchet MS"/>
              </a:rPr>
              <a:t>Click to edit the outline text format</a:t>
            </a: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rebuchet MS"/>
              </a:rPr>
              <a:t>Second Outline Level</a:t>
            </a: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rebuchet MS"/>
              </a:rPr>
              <a:t>Third Outline Level</a:t>
            </a: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ffff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rebuchet MS"/>
              </a:rPr>
              <a:t>Fourth Outline Level</a:t>
            </a: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ffff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rebuchet MS"/>
              </a:rPr>
              <a:t>Fifth Outline Level</a:t>
            </a: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rebuchet MS"/>
              </a:rPr>
              <a:t>Sixth Outline Level</a:t>
            </a: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rebuchet MS"/>
              </a:rPr>
              <a:t>Seventh Outline Level</a:t>
            </a: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Num" idx="3"/>
          </p:nvPr>
        </p:nvSpPr>
        <p:spPr>
          <a:xfrm>
            <a:off x="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15A41-CFEA-4D1C-BCFA-BBAF129BD3D9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53360" cy="417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rebuchet MS"/>
              </a:rPr>
              <a:t>Up-Scaling RP Measures for Emergency and Post-Emergency and the Need for Refinements further to the ICRP General Recommendations</a:t>
            </a:r>
            <a:br>
              <a:rPr sz="3600"/>
            </a:br>
            <a:br>
              <a:rPr sz="3600"/>
            </a:br>
            <a:r>
              <a:rPr b="1" i="1" lang="en-US" sz="2800" spc="-1" strike="noStrike">
                <a:solidFill>
                  <a:srgbClr val="ffff00"/>
                </a:solidFill>
                <a:latin typeface="Trebuchet MS"/>
              </a:rPr>
              <a:t>Plenary Session I:</a:t>
            </a:r>
            <a:br>
              <a:rPr sz="2800"/>
            </a:br>
            <a:r>
              <a:rPr b="1" i="1" lang="en-US" sz="2800" spc="-1" strike="noStrike">
                <a:solidFill>
                  <a:srgbClr val="ffff00"/>
                </a:solidFill>
                <a:latin typeface="Trebuchet MS"/>
              </a:rPr>
              <a:t>ICRP recommendations and their application</a:t>
            </a:r>
            <a:endParaRPr b="1" lang="en-US" sz="28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7010280" y="1219320"/>
            <a:ext cx="22100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7" name="Oval 6"/>
          <p:cNvSpPr/>
          <p:nvPr/>
        </p:nvSpPr>
        <p:spPr>
          <a:xfrm>
            <a:off x="6429240" y="5715000"/>
            <a:ext cx="2643480" cy="1000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pic>
        <p:nvPicPr>
          <p:cNvPr id="128" name="Picture 1" descr="WNAlogo"/>
          <p:cNvPicPr/>
          <p:nvPr/>
        </p:nvPicPr>
        <p:blipFill>
          <a:blip r:embed="rId1"/>
          <a:stretch/>
        </p:blipFill>
        <p:spPr>
          <a:xfrm>
            <a:off x="7072200" y="5929200"/>
            <a:ext cx="1500480" cy="61776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0"/>
              </a:srgbClr>
            </a:outerShdw>
          </a:effectLst>
        </p:spPr>
      </p:pic>
      <p:sp>
        <p:nvSpPr>
          <p:cNvPr id="129" name="Text Box 4"/>
          <p:cNvSpPr/>
          <p:nvPr/>
        </p:nvSpPr>
        <p:spPr>
          <a:xfrm>
            <a:off x="281160" y="5622840"/>
            <a:ext cx="6933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b0f0"/>
                </a:solidFill>
                <a:latin typeface="Trebuchet MS"/>
              </a:rPr>
              <a:t>Sylvain Saint-Pierre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b0f0"/>
                </a:solidFill>
                <a:latin typeface="Trebuchet MS"/>
              </a:rPr>
              <a:t>Director, WNA Outreach Initiative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b0f0"/>
                </a:solidFill>
                <a:latin typeface="Trebuchet MS"/>
              </a:rPr>
              <a:t>Director for Environment and Radiological Protection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b0f0"/>
                </a:solidFill>
                <a:latin typeface="Trebuchet MS"/>
              </a:rPr>
              <a:t>World Nuclear Association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6012000" y="4707000"/>
            <a:ext cx="3205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b0f0"/>
                </a:solidFill>
                <a:latin typeface="Trebuchet MS"/>
              </a:rPr>
              <a:t>First NERIS Platform Workshop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b0f0"/>
                </a:solidFill>
                <a:latin typeface="Trebuchet MS"/>
              </a:rPr>
              <a:t>6-8 February 2012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b0f0"/>
                </a:solidFill>
                <a:latin typeface="Trebuchet MS"/>
              </a:rPr>
              <a:t>Bratislava, Slovak Republic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50560" y="1461960"/>
            <a:ext cx="8893080" cy="52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f0"/>
                </a:solidFill>
                <a:latin typeface="Trebuchet MS"/>
              </a:rPr>
              <a:t>Int’l Policies: Examples of notions to review</a:t>
            </a:r>
            <a:r>
              <a:rPr b="1" lang="en-GB" sz="2400" spc="-1" strike="noStrike">
                <a:solidFill>
                  <a:srgbClr val="ffff00"/>
                </a:solidFill>
                <a:latin typeface="Trebuchet MS"/>
              </a:rPr>
              <a:t> </a:t>
            </a:r>
            <a:endParaRPr b="1" lang="en-US" sz="2400" spc="-1" strike="noStrike">
              <a:solidFill>
                <a:srgbClr val="ffff00"/>
              </a:solidFill>
              <a:latin typeface="Trebuchet MS"/>
            </a:endParaRPr>
          </a:p>
          <a:p>
            <a:pPr marL="272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f0"/>
                </a:solidFill>
                <a:latin typeface="Trebuchet MS"/>
              </a:rPr>
              <a:t>Optimization</a:t>
            </a:r>
            <a:r>
              <a:rPr b="1" lang="en-GB" sz="2400" spc="-1" strike="noStrike">
                <a:solidFill>
                  <a:srgbClr val="00b0f0"/>
                </a:solidFill>
                <a:latin typeface="Trebuchet MS"/>
              </a:rPr>
              <a:t> </a:t>
            </a:r>
            <a:r>
              <a:rPr b="1" lang="en-GB" sz="2400" spc="-1" strike="noStrike">
                <a:solidFill>
                  <a:srgbClr val="ffff00"/>
                </a:solidFill>
                <a:latin typeface="Trebuchet MS"/>
              </a:rPr>
              <a:t>: To which extent it is practically applicable during an emergency and afterward?</a:t>
            </a:r>
            <a:endParaRPr b="1" lang="en-US" sz="2400" spc="-1" strike="noStrike">
              <a:solidFill>
                <a:srgbClr val="ffff00"/>
              </a:solidFill>
              <a:latin typeface="Trebuchet MS"/>
            </a:endParaRPr>
          </a:p>
          <a:p>
            <a:pPr marL="272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f0"/>
                </a:solidFill>
                <a:latin typeface="Trebuchet MS"/>
              </a:rPr>
              <a:t>‘</a:t>
            </a:r>
            <a:r>
              <a:rPr b="1" lang="en-GB" sz="2800" spc="-1" strike="noStrike" u="sng">
                <a:solidFill>
                  <a:srgbClr val="00b0f0"/>
                </a:solidFill>
                <a:uFillTx/>
                <a:latin typeface="Trebuchet MS"/>
              </a:rPr>
              <a:t>Voluntary</a:t>
            </a:r>
            <a:r>
              <a:rPr b="1" lang="en-GB" sz="2800" spc="-1" strike="noStrike">
                <a:solidFill>
                  <a:srgbClr val="00b0f0"/>
                </a:solidFill>
                <a:latin typeface="Trebuchet MS"/>
              </a:rPr>
              <a:t> responders’</a:t>
            </a:r>
            <a:r>
              <a:rPr b="1" lang="en-GB" sz="2400" spc="-1" strike="noStrike">
                <a:solidFill>
                  <a:srgbClr val="ffff00"/>
                </a:solidFill>
                <a:latin typeface="Trebuchet MS"/>
              </a:rPr>
              <a:t>? If most experienced staff are not willing to respond voluntary, then what?</a:t>
            </a:r>
            <a:endParaRPr b="1" lang="en-US" sz="2400" spc="-1" strike="noStrike">
              <a:solidFill>
                <a:srgbClr val="ffff00"/>
              </a:solidFill>
              <a:latin typeface="Trebuchet MS"/>
            </a:endParaRPr>
          </a:p>
          <a:p>
            <a:pPr marL="272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b0f0"/>
                </a:solidFill>
                <a:latin typeface="Trebuchet MS"/>
              </a:rPr>
              <a:t>Transition between emergency </a:t>
            </a:r>
            <a:r>
              <a:rPr b="1" lang="en-GB" sz="2400" spc="-1" strike="noStrike">
                <a:solidFill>
                  <a:srgbClr val="ffff00"/>
                </a:solidFill>
                <a:latin typeface="Trebuchet MS"/>
              </a:rPr>
              <a:t>(e.g. several months) </a:t>
            </a:r>
            <a:r>
              <a:rPr b="1" lang="en-GB" sz="2400" spc="-1" strike="noStrike">
                <a:solidFill>
                  <a:srgbClr val="00b0f0"/>
                </a:solidFill>
                <a:latin typeface="Trebuchet MS"/>
              </a:rPr>
              <a:t>and post-emergency</a:t>
            </a:r>
            <a:r>
              <a:rPr b="1" lang="en-GB" sz="2400" spc="-1" strike="noStrike">
                <a:solidFill>
                  <a:srgbClr val="ffff00"/>
                </a:solidFill>
                <a:latin typeface="Trebuchet MS"/>
              </a:rPr>
              <a:t> (e.g. several decades): How should it be managed, including all applicable rules?</a:t>
            </a:r>
            <a:endParaRPr b="1" lang="en-US" sz="24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86D64-5263-450B-B9ED-B115EA8C035B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539280" y="15192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b0f0"/>
                </a:solidFill>
                <a:latin typeface="Trebuchet MS"/>
              </a:rPr>
              <a:t>RP for emergency/post-emergency</a:t>
            </a: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1461600"/>
            <a:ext cx="9144000" cy="53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352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f0"/>
                </a:solidFill>
                <a:latin typeface="Trebuchet MS"/>
              </a:rPr>
              <a:t>Reference levels for responders: </a:t>
            </a:r>
            <a:r>
              <a:rPr b="1" lang="en-GB" sz="2400" spc="-1" strike="noStrike">
                <a:solidFill>
                  <a:srgbClr val="ffff00"/>
                </a:solidFill>
                <a:latin typeface="Trebuchet MS"/>
              </a:rPr>
              <a:t>Important not to overlook subtleties of numerical values (ICRP 103, p.117)</a:t>
            </a:r>
            <a:endParaRPr b="1" lang="en-US" sz="2400" spc="-1" strike="noStrike">
              <a:solidFill>
                <a:srgbClr val="ffff00"/>
              </a:solidFill>
              <a:latin typeface="Trebuchet MS"/>
            </a:endParaRPr>
          </a:p>
          <a:p>
            <a:pPr lvl="1" marL="663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f0"/>
                </a:solidFill>
                <a:latin typeface="Trebuchet MS"/>
              </a:rPr>
              <a:t>For </a:t>
            </a:r>
            <a:r>
              <a:rPr b="0" lang="en-GB" sz="2400" spc="-1" strike="noStrike" u="sng">
                <a:solidFill>
                  <a:srgbClr val="00b0f0"/>
                </a:solidFill>
                <a:uFillTx/>
                <a:latin typeface="Trebuchet MS"/>
              </a:rPr>
              <a:t>life saving</a:t>
            </a:r>
            <a:r>
              <a:rPr b="0" lang="en-GB" sz="2400" spc="-1" strike="noStrike">
                <a:solidFill>
                  <a:srgbClr val="00b0f0"/>
                </a:solidFill>
                <a:latin typeface="Trebuchet MS"/>
              </a:rPr>
              <a:t>, </a:t>
            </a:r>
            <a:r>
              <a:rPr b="0" lang="en-GB" sz="2400" spc="-1" strike="noStrike">
                <a:solidFill>
                  <a:srgbClr val="ffc000"/>
                </a:solidFill>
                <a:latin typeface="Trebuchet MS"/>
              </a:rPr>
              <a:t>no dose restrictions</a:t>
            </a:r>
            <a:r>
              <a:rPr b="0" lang="en-GB" sz="2400" spc="-1" strike="noStrike">
                <a:solidFill>
                  <a:srgbClr val="00b0f0"/>
                </a:solidFill>
                <a:latin typeface="Trebuchet MS"/>
              </a:rPr>
              <a:t>: If benefit to others outweighs rescuers’ risk</a:t>
            </a:r>
            <a:endParaRPr b="0" lang="en-US" sz="2400" spc="-1" strike="noStrike">
              <a:solidFill>
                <a:srgbClr val="ffff00"/>
              </a:solidFill>
              <a:latin typeface="Trebuchet MS"/>
            </a:endParaRPr>
          </a:p>
          <a:p>
            <a:pPr lvl="1" marL="663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f0"/>
                </a:solidFill>
                <a:latin typeface="Trebuchet MS"/>
              </a:rPr>
              <a:t>For </a:t>
            </a:r>
            <a:r>
              <a:rPr b="0" lang="en-GB" sz="2400" spc="-1" strike="noStrike" u="sng">
                <a:solidFill>
                  <a:srgbClr val="00b0f0"/>
                </a:solidFill>
                <a:uFillTx/>
                <a:latin typeface="Trebuchet MS"/>
              </a:rPr>
              <a:t>other urgent rescue operations</a:t>
            </a:r>
            <a:r>
              <a:rPr b="0" lang="en-GB" sz="2400" spc="-1" strike="noStrike">
                <a:solidFill>
                  <a:srgbClr val="00b0f0"/>
                </a:solidFill>
                <a:latin typeface="Trebuchet MS"/>
              </a:rPr>
              <a:t> (</a:t>
            </a:r>
            <a:r>
              <a:rPr b="0" lang="en-GB" sz="2400" spc="-1" strike="noStrike">
                <a:solidFill>
                  <a:srgbClr val="ffc000"/>
                </a:solidFill>
                <a:latin typeface="Trebuchet MS"/>
              </a:rPr>
              <a:t>&lt;500 mSv</a:t>
            </a:r>
            <a:r>
              <a:rPr b="0" lang="en-GB" sz="2400" spc="-1" strike="noStrike">
                <a:solidFill>
                  <a:srgbClr val="00b0f0"/>
                </a:solidFill>
                <a:latin typeface="Trebuchet MS"/>
              </a:rPr>
              <a:t>) and for </a:t>
            </a:r>
            <a:r>
              <a:rPr b="0" lang="en-GB" sz="2400" spc="-1" strike="noStrike" u="sng">
                <a:solidFill>
                  <a:srgbClr val="00b0f0"/>
                </a:solidFill>
                <a:uFillTx/>
                <a:latin typeface="Trebuchet MS"/>
              </a:rPr>
              <a:t>other rescue operations</a:t>
            </a:r>
            <a:r>
              <a:rPr b="0" lang="en-GB" sz="2400" spc="-1" strike="noStrike">
                <a:solidFill>
                  <a:srgbClr val="00b0f0"/>
                </a:solidFill>
                <a:latin typeface="Trebuchet MS"/>
              </a:rPr>
              <a:t> (</a:t>
            </a:r>
            <a:r>
              <a:rPr b="0" lang="en-GB" sz="2400" spc="-1" strike="noStrike">
                <a:solidFill>
                  <a:srgbClr val="ffc000"/>
                </a:solidFill>
                <a:latin typeface="Trebuchet MS"/>
              </a:rPr>
              <a:t>&lt;100 mSv</a:t>
            </a:r>
            <a:r>
              <a:rPr b="0" lang="en-GB" sz="2400" spc="-1" strike="noStrike">
                <a:solidFill>
                  <a:srgbClr val="00b0f0"/>
                </a:solidFill>
                <a:latin typeface="Trebuchet MS"/>
              </a:rPr>
              <a:t>)</a:t>
            </a:r>
            <a:endParaRPr b="0" lang="en-US" sz="2400" spc="-1" strike="noStrike">
              <a:solidFill>
                <a:srgbClr val="ffff00"/>
              </a:solidFill>
              <a:latin typeface="Trebuchet MS"/>
            </a:endParaRPr>
          </a:p>
          <a:p>
            <a:pPr marL="26352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rebuchet MS"/>
              </a:rPr>
              <a:t>If any, benefit of reducing emergency limit values is unclear</a:t>
            </a:r>
            <a:endParaRPr b="1" lang="en-US" sz="2400" spc="-1" strike="noStrike">
              <a:solidFill>
                <a:srgbClr val="ffff00"/>
              </a:solidFill>
              <a:latin typeface="Trebuchet MS"/>
            </a:endParaRPr>
          </a:p>
          <a:p>
            <a:pPr marL="26352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rebuchet MS"/>
              </a:rPr>
              <a:t>Would an activity involving five inexperienced responders instead of a single experienced one be an improvement?</a:t>
            </a:r>
            <a:endParaRPr b="1" lang="en-US" sz="24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FA516-8ECF-48A8-A67F-006AAAA1A37B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539280" y="15192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b0f0"/>
                </a:solidFill>
                <a:latin typeface="Trebuchet MS"/>
              </a:rPr>
              <a:t>RP for emergency/post-emergency</a:t>
            </a: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250560" y="1461600"/>
            <a:ext cx="8893080" cy="53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352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f0"/>
                </a:solidFill>
                <a:latin typeface="Trebuchet MS"/>
              </a:rPr>
              <a:t>Reference levels for the public: 1, 20, 100 mSv/y</a:t>
            </a:r>
            <a:endParaRPr b="1" lang="en-US" sz="2800" spc="-1" strike="noStrike">
              <a:solidFill>
                <a:srgbClr val="ffff00"/>
              </a:solidFill>
              <a:latin typeface="Trebuchet MS"/>
            </a:endParaRPr>
          </a:p>
          <a:p>
            <a:pPr marL="26352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rebuchet MS"/>
              </a:rPr>
              <a:t>What they really mean in terms of </a:t>
            </a:r>
            <a:r>
              <a:rPr b="1" lang="en-GB" sz="2400" spc="-1" strike="noStrike">
                <a:solidFill>
                  <a:srgbClr val="00b0f0"/>
                </a:solidFill>
                <a:latin typeface="Trebuchet MS"/>
              </a:rPr>
              <a:t>public health</a:t>
            </a:r>
            <a:r>
              <a:rPr b="1" lang="en-GB" sz="2400" spc="-1" strike="noStrike">
                <a:solidFill>
                  <a:srgbClr val="ffff00"/>
                </a:solidFill>
                <a:latin typeface="Trebuchet MS"/>
              </a:rPr>
              <a:t> and of </a:t>
            </a:r>
            <a:r>
              <a:rPr b="1" lang="en-GB" sz="2400" spc="-1" strike="noStrike">
                <a:solidFill>
                  <a:srgbClr val="00b0f0"/>
                </a:solidFill>
                <a:latin typeface="Trebuchet MS"/>
              </a:rPr>
              <a:t>socio-economic</a:t>
            </a:r>
            <a:r>
              <a:rPr b="1" lang="en-GB" sz="2400" spc="-1" strike="noStrike">
                <a:solidFill>
                  <a:srgbClr val="ffff00"/>
                </a:solidFill>
                <a:latin typeface="Trebuchet MS"/>
              </a:rPr>
              <a:t> issues in relation to allowing/disallowing evacuees to return to their homes?</a:t>
            </a:r>
            <a:endParaRPr b="1" lang="en-US" sz="2400" spc="-1" strike="noStrike">
              <a:solidFill>
                <a:srgbClr val="ffff00"/>
              </a:solidFill>
              <a:latin typeface="Trebuchet MS"/>
            </a:endParaRPr>
          </a:p>
          <a:p>
            <a:pPr marL="26352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rebuchet MS"/>
              </a:rPr>
              <a:t>After a major accident, as you cannot know a priori what you would end-up with, is international guidance helpful?</a:t>
            </a:r>
            <a:endParaRPr b="1" lang="en-US" sz="2400" spc="-1" strike="noStrike">
              <a:solidFill>
                <a:srgbClr val="ffff00"/>
              </a:solidFill>
              <a:latin typeface="Trebuchet MS"/>
            </a:endParaRPr>
          </a:p>
          <a:p>
            <a:pPr marL="26352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rebuchet MS"/>
              </a:rPr>
              <a:t>For example, what about a maximal value of 20 mSv/y, and a long term goal of 1 mSv/y?</a:t>
            </a:r>
            <a:endParaRPr b="1" lang="en-US" sz="24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AE6FD-4B20-46F5-87A2-2C5BF9CA8313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539280" y="15192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b0f0"/>
                </a:solidFill>
                <a:latin typeface="Trebuchet MS"/>
              </a:rPr>
              <a:t>RP for emergency/post-emergency</a:t>
            </a: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280" y="15192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b0f0"/>
                </a:solidFill>
                <a:latin typeface="Trebuchet MS"/>
              </a:rPr>
              <a:t>RP for emergency/post-emergency</a:t>
            </a: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395280" y="1557360"/>
            <a:ext cx="8640720" cy="45432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f0"/>
                </a:solidFill>
                <a:latin typeface="Trebuchet MS"/>
                <a:ea typeface="Arial"/>
              </a:rPr>
              <a:t>A subsequent priority (policies &amp; standards):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A 1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rebuchet MS"/>
                <a:ea typeface="Arial"/>
              </a:rPr>
              <a:t>st</a:t>
            </a: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 IAEA review has been launched in Sep 2011 with a duty to report one year later 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Analysis of Fukushima will provide an opportunity to seriously test the ICRP new approach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Industry is committed to deploy effort recognizing though that this is a subsequent priority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0" y="6597720"/>
            <a:ext cx="190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0AE2D-EF6C-4AA2-9084-2CF104F28A4C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280" y="15192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b0f0"/>
                </a:solidFill>
                <a:latin typeface="Trebuchet MS"/>
              </a:rPr>
              <a:t>RP for emergency/post-emergency</a:t>
            </a: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69" name="Text Box 10"/>
          <p:cNvSpPr/>
          <p:nvPr/>
        </p:nvSpPr>
        <p:spPr>
          <a:xfrm>
            <a:off x="395280" y="1704960"/>
            <a:ext cx="8640720" cy="37659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f0"/>
                </a:solidFill>
                <a:latin typeface="Trebuchet MS"/>
                <a:ea typeface="Arial"/>
              </a:rPr>
              <a:t>A subsequent priority (policies &amp; standards):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We recommend a reasonable pace of development that would benefit from the analysis of Fukushima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This should serve as a basis to improve/refine international policies &amp; standards afterward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0" y="6597720"/>
            <a:ext cx="190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8177A-9C5D-4584-8C1B-64828FAE95B1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250560" y="1628280"/>
            <a:ext cx="8893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18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rebuchet MS"/>
              </a:rPr>
              <a:t>National/company choices of RP measures for large scale events will likely vary significantly</a:t>
            </a:r>
            <a:endParaRPr b="1" lang="en-US" sz="2800" spc="-1" strike="noStrike">
              <a:solidFill>
                <a:srgbClr val="ffff00"/>
              </a:solidFill>
              <a:latin typeface="Trebuchet MS"/>
            </a:endParaRPr>
          </a:p>
          <a:p>
            <a:pPr marL="272880" indent="0">
              <a:spcBef>
                <a:spcPts val="18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rebuchet MS"/>
              </a:rPr>
              <a:t>International dialogue (ICRP , IAEA, etc.) will be key to develop a supporting rationale for choices </a:t>
            </a:r>
            <a:endParaRPr b="1" lang="en-US" sz="2800" spc="-1" strike="noStrike">
              <a:solidFill>
                <a:srgbClr val="ffff00"/>
              </a:solidFill>
              <a:latin typeface="Trebuchet MS"/>
            </a:endParaRPr>
          </a:p>
          <a:p>
            <a:pPr marL="272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rebuchet MS"/>
            </a:endParaRPr>
          </a:p>
          <a:p>
            <a:pPr marL="272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rebuchet MS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B93CA-F9DB-436B-9027-A7043E55CA4A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539280" y="15192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b0f0"/>
                </a:solidFill>
                <a:latin typeface="Trebuchet MS"/>
              </a:rPr>
              <a:t>RP for emergency/post-emergency</a:t>
            </a: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</p:spTree>
  </p:cSld>
  <p:transition spd="slow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50560" y="1628280"/>
            <a:ext cx="88930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0">
              <a:spcBef>
                <a:spcPts val="18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rebuchet MS"/>
              </a:rPr>
              <a:t>In-depth understanding of nuclear technologies and of their implementation is key for sound improvements in RP policies/standards </a:t>
            </a:r>
            <a:endParaRPr b="1" lang="en-US" sz="2800" spc="-1" strike="noStrike">
              <a:solidFill>
                <a:srgbClr val="ffff00"/>
              </a:solidFill>
              <a:latin typeface="Trebuchet MS"/>
            </a:endParaRPr>
          </a:p>
          <a:p>
            <a:pPr marL="26172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rebuchet MS"/>
              </a:rPr>
              <a:t>Otherwise, it is not self-evident for policy-makers to really improve policies/standards</a:t>
            </a:r>
            <a:endParaRPr b="1" lang="en-US" sz="2800" spc="-1" strike="noStrike">
              <a:solidFill>
                <a:srgbClr val="ffff00"/>
              </a:solidFill>
              <a:latin typeface="Trebuchet MS"/>
            </a:endParaRPr>
          </a:p>
          <a:p>
            <a:pPr marL="26172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rebuchet MS"/>
              </a:rPr>
              <a:t>Systematic input from nuclear industry leaders should be the norm</a:t>
            </a:r>
            <a:endParaRPr b="1" lang="en-US" sz="28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873F2-F6E5-442B-8D87-CB63930B6DE0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539280" y="15192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b0f0"/>
                </a:solidFill>
                <a:latin typeface="Trebuchet MS"/>
              </a:rPr>
              <a:t>RP for emergency/post-emergency</a:t>
            </a: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3"/>
          <p:cNvSpPr/>
          <p:nvPr/>
        </p:nvSpPr>
        <p:spPr>
          <a:xfrm>
            <a:off x="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7BE0E-484E-4733-8C3C-CEBDAE848D4F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468360" y="1700280"/>
            <a:ext cx="8643960" cy="17838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b0f0"/>
                </a:solidFill>
                <a:latin typeface="Trebuchet MS"/>
              </a:rPr>
              <a:t>Tissue reactions and</a:t>
            </a:r>
            <a:endParaRPr b="0" lang="en-US" sz="4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b0f0"/>
                </a:solidFill>
                <a:latin typeface="Trebuchet MS"/>
              </a:rPr>
              <a:t>non-cancer effects</a:t>
            </a:r>
            <a:endParaRPr b="0" lang="en-US" sz="4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280" y="15192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b0f0"/>
                </a:solidFill>
                <a:latin typeface="Trebuchet MS"/>
              </a:rPr>
              <a:t>Tissue reactions and non-cancer effects</a:t>
            </a: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684360" y="1628640"/>
            <a:ext cx="8351640" cy="39639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ICRP and the RP system were created after the discovery of health casualties from the increased use of X-Rays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The RP system is generally based on the risk (stochastic) of </a:t>
            </a:r>
            <a:r>
              <a:rPr b="1" lang="en-GB" sz="2800" spc="-1" strike="noStrike">
                <a:solidFill>
                  <a:srgbClr val="00b0f0"/>
                </a:solidFill>
                <a:latin typeface="Trebuchet MS"/>
                <a:ea typeface="Arial"/>
              </a:rPr>
              <a:t>cancer and hereditary diseases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In addition, it covers protection against deterministic effects on </a:t>
            </a:r>
            <a:r>
              <a:rPr b="1" lang="en-GB" sz="2800" spc="-1" strike="noStrike">
                <a:solidFill>
                  <a:srgbClr val="00b0f0"/>
                </a:solidFill>
                <a:latin typeface="Trebuchet MS"/>
                <a:ea typeface="Arial"/>
              </a:rPr>
              <a:t>tissues and organs </a:t>
            </a: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that differ from cancer (non-cancer effects)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0" y="6597720"/>
            <a:ext cx="190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52C24-EEB9-43FE-A8CB-2B2A0CB25D75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280" y="15192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b0f0"/>
                </a:solidFill>
                <a:latin typeface="Trebuchet MS"/>
              </a:rPr>
              <a:t>Tissue reactions and non-cancer effects</a:t>
            </a: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684360" y="1628640"/>
            <a:ext cx="8351640" cy="48632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The rapid increase and wider use of radiation-nuclear technology in the medical sector may bring a </a:t>
            </a:r>
            <a:r>
              <a:rPr b="1" lang="en-GB" sz="2800" spc="-1" strike="noStrike">
                <a:solidFill>
                  <a:srgbClr val="00b0f0"/>
                </a:solidFill>
                <a:latin typeface="Trebuchet MS"/>
                <a:ea typeface="Arial"/>
              </a:rPr>
              <a:t>‘game changer’ </a:t>
            </a: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in the RP system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This enhanced use – for beneficial reasons – will likely lead to the emergence of </a:t>
            </a:r>
            <a:r>
              <a:rPr b="1" lang="en-GB" sz="2800" spc="-1" strike="noStrike">
                <a:solidFill>
                  <a:srgbClr val="00b0f0"/>
                </a:solidFill>
                <a:latin typeface="Trebuchet MS"/>
                <a:ea typeface="Arial"/>
              </a:rPr>
              <a:t>statistically significant radio-induced non-cancer effects</a:t>
            </a: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: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rebuchet MS"/>
                <a:ea typeface="Arial"/>
              </a:rPr>
              <a:t>e.g. cataracts, blood circulatory diseases, cardiovascular diseases, etc.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0" y="6597720"/>
            <a:ext cx="190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DB01A-ACDB-45D1-9A6D-BC82ECF7AEB9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280" y="15192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f0"/>
                </a:solidFill>
                <a:latin typeface="Trebuchet MS"/>
              </a:rPr>
              <a:t>Outline</a:t>
            </a: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611280" y="1704960"/>
            <a:ext cx="8424720" cy="44211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f0"/>
                </a:solidFill>
                <a:latin typeface="Trebuchet MS"/>
                <a:ea typeface="Arial"/>
              </a:rPr>
              <a:t>RP for emergency and post-emergency exposures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ffff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RP review/upgrade measures for plants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ffff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International policies &amp; standards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f0"/>
                </a:solidFill>
                <a:latin typeface="Trebuchet MS"/>
                <a:ea typeface="Arial"/>
              </a:rPr>
              <a:t>Tissue reactions and non-cancer effects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-</a:t>
            </a: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Incidence of more or less severe non-fatal health diseases (with many that are curable)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0" y="6597720"/>
            <a:ext cx="190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DE496-7A26-4139-AFD0-D9FF17118832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280" y="15192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b0f0"/>
                </a:solidFill>
                <a:latin typeface="Trebuchet MS"/>
              </a:rPr>
              <a:t>Tissue reactions and non-cancer effects</a:t>
            </a: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539640" y="1628640"/>
            <a:ext cx="8496360" cy="33087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The notion of thresholds for deterministic effects on organs-tissues will likely change as refined knowledge on effects and protection is gained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Correspondingly, ICRP evolved from the notion of ‘</a:t>
            </a:r>
            <a:r>
              <a:rPr b="1" lang="en-GB" sz="2800" spc="-1" strike="noStrike">
                <a:solidFill>
                  <a:srgbClr val="00b0f0"/>
                </a:solidFill>
                <a:latin typeface="Trebuchet MS"/>
                <a:ea typeface="Arial"/>
              </a:rPr>
              <a:t>deterministic effects</a:t>
            </a: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’ to the notion of ‘</a:t>
            </a:r>
            <a:r>
              <a:rPr b="1" lang="en-GB" sz="2800" spc="-1" strike="noStrike">
                <a:solidFill>
                  <a:srgbClr val="00b0f0"/>
                </a:solidFill>
                <a:latin typeface="Trebuchet MS"/>
                <a:ea typeface="Arial"/>
              </a:rPr>
              <a:t>tissue reactions and non-cancer effects</a:t>
            </a: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’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0" y="6597720"/>
            <a:ext cx="190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9FB85-11B7-46CB-990C-0ED90DB2F88B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280" y="15192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b0f0"/>
                </a:solidFill>
                <a:latin typeface="Trebuchet MS"/>
              </a:rPr>
              <a:t>Tissue reactions and non-cancer effects</a:t>
            </a: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89" name="Text Box 10"/>
          <p:cNvSpPr/>
          <p:nvPr/>
        </p:nvSpPr>
        <p:spPr>
          <a:xfrm>
            <a:off x="468360" y="1428840"/>
            <a:ext cx="8567640" cy="37353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Evolving, from general protection against </a:t>
            </a:r>
            <a:r>
              <a:rPr b="1" lang="en-GB" sz="2800" spc="-1" strike="noStrike">
                <a:solidFill>
                  <a:srgbClr val="00b0f0"/>
                </a:solidFill>
                <a:latin typeface="Trebuchet MS"/>
                <a:ea typeface="Arial"/>
              </a:rPr>
              <a:t>cancer and mortality </a:t>
            </a: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to protection against the </a:t>
            </a:r>
            <a:r>
              <a:rPr b="1" lang="en-GB" sz="2800" spc="-1" strike="noStrike">
                <a:solidFill>
                  <a:srgbClr val="00b0f0"/>
                </a:solidFill>
                <a:latin typeface="Trebuchet MS"/>
                <a:ea typeface="Arial"/>
              </a:rPr>
              <a:t>incidence of more or less severe non-fatal health diseases </a:t>
            </a: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(with many that are curable) needs to involve </a:t>
            </a:r>
            <a:r>
              <a:rPr b="1" lang="en-GB" sz="2800" spc="-1" strike="noStrike">
                <a:solidFill>
                  <a:srgbClr val="00b0f0"/>
                </a:solidFill>
                <a:latin typeface="Trebuchet MS"/>
                <a:ea typeface="Arial"/>
              </a:rPr>
              <a:t>well considered judgement calls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This is because it can create significant imbalance in the RP system 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0" y="6597720"/>
            <a:ext cx="190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315DB-253C-465C-B1FD-0F38E9735232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280" y="15192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b0f0"/>
                </a:solidFill>
                <a:latin typeface="Trebuchet MS"/>
              </a:rPr>
              <a:t>Tissue reactions and non-cancer effects</a:t>
            </a: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468360" y="1628640"/>
            <a:ext cx="8567640" cy="9471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Is the change only for the medical sector? Let’s consider the following protection levels: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0" y="6597720"/>
            <a:ext cx="190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2CA72-B6CF-46D2-BDA0-B62B44300C89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539640" y="2690640"/>
            <a:ext cx="8569440" cy="13737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f0"/>
                </a:solidFill>
                <a:latin typeface="Trebuchet MS"/>
                <a:ea typeface="Arial"/>
              </a:rPr>
              <a:t>1% </a:t>
            </a: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incidence (Err/Gy) against the risk of a more or less severe </a:t>
            </a:r>
            <a:r>
              <a:rPr b="1" lang="en-GB" sz="2800" spc="-1" strike="noStrike">
                <a:solidFill>
                  <a:srgbClr val="00b0f0"/>
                </a:solidFill>
                <a:latin typeface="Trebuchet MS"/>
                <a:ea typeface="Arial"/>
              </a:rPr>
              <a:t>non-cancer effects </a:t>
            </a: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(e.g. cataract) 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539640" y="3860640"/>
            <a:ext cx="8568000" cy="520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f0"/>
                </a:solidFill>
                <a:latin typeface="Trebuchet MS"/>
                <a:ea typeface="Arial"/>
              </a:rPr>
              <a:t>5%</a:t>
            </a: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 (%/Sv) against the risk of </a:t>
            </a:r>
            <a:r>
              <a:rPr b="1" lang="en-GB" sz="2800" spc="-1" strike="noStrike">
                <a:solidFill>
                  <a:srgbClr val="00b0f0"/>
                </a:solidFill>
                <a:latin typeface="Trebuchet MS"/>
                <a:ea typeface="Arial"/>
              </a:rPr>
              <a:t>cancer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539640" y="4581360"/>
            <a:ext cx="8568000" cy="520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Is the above coherent?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 spd="slow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280" y="15192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b0f0"/>
                </a:solidFill>
                <a:latin typeface="Trebuchet MS"/>
              </a:rPr>
              <a:t>Tissue reactions and non-cancer effects</a:t>
            </a: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98" name="Text Box 10"/>
          <p:cNvSpPr/>
          <p:nvPr/>
        </p:nvSpPr>
        <p:spPr>
          <a:xfrm>
            <a:off x="468360" y="1628640"/>
            <a:ext cx="8567640" cy="33087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As </a:t>
            </a:r>
            <a:r>
              <a:rPr b="1" lang="en-GB" sz="2800" spc="-1" strike="noStrike">
                <a:solidFill>
                  <a:srgbClr val="00b0f0"/>
                </a:solidFill>
                <a:latin typeface="Trebuchet MS"/>
                <a:ea typeface="Arial"/>
              </a:rPr>
              <a:t>large workforces </a:t>
            </a: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are part of the nuclear industry, any incoherence in the evolution of stochastic health risks related to non-cancer effects is a source of concern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Such a concern would be amplified if a major nuclear accident results in the </a:t>
            </a:r>
            <a:r>
              <a:rPr b="1" lang="en-GB" sz="2800" spc="-1" strike="noStrike">
                <a:solidFill>
                  <a:srgbClr val="00b0f0"/>
                </a:solidFill>
                <a:latin typeface="Trebuchet MS"/>
                <a:ea typeface="Arial"/>
              </a:rPr>
              <a:t>exposure of large populations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0" y="6597720"/>
            <a:ext cx="190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D90C9-C92E-4313-9F29-F944E4BB0E49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280" y="15192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b0f0"/>
                </a:solidFill>
                <a:latin typeface="Trebuchet MS"/>
              </a:rPr>
              <a:t>Tissue reactions and non-cancer effects</a:t>
            </a: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201" name="Text Box 10"/>
          <p:cNvSpPr/>
          <p:nvPr/>
        </p:nvSpPr>
        <p:spPr>
          <a:xfrm>
            <a:off x="684360" y="1628640"/>
            <a:ext cx="8351640" cy="2531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Continued scientific developments on health effects of ionizing radiation are important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We understand ICRP interest in re-examining deterministic effects (tissue reactions and non-cancer effects)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0" y="6597720"/>
            <a:ext cx="190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C61AE-AA7B-4059-B52C-0A1EFDBE634D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280" y="15192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b0f0"/>
                </a:solidFill>
                <a:latin typeface="Trebuchet MS"/>
              </a:rPr>
              <a:t>Tissue reactions and non-cancer effects</a:t>
            </a: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684360" y="1628640"/>
            <a:ext cx="8351640" cy="33087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In seeking such refinements in protection, we invite ICRP to pay increased attention to the fact that the matter is not just about protection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We emphasize that a continued balance must be struck between beneficial activities which cause exposures, and protection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0" y="6597720"/>
            <a:ext cx="190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EC9D2-CF7C-4F6A-B588-823EB5BA609A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9280" y="15192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b0f0"/>
                </a:solidFill>
                <a:latin typeface="Trebuchet MS"/>
              </a:rPr>
              <a:t>In summary</a:t>
            </a: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539640" y="1628640"/>
            <a:ext cx="8352000" cy="39639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On </a:t>
            </a:r>
            <a:r>
              <a:rPr b="1" lang="en-GB" sz="2800" spc="-1" strike="noStrike">
                <a:solidFill>
                  <a:srgbClr val="00b0f0"/>
                </a:solidFill>
                <a:latin typeface="Trebuchet MS"/>
                <a:ea typeface="Arial"/>
              </a:rPr>
              <a:t>RP for emergency/post-emergency</a:t>
            </a: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, RP upgrades are getting deployed at plants (top priority for both industry and regulators)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Post-Fukushima, international policies &amp; standards will need improvements later on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Industry input will be key and we are prepared to fulfil this key role gradually over time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0" y="6597720"/>
            <a:ext cx="190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C430F-E2EE-4C6A-8F1E-52718E8F777D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9280" y="15192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b0f0"/>
                </a:solidFill>
                <a:latin typeface="Trebuchet MS"/>
              </a:rPr>
              <a:t>In summary</a:t>
            </a: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210" name="Text Box 10"/>
          <p:cNvSpPr/>
          <p:nvPr/>
        </p:nvSpPr>
        <p:spPr>
          <a:xfrm>
            <a:off x="539640" y="1558800"/>
            <a:ext cx="8352000" cy="2455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On </a:t>
            </a:r>
            <a:r>
              <a:rPr b="1" lang="en-GB" sz="2800" spc="-1" strike="noStrike">
                <a:solidFill>
                  <a:srgbClr val="00b0f0"/>
                </a:solidFill>
                <a:latin typeface="Trebuchet MS"/>
                <a:ea typeface="Arial"/>
              </a:rPr>
              <a:t>RP refinements</a:t>
            </a: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 (e.g. tissue reactions and non-cancer effects) 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We emphasize that a continued balance must be struck between beneficial activities which cause exposures, and protection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0" y="6597720"/>
            <a:ext cx="190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A2BE2-31BF-4EC6-980D-3A0A00E2FB14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3"/>
          <p:cNvSpPr/>
          <p:nvPr/>
        </p:nvSpPr>
        <p:spPr>
          <a:xfrm>
            <a:off x="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5EE81-49E9-4845-BBC5-4DE5EDE458E2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500040" y="2060640"/>
            <a:ext cx="8643960" cy="7034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rebuchet MS"/>
              </a:rPr>
              <a:t>Thank you for your attention</a:t>
            </a:r>
            <a:endParaRPr b="0" lang="en-US" sz="4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1523880" y="3213000"/>
            <a:ext cx="607248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b0f0"/>
                </a:solidFill>
                <a:latin typeface="Humanst521 BT"/>
                <a:ea typeface="Arial"/>
              </a:rPr>
              <a:t>Questions?</a:t>
            </a:r>
            <a:endParaRPr b="0" lang="en-US" sz="4400" spc="-1" strike="noStrike">
              <a:solidFill>
                <a:srgbClr val="4d4d4d"/>
              </a:solidFill>
              <a:latin typeface="Times New Roman"/>
            </a:endParaRPr>
          </a:p>
          <a:p>
            <a:pPr lvl="1" marL="1904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lvl="1" marL="1904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b0f0"/>
                </a:solidFill>
                <a:latin typeface="Humanst521 BT"/>
                <a:ea typeface="Arial"/>
              </a:rPr>
              <a:t>saintpierre@world-nuclear.org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2195640" y="4581360"/>
            <a:ext cx="460836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b0f0"/>
                </a:solidFill>
                <a:latin typeface="Trebuchet MS"/>
              </a:rPr>
              <a:t>Sylvain Saint-Pierre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b0f0"/>
                </a:solidFill>
                <a:latin typeface="Trebuchet MS"/>
              </a:rPr>
              <a:t>Director, WNA Outreach Initiative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b0f0"/>
                </a:solidFill>
                <a:latin typeface="Trebuchet MS"/>
              </a:rPr>
              <a:t>Director for Environment and Radiological Protection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b0f0"/>
                </a:solidFill>
                <a:latin typeface="Trebuchet MS"/>
              </a:rPr>
              <a:t>World Nuclear Association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0A5E6-61FF-47F1-9F69-27FB7B402981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468360" y="1700280"/>
            <a:ext cx="8643960" cy="17838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b0f0"/>
                </a:solidFill>
                <a:latin typeface="Trebuchet MS"/>
              </a:rPr>
              <a:t>RP for Emergency and</a:t>
            </a:r>
            <a:endParaRPr b="0" lang="en-US" sz="4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b0f0"/>
                </a:solidFill>
                <a:latin typeface="Trebuchet MS"/>
              </a:rPr>
              <a:t>Post-Emergency Exposures</a:t>
            </a:r>
            <a:endParaRPr b="0" lang="en-US" sz="4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280" y="15192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b0f0"/>
                </a:solidFill>
                <a:latin typeface="Trebuchet MS"/>
              </a:rPr>
              <a:t>RP for emergency/post-emergency</a:t>
            </a: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468360" y="1704960"/>
            <a:ext cx="8675640" cy="23796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f0"/>
                </a:solidFill>
                <a:latin typeface="Trebuchet MS"/>
                <a:ea typeface="Arial"/>
              </a:rPr>
              <a:t>Post-Fukushima has set a new context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A severe nuclear accident is possible and it can involve much more than a simple evacuation that last 24-48 hours with people safely returning to their homes shortly afterward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0" y="6597720"/>
            <a:ext cx="190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1475E-5760-488D-BA47-4B2E95AD5917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280" y="15192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b0f0"/>
                </a:solidFill>
                <a:latin typeface="Trebuchet MS"/>
              </a:rPr>
              <a:t>RP for emergency/post-emergency</a:t>
            </a: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468360" y="1704960"/>
            <a:ext cx="8675640" cy="445212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f0"/>
                </a:solidFill>
                <a:latin typeface="Trebuchet MS"/>
                <a:ea typeface="Arial"/>
              </a:rPr>
              <a:t>First priority (measures for plants):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Industry/regulators are reviewing/upgrading measures for plants against 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Trebuchet MS"/>
                <a:ea typeface="Arial"/>
              </a:rPr>
              <a:t>severe</a:t>
            </a: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 accidents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Example of topics: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rebuchet MS"/>
                <a:ea typeface="Arial"/>
              </a:rPr>
              <a:t>Source terms and impacts, evacuation, sheltering, protective and monitoring equipment, etc.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National agendas are the 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Trebuchet MS"/>
                <a:ea typeface="Arial"/>
              </a:rPr>
              <a:t>top priority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0" y="6597720"/>
            <a:ext cx="190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21984-544D-405C-AFD0-C82B8BC80F5A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0"/>
          <p:cNvSpPr/>
          <p:nvPr/>
        </p:nvSpPr>
        <p:spPr>
          <a:xfrm>
            <a:off x="500040" y="1844640"/>
            <a:ext cx="8643960" cy="461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642960" y="1695600"/>
            <a:ext cx="8459640" cy="5060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f0"/>
                </a:solidFill>
                <a:latin typeface="Trebuchet MS"/>
                <a:ea typeface="Arial"/>
              </a:rPr>
              <a:t>First priority (measures for plants):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Intervention for 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Trebuchet MS"/>
                <a:ea typeface="Arial"/>
              </a:rPr>
              <a:t>severe</a:t>
            </a: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 accidents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Ensure capacity for </a:t>
            </a:r>
            <a:r>
              <a:rPr b="1" lang="en-GB" sz="2800" spc="-1" strike="noStrike">
                <a:solidFill>
                  <a:srgbClr val="00b0f0"/>
                </a:solidFill>
                <a:latin typeface="Trebuchet MS"/>
                <a:ea typeface="Arial"/>
              </a:rPr>
              <a:t>on-site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2" marL="800280" indent="-343080">
              <a:lnSpc>
                <a:spcPct val="100000"/>
              </a:lnSpc>
              <a:spcBef>
                <a:spcPts val="1199"/>
              </a:spcBef>
              <a:buClr>
                <a:srgbClr val="00b0f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b0f0"/>
                </a:solidFill>
                <a:latin typeface="Trebuchet MS"/>
                <a:ea typeface="Arial"/>
              </a:rPr>
              <a:t>Upgrade immediate readines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lvl="2" marL="800280" indent="-34308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rebuchet MS"/>
                <a:ea typeface="Arial"/>
              </a:rPr>
              <a:t>Study/redefine/upgrade preparedness and response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Ensure capacity </a:t>
            </a:r>
            <a:r>
              <a:rPr b="1" lang="en-GB" sz="2800" spc="-1" strike="noStrike">
                <a:solidFill>
                  <a:srgbClr val="00b0f0"/>
                </a:solidFill>
                <a:latin typeface="Trebuchet MS"/>
                <a:ea typeface="Arial"/>
              </a:rPr>
              <a:t>off-site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rebuchet MS"/>
                <a:ea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Trebuchet MS"/>
                <a:ea typeface="Arial"/>
              </a:rPr>
              <a:t>-</a:t>
            </a:r>
            <a:r>
              <a:rPr b="1" lang="en-GB" sz="1800" spc="-1" strike="noStrike">
                <a:solidFill>
                  <a:srgbClr val="ffff00"/>
                </a:solidFill>
                <a:latin typeface="Trebuchet MS"/>
                <a:ea typeface="Arial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Trebuchet MS"/>
                <a:ea typeface="Arial"/>
              </a:rPr>
              <a:t>Study/redefine/upgrade preparedness and response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B9CA5-012F-4D76-868A-B0BBE47FA86D}" type="slidenum">
              <a:rPr b="0" lang="en-GB" sz="10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280" y="15192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b0f0"/>
                </a:solidFill>
                <a:latin typeface="Trebuchet MS"/>
              </a:rPr>
              <a:t>RP for emergency/post-emergency</a:t>
            </a: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2920" y="15192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b0f0"/>
                </a:solidFill>
                <a:latin typeface="Trebuchet MS"/>
              </a:rPr>
              <a:t>RP for emergency/post-emergency</a:t>
            </a: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395280" y="1557360"/>
            <a:ext cx="8640720" cy="44067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f0"/>
                </a:solidFill>
                <a:latin typeface="Trebuchet MS"/>
                <a:ea typeface="Arial"/>
              </a:rPr>
              <a:t>A subsequent priority (policies &amp; standards):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ICRP new policies have been ‘</a:t>
            </a:r>
            <a:r>
              <a:rPr b="1" lang="en-GB" sz="2800" spc="-1" strike="noStrike">
                <a:solidFill>
                  <a:srgbClr val="00b0f0"/>
                </a:solidFill>
                <a:latin typeface="Trebuchet MS"/>
                <a:ea typeface="Arial"/>
              </a:rPr>
              <a:t>the only show in town</a:t>
            </a: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’ in terms of some genuine evolution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rebuchet MS"/>
                <a:ea typeface="Arial"/>
              </a:rPr>
              <a:t>No matter how genuine, these policies are tutorial in style and they have not been ‘road tested’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rebuchet MS"/>
                <a:ea typeface="Arial"/>
              </a:rPr>
              <a:t>Moreover, they have been incorporated within the recent revision of the IAEA BSS (March 2011)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rebuchet MS"/>
                <a:ea typeface="Arial"/>
              </a:rPr>
              <a:t>One of the industry regrets is not to have flagged earlier this insufficiency of the IAEA BSS revisio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0" y="6597720"/>
            <a:ext cx="190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CF63B-420A-43B6-B050-B32F71D05873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07640" y="2491920"/>
            <a:ext cx="918036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rebuchet MS"/>
              </a:rPr>
              <a:t>“</a:t>
            </a:r>
            <a:r>
              <a:rPr b="1" i="1" lang="en-GB" sz="2800" spc="-1" strike="noStrike">
                <a:solidFill>
                  <a:srgbClr val="ffff00"/>
                </a:solidFill>
                <a:latin typeface="Trebuchet MS"/>
              </a:rPr>
              <a:t>Refocusing RP on real safety gains</a:t>
            </a:r>
            <a:endParaRPr b="1" lang="en-US" sz="2800" spc="-1" strike="noStrike">
              <a:solidFill>
                <a:srgbClr val="ffff00"/>
              </a:solidFill>
              <a:latin typeface="Trebuchet MS"/>
            </a:endParaRPr>
          </a:p>
          <a:p>
            <a:pPr marL="623880" indent="-351000">
              <a:spcBef>
                <a:spcPts val="1199"/>
              </a:spcBef>
              <a:buClr>
                <a:srgbClr val="00b0f0"/>
              </a:buClr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b0f0"/>
                </a:solidFill>
                <a:latin typeface="Trebuchet MS"/>
              </a:rPr>
              <a:t>RP for workers</a:t>
            </a:r>
            <a:r>
              <a:rPr b="1" i="1" lang="en-GB" sz="2400" spc="-1" strike="noStrike">
                <a:solidFill>
                  <a:srgbClr val="ffff00"/>
                </a:solidFill>
                <a:latin typeface="Trebuchet MS"/>
              </a:rPr>
              <a:t>, especially the most exposed</a:t>
            </a:r>
            <a:endParaRPr b="1" lang="en-US" sz="2400" spc="-1" strike="noStrike">
              <a:solidFill>
                <a:srgbClr val="ffff00"/>
              </a:solidFill>
              <a:latin typeface="Trebuchet MS"/>
            </a:endParaRPr>
          </a:p>
          <a:p>
            <a:pPr marL="62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1" i="1" lang="en-GB" sz="1800" spc="-1" strike="noStrike">
                <a:solidFill>
                  <a:srgbClr val="ffff00"/>
                </a:solidFill>
                <a:latin typeface="Trebuchet MS"/>
              </a:rPr>
              <a:t>– </a:t>
            </a:r>
            <a:r>
              <a:rPr b="1" i="1" lang="en-GB" sz="1800" spc="-1" strike="noStrike">
                <a:solidFill>
                  <a:srgbClr val="ffff00"/>
                </a:solidFill>
                <a:latin typeface="Trebuchet MS"/>
              </a:rPr>
              <a:t>Typically addressed via RP measures</a:t>
            </a:r>
            <a:endParaRPr b="1" lang="en-US" sz="1800" spc="-1" strike="noStrike">
              <a:solidFill>
                <a:srgbClr val="ffff00"/>
              </a:solidFill>
              <a:latin typeface="Trebuchet MS"/>
            </a:endParaRPr>
          </a:p>
          <a:p>
            <a:pPr marL="623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00"/>
                </a:solidFill>
                <a:latin typeface="Trebuchet MS"/>
              </a:rPr>
              <a:t>2)</a:t>
            </a:r>
            <a:r>
              <a:rPr b="1" i="1" lang="en-GB" sz="20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1" i="1" lang="en-GB" sz="2400" spc="-1" strike="noStrike">
                <a:solidFill>
                  <a:srgbClr val="ffff00"/>
                </a:solidFill>
                <a:latin typeface="Trebuchet MS"/>
              </a:rPr>
              <a:t>Risk of public exposures from </a:t>
            </a:r>
            <a:r>
              <a:rPr b="1" i="1" lang="en-GB" sz="2400" spc="-1" strike="noStrike">
                <a:solidFill>
                  <a:srgbClr val="00b0f0"/>
                </a:solidFill>
                <a:latin typeface="Trebuchet MS"/>
              </a:rPr>
              <a:t>major accidental releases</a:t>
            </a:r>
            <a:endParaRPr b="1" lang="en-US" sz="2400" spc="-1" strike="noStrike">
              <a:solidFill>
                <a:srgbClr val="ffff00"/>
              </a:solidFill>
              <a:latin typeface="Trebuchet MS"/>
            </a:endParaRPr>
          </a:p>
          <a:p>
            <a:pPr marL="62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1" i="1" lang="en-GB" sz="1800" spc="-1" strike="noStrike">
                <a:solidFill>
                  <a:srgbClr val="ffff00"/>
                </a:solidFill>
                <a:latin typeface="Trebuchet MS"/>
              </a:rPr>
              <a:t>– </a:t>
            </a:r>
            <a:r>
              <a:rPr b="1" i="1" lang="en-GB" sz="1800" spc="-1" strike="noStrike">
                <a:solidFill>
                  <a:srgbClr val="ffff00"/>
                </a:solidFill>
                <a:latin typeface="Trebuchet MS"/>
              </a:rPr>
              <a:t>Typically addressed via nuclear safety measures (against core melt down and loss of containment) and emergency preparedness and response</a:t>
            </a:r>
            <a:endParaRPr b="1" lang="en-US" sz="18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C138C-266D-47E4-A600-04411E475EF7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574200" y="15192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b0f0"/>
                </a:solidFill>
                <a:latin typeface="Trebuchet MS"/>
              </a:rPr>
              <a:t>Re-centring RP on where it counts the most</a:t>
            </a: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468360" y="1484280"/>
            <a:ext cx="8783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f0"/>
                </a:solidFill>
                <a:latin typeface="Trebuchet MS"/>
              </a:rPr>
              <a:t>WNA report to IAEA RASSC (</a:t>
            </a:r>
            <a:r>
              <a:rPr b="1" lang="en-GB" sz="2800" spc="-1" strike="noStrike" u="sng">
                <a:solidFill>
                  <a:srgbClr val="00b0f0"/>
                </a:solidFill>
                <a:uFillTx/>
                <a:latin typeface="Trebuchet MS"/>
              </a:rPr>
              <a:t>June 2010</a:t>
            </a:r>
            <a:r>
              <a:rPr b="1" lang="en-GB" sz="2800" spc="-1" strike="noStrike">
                <a:solidFill>
                  <a:srgbClr val="00b0f0"/>
                </a:solidFill>
                <a:latin typeface="Trebuchet MS"/>
              </a:rPr>
              <a:t>) contextual to the BSS revision (int’l RP policies):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2920" y="15192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b0f0"/>
                </a:solidFill>
                <a:latin typeface="Trebuchet MS"/>
              </a:rPr>
              <a:t>RP for emergency/post-emergency</a:t>
            </a: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395280" y="1557360"/>
            <a:ext cx="8640720" cy="5198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f0"/>
                </a:solidFill>
                <a:latin typeface="Trebuchet MS"/>
                <a:ea typeface="Arial"/>
              </a:rPr>
              <a:t>A subsequent priority (policies &amp; standards):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As for the up-scaled RP measures that are currently deployed at plants against severe events, </a:t>
            </a:r>
            <a:r>
              <a:rPr b="1" lang="en-GB" sz="2800" spc="-1" strike="noStrike">
                <a:solidFill>
                  <a:srgbClr val="00b0f0"/>
                </a:solidFill>
                <a:latin typeface="Trebuchet MS"/>
                <a:ea typeface="Arial"/>
              </a:rPr>
              <a:t>the review/revision of international RP policies and standards also needs to assume that severe nuclear accidents are possible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There are signs in current RP policies and standards that this needs to be better factor in 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0" y="6597720"/>
            <a:ext cx="190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D0C57-49A8-4913-A42B-ABF484E02BA8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2T15:37:32Z</dcterms:created>
  <dc:creator>Amit Chakrabarti</dc:creator>
  <dc:description/>
  <dc:language>en-US</dc:language>
  <cp:lastModifiedBy>Sylvain</cp:lastModifiedBy>
  <cp:lastPrinted>2012-02-03T15:45:13Z</cp:lastPrinted>
  <dcterms:modified xsi:type="dcterms:W3CDTF">2012-02-06T08:10:48Z</dcterms:modified>
  <cp:revision>655</cp:revision>
  <dc:subject/>
  <dc:title>Pick a title, any title will do…</dc:title>
</cp:coreProperties>
</file>