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82E89-21A8-424A-95FA-62C332AD92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E912B-7E55-40EF-8497-4F2307EC2CC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B8CF5-8962-47DF-BE75-3D16F871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C642F-D487-4ACF-8C6F-AC4062D3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3E550-6DA6-482B-A252-F8B33AEC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70C2E-6DD9-4DDB-810D-CE6D5265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49A1D-5A42-41A9-9CAA-EE3167A6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7F536-2B2C-4A8D-92B0-DA1B36C7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6BEEE-0B27-4C99-8E2A-BE3AA29D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2F597-1D4E-4193-8D40-35BA41F4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0479F-EA47-442F-97A8-22DDE05D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A0B27-FAAD-4F48-B99A-E77D24F6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81060-F8CD-48E7-964D-BA2A4ACBD56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14EBF-1148-4A8E-AEF9-0787CE46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F416A-FC66-43F7-BAD6-3F622658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9B321-E6AE-48E3-8B46-981785A5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8809B-DCFC-4231-BFAE-8DA983ED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C8A50-ECF6-4896-B9A8-10A9FD3C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426DD-95E6-40F0-A3AE-BE6B3D4C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1D684-C88F-4D7B-B97A-DA7F7100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5DA30-7449-4469-90F6-37BA4873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6B67C-95A5-49A1-B729-27FB38DF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6DFC1-BC4D-46CF-B2A1-4CD26EB9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ACF7E-79C3-4C30-8DD8-E35BD184D71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D54A8-E7CE-4C06-8627-1DB8F57D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C4F19-A651-41F0-9175-98BD88AE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9933F-2A3B-48B8-B8ED-3959C4E2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723DA-7860-43F6-ACDA-3BB60DE6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1F48A-C380-49BA-8EED-8E5E8E6F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295A0-9BBC-4B94-BCE3-83C9D530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BD5C2-0C8B-45BC-8015-1494F711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A715C-7CFE-4CCE-A301-AAD00690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9469F-BBB0-4A27-B3A0-D00379B8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B8104-1FA6-414B-921D-0667CD50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3C0A-175A-4DB1-9898-7ACF50C74AF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F9567-010C-4307-AC38-E3D8666D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62248-6D4A-4906-B8DD-7BA26ECB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E9757-9C2C-4FDA-9941-415C41792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69DCD-47FE-4900-B4CD-595388A5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BB4A1-7170-47C3-8B88-665C16FB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16521-2BA2-4182-A8FD-D80641B9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4F634-48EA-49B5-9E8D-86974413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48312-1F75-4BBD-8F0F-51F96BF9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CED18-BDD7-4BB5-A448-91356150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75885-FD02-4582-8FDE-E3A542E0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BAD5-0219-4B2B-816D-83C2ABD7D75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C4060-B2B8-4B83-93B9-83F41F40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DF6ED-6A50-4307-9E9A-1634CF91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D27E4-49A5-4982-A083-A5267EE2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63983-9D4D-4CAE-B0C9-D6B30806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EF168-EFE0-4810-A056-ED399D8F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EB36E-E4CB-499B-BBD1-B7AEA8E27E7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FD762-1AA8-4729-BEE1-7E7D9BB5325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D62D2-0D69-4A9E-ADDC-D41ECC1E9EB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D380A-8CDE-4699-8DB0-1A34D59998E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BD6DD-EAD0-4FD3-953F-92BB8353E2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A577-7458-4A30-8006-10C4DA946BC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FB5FD-42C7-486A-8210-6D3B91702B6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F7455-ECE7-4F09-B97B-0C5388E3612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5BA38-CA3B-42B2-ADE3-FA7BD4710B5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B2D58-158B-4C4A-82E3-8B1B170E367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B075F-8ADE-4487-933E-31532DB5A6C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7B5C8-EAB0-4E8F-AFF9-6072A464EE4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30CEF-1FF6-430E-B9AE-6D95D737E1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E5E8-2A69-4268-A8BA-1965FAB45A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178C-196B-4C1C-BE22-8F1544C9BB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0230-7529-4A16-85DF-3F17CF5CB7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097D-351A-4D57-AACD-96D2104E7C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69890-92F2-4AC1-A58A-6D5C878425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5AE6-DF36-4FB3-8839-8DC9E6D15B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C5F8-DB02-4A23-8FAD-4DBA6A79E3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8186-C4DA-42F0-BBCD-D3ECA6D55A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DA2B-CBCA-4CAA-B68B-3638136677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61A4-C890-4344-9DFF-5D6DE681197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ACE2-759A-48A1-BDC7-4BB239AA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8B9B-2B7D-4A7D-AC2F-B9F3A726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60F8-B106-4255-93DD-F23007B6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4DAC-8943-4B70-B038-EB809923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2378-3C35-4FE9-AD62-DABEBB76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10715-5246-4E7C-9BD2-EDC4046C1A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ED7B-B111-43E4-BAC6-FC1139B8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E0EE-1ED2-4505-8B9E-C6E810D7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52AF-16B6-4204-A843-35631F3B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0FFF-4BEC-461F-A669-EB17CDF7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2904-D9E9-4960-B870-4135AA1A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6920-FA4E-41D2-AD93-292EFED4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5F1B-DC53-456C-A226-508A4251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89A3B-AC3C-40A1-A2F4-054F5817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FAA1B-EA1C-4C85-808B-F73161F7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6BF6F-7402-4425-96CD-04681D49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22095-B55C-4209-910C-A4EDC89D3F1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1C9B0-85D5-4B0F-870C-66BD2D2F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948F5-C153-4F11-90B8-659E7D15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97002-EEDC-44D0-9178-93201FE1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6AD72-707B-4C25-9D9F-F5FF1DB9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BCF40-2006-4769-9DA9-A416F46B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16728-601E-4CAC-9DCB-8C148FED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1781D-074B-4F5D-B243-8744298C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B9327-C7C0-4CC4-86B8-561F6DA1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4BDAE-F7C2-4170-BBC6-A73BCEEF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500DF-3DC0-477A-9408-892D9588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8BD49-32E1-46E2-AA8F-EC7DEC5B2B8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02749-CB29-4AF2-A699-FADD6626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1A8DB-4D81-454D-8058-AAE2A005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ADBF3-61E7-4505-8278-B726ECBB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7E9C5-69EE-4192-BC9F-FE71A48E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EA1F9-564A-43C2-93B2-704D394C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57778-C8A4-4927-ACE7-910C0B7E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C6380-A503-4BCC-91F1-405CFA64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51FD5-7979-4803-938E-EB5D8E3F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11203-D107-4DB8-997E-37579D47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2E60B-7B69-4195-9B3D-1B7AB1F4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3F735-6762-4C15-99C7-F3BF454912F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9A9F4-89FE-4C63-B8B9-84A7D6CF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823F0-4F6B-4564-8056-6E64E55F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A43DD-434B-40A9-9E98-8604BDDE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6E1CE-3873-4AC9-B00B-C9AA2691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757A4-3CF0-460C-8834-0ACBE9A1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72C17-9F2D-4145-B4B0-6FA7041B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DD764-F666-468F-A23D-A2FCE2E8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381E9-6D87-4720-A41A-7259D849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9C4C9-16D6-47C0-B517-FDE04E13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C5883-D41D-4525-BF6D-A1421EB8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82450-7E77-44CC-8D10-E08F344D6C8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CD4FD-1087-4D65-B2F1-E4F791AC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D9289-17CC-46AB-8CE7-41BE9EAB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E4067-52E4-46F7-A6E3-37603719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9454C-97BE-4EA3-B5EC-A3E00B93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1C367-9F77-4B59-850E-BBC25913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1A709-E47F-4FE3-9777-7D83F6C6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75CA7-717D-41F1-ACB1-D2DD6E7E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CBF29-AF4A-421A-BA0B-527DF1E0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5C95B-5748-4CB9-B728-01987106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265C9-6763-40EB-8C55-64E238FC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0939C-A6E8-464D-BA9A-B1AF7C732C4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C0308-9D35-48DC-9107-D508433F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7B211-64A0-4BE7-88BE-3BE84AE1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B8DC8-FB0D-4AD7-B5D6-1D61BBC5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6D6BD-C0A6-4B6E-ADE3-13C6A9A7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262C2-26E7-4318-83FF-F476D3BD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7D8CC-EE1E-423B-A3BD-39BA1412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C70D1-1039-4115-9ED7-610CD723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AE061-618D-43C3-95B2-796581CA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D4C3E-8A2C-4576-9F8F-15FE1042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5ABAD-DDF4-410A-89AA-DFBDD43B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4588C-C2E3-4D45-9903-5DCFEC744B5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99352-1D56-49F5-9744-A110E246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2C5EB-D9EC-465B-A735-AFB27531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A9C7C-1420-42FE-93CD-51015FD1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EA80F-A219-4F2D-9E90-411AEA6C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3252D-4F36-41D9-A759-0CA31046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1B2F1-F054-4806-A46E-8A83DDB25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41F9C-7707-4117-8794-FC842AC9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6E56B-339A-47EF-96A1-B0662974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EF1CD-2A15-4458-84E9-4A3BD823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DF283-8878-4BEF-ACC3-D98F07B9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4c98"/>
                </a:solidFill>
                <a:latin typeface="Times New Roman"/>
              </a:rPr>
              <a:t> </a:t>
            </a:r>
            <a:r>
              <a:rPr b="0" lang="en-GB" sz="900" spc="-1" strike="noStrike">
                <a:solidFill>
                  <a:srgbClr val="004c98"/>
                </a:solidFill>
                <a:latin typeface="Times New Roman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1D76-876F-4D13-A433-C735806DDEE6}" type="slidenum"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dt" idx="26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27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B5F4-180F-40AB-932F-3A58E2E5938C}" type="slidenum"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8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29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30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9A39-B3BA-4525-90A0-889ED5D148C1}" type="slidenum"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1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dt" idx="32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33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2CBA-B3E5-4FD1-9AD7-EC26C53263AC}" type="slidenum"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4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ftr" idx="35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4c98"/>
                </a:solidFill>
                <a:latin typeface="Times New Roman"/>
              </a:rPr>
              <a:t> </a:t>
            </a:r>
            <a:r>
              <a:rPr b="0" lang="en-GB" sz="900" spc="-1" strike="noStrike">
                <a:solidFill>
                  <a:srgbClr val="004c98"/>
                </a:solidFill>
                <a:latin typeface="Times New Roman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36"/>
          </p:nvPr>
        </p:nvSpPr>
        <p:spPr>
          <a:xfrm>
            <a:off x="8100720" y="6453000"/>
            <a:ext cx="3985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B2E0-82DE-4197-B1A6-D75FD663D44D}" type="slidenum"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3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B48E-82BC-4913-88BC-08EC7951B956}" type="slidenum"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4c98"/>
                </a:solidFill>
                <a:latin typeface="Times New Roman"/>
              </a:rPr>
              <a:t>NERIS – ICRP, Bratislava, 6-8 February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8BCC-A79D-408D-A9A3-E0CA7713C23D}" type="slidenum"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98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8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9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CDA2-F024-4A15-8C86-0C4B44EB938D}" type="slidenum"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1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2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177F-E3F9-4AB1-BC96-E1FB34909B37}" type="slidenum"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4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5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E4F7-4784-4662-A87B-00684976B9AD}" type="slidenum"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6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7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8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42D8-A689-432A-BDE6-B93CCBEA4A68}" type="slidenum"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9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20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21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4BAD-710F-4AB9-B2F5-FFEDFC9CAFD5}" type="slidenum"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2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23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4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B09B-77C4-4547-B9E1-C0CE9E8C6EA3}" type="slidenum"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5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u-neris.net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476360" y="4868640"/>
            <a:ext cx="6400800" cy="11588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aimo Mustonen, STU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RIS – ICRP Worksh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-8 February 2012, Bratisla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8172360" y="6453360"/>
            <a:ext cx="400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0326-FB96-4ADB-8584-BBD8B20BE321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ooter Placeholder 4"/>
          <p:cNvSpPr/>
          <p:nvPr/>
        </p:nvSpPr>
        <p:spPr>
          <a:xfrm>
            <a:off x="3059280" y="6453360"/>
            <a:ext cx="3006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4c98"/>
                </a:solidFill>
                <a:latin typeface="Calibri"/>
              </a:rPr>
              <a:t>NERIS – ICRP, Bratislava, 6-8 February 201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1116000" y="1916280"/>
            <a:ext cx="7056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RIS Plat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attempt to enhance European response to and recovery from radiological emergenc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4c98"/>
                </a:solidFill>
                <a:uFillTx/>
                <a:latin typeface="Calibri"/>
                <a:ea typeface="ＭＳ Ｐゴシック"/>
                <a:hlinkClick r:id="rId1"/>
              </a:rPr>
              <a:t>www.eu-neris.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59086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European Platform on Preparedness for Nuclear and Radiological Emergency Response and Recovery</a:t>
            </a:r>
            <a:br>
              <a:rPr sz="2000"/>
            </a:br>
            <a:endParaRPr b="1" lang="en-US" sz="20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8172360" y="6453360"/>
            <a:ext cx="400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88D2-EC1A-455B-B50D-6DC85E4E25BC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3059280" y="6453360"/>
            <a:ext cx="3006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5"/>
          <p:cNvSpPr/>
          <p:nvPr/>
        </p:nvSpPr>
        <p:spPr>
          <a:xfrm>
            <a:off x="755640" y="2349360"/>
            <a:ext cx="806436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al need and desire to maintain the collaboration momemtum gained during the EURANOS project in 2004-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ndency of the EC to aggregate R&amp;D activities in Europe under lager platforms (Technology Platfor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ssion orientation of the platfor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uropea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eed, challenge or problem, rather than simply seek to implement 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ology. That is to say, the focus must be on the overall innovation challenge, including its social- economic- legislative- political- implementational aspects, rather than only the technological issues”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URAB 04.010, 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uropean Research Advice Boar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6"/>
          <p:cNvSpPr/>
          <p:nvPr/>
        </p:nvSpPr>
        <p:spPr>
          <a:xfrm>
            <a:off x="618840" y="1557360"/>
            <a:ext cx="2681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Why NERIS 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lide Number Placeholder 3"/>
          <p:cNvSpPr/>
          <p:nvPr/>
        </p:nvSpPr>
        <p:spPr>
          <a:xfrm>
            <a:off x="8172360" y="6453360"/>
            <a:ext cx="400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23FE-F062-4214-8881-A1E1BBD98839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ooter Placeholder 4"/>
          <p:cNvSpPr/>
          <p:nvPr/>
        </p:nvSpPr>
        <p:spPr>
          <a:xfrm>
            <a:off x="3059280" y="6453360"/>
            <a:ext cx="3006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5"/>
          <p:cNvSpPr/>
          <p:nvPr/>
        </p:nvSpPr>
        <p:spPr>
          <a:xfrm>
            <a:off x="618840" y="1557360"/>
            <a:ext cx="2681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Why NERIS 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Box 6"/>
          <p:cNvSpPr/>
          <p:nvPr/>
        </p:nvSpPr>
        <p:spPr>
          <a:xfrm>
            <a:off x="826920" y="2565360"/>
            <a:ext cx="8066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mergency management includes all these aspects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, economical, legislative, political and implementational, and also technologic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urope: an array of countries with various cultural backgrounds and differences in administrative culture and legis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urope needs more coherent response to nuclear emer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amples: Fukushima, I-131 release in Budapest, (Chernoby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3"/>
          <p:cNvSpPr/>
          <p:nvPr/>
        </p:nvSpPr>
        <p:spPr>
          <a:xfrm>
            <a:off x="8172360" y="6453360"/>
            <a:ext cx="400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C538-B1FF-4AB8-9E12-528727B70F15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3059280" y="6453360"/>
            <a:ext cx="3006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Box 5"/>
          <p:cNvSpPr/>
          <p:nvPr/>
        </p:nvSpPr>
        <p:spPr>
          <a:xfrm>
            <a:off x="681480" y="1557360"/>
            <a:ext cx="3480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Mission of NERI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Box 6"/>
          <p:cNvSpPr/>
          <p:nvPr/>
        </p:nvSpPr>
        <p:spPr>
          <a:xfrm>
            <a:off x="826920" y="2565360"/>
            <a:ext cx="806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fidence buil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couragement of different stakeholders to co-ope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acilitate access to expertise and technology and maintain competence for the benefit of European countries and  citiz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Slide Number Placeholder 3"/>
          <p:cNvSpPr/>
          <p:nvPr/>
        </p:nvSpPr>
        <p:spPr>
          <a:xfrm>
            <a:off x="8172360" y="6453360"/>
            <a:ext cx="400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2361-7735-48AB-86C4-2B5FA8D42FF4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Footer Placeholder 4"/>
          <p:cNvSpPr/>
          <p:nvPr/>
        </p:nvSpPr>
        <p:spPr>
          <a:xfrm>
            <a:off x="3059280" y="6453360"/>
            <a:ext cx="3006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5"/>
          <p:cNvSpPr/>
          <p:nvPr/>
        </p:nvSpPr>
        <p:spPr>
          <a:xfrm>
            <a:off x="679680" y="1557360"/>
            <a:ext cx="3152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Vision of NERI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6"/>
          <p:cNvSpPr/>
          <p:nvPr/>
        </p:nvSpPr>
        <p:spPr>
          <a:xfrm>
            <a:off x="826920" y="2565360"/>
            <a:ext cx="8066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y 2015, the self-sustaining association for development of the joint European approach in responding to and recovering from nuclear and radiological emergencies exists,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y 2020, all European organisations being members of NERIS are sharing common views and common approaches and developing and using compatible technology and methods for consequence management of the emer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Slide Number Placeholder 3"/>
          <p:cNvSpPr/>
          <p:nvPr/>
        </p:nvSpPr>
        <p:spPr>
          <a:xfrm>
            <a:off x="8172360" y="6453360"/>
            <a:ext cx="400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A28C-2C5B-4D14-80AB-7B3C92CB845D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3059280" y="6453360"/>
            <a:ext cx="3006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5"/>
          <p:cNvSpPr/>
          <p:nvPr/>
        </p:nvSpPr>
        <p:spPr>
          <a:xfrm>
            <a:off x="695160" y="1484280"/>
            <a:ext cx="7186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Strategic Research Agenda of NERI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Box 6"/>
          <p:cNvSpPr/>
          <p:nvPr/>
        </p:nvSpPr>
        <p:spPr>
          <a:xfrm>
            <a:off x="826920" y="2349360"/>
            <a:ext cx="806616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tmospheric &amp; aquatic modelling – Needs for improv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Key Topic 1: Atmospheric dispersion model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Key Topic 2: Aquatic dispersion model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Better dose assessments and decision support based on improved knowledge: source term, scenario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Key Topic 3: Improvement of existing Decision Support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Key Topic 4: Data mining, information gathering and exchange including providing information to stakeholders and mass med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Key Topic 5: Usage of the existing tools in the best possible 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takeholder involvement and local preparedness and communication strateg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Key Topic 6. Stakeholder engagement and dialog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Key Topic 7: Social media/networking tech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Slide Number Placeholder 3"/>
          <p:cNvSpPr/>
          <p:nvPr/>
        </p:nvSpPr>
        <p:spPr>
          <a:xfrm>
            <a:off x="8172360" y="6453360"/>
            <a:ext cx="400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5FA5-6F4E-43FB-8CA1-640FF3FA7DDB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3059280" y="6453360"/>
            <a:ext cx="3006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5"/>
          <p:cNvSpPr/>
          <p:nvPr/>
        </p:nvSpPr>
        <p:spPr>
          <a:xfrm>
            <a:off x="638280" y="1197000"/>
            <a:ext cx="7813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tatus of the NERIS Platform (12/2011)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2"/>
          <p:cNvSpPr/>
          <p:nvPr/>
        </p:nvSpPr>
        <p:spPr>
          <a:xfrm>
            <a:off x="539640" y="2060640"/>
            <a:ext cx="2611440" cy="41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llege 1 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IEMAT (Spain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VM (Germany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RPA (Norway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uje (Slovakia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PA (UK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stitute for Nuclear Research (Romania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IVM (Netherland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UK (Finland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NSA (Slovenia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fS (Germany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SN (France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VIRA (Finland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SS (Italy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MA (Denmark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RSN (France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IKILT (Netherland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ZZZ (Croatia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AEA (Poland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PA (Portugal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URO (Czech Republic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 Box 3"/>
          <p:cNvSpPr/>
          <p:nvPr/>
        </p:nvSpPr>
        <p:spPr>
          <a:xfrm>
            <a:off x="3203640" y="2060640"/>
            <a:ext cx="2395440" cy="41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llege 2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isø (Denmark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AE POLATOM (Poland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KIT (Germany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IT (Austria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EPN (France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IN-HH (Romania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utadis (France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CEWP (Ukraine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PM (Spain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NCCLI (France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DC (Denmark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oM (United Kingdo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RG (Netherland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CK.CEN (Belgiu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KE (Germany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MB (Norway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OI (Greece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IR (Belaru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MA (France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groParisTech (France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16"/>
          <p:cNvSpPr/>
          <p:nvPr/>
        </p:nvSpPr>
        <p:spPr>
          <a:xfrm>
            <a:off x="5796000" y="2060640"/>
            <a:ext cx="2592360" cy="2284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0 member organisation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0 in college 1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(authorities, TSOs, operators, professional organization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0 in college 2 (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esearch institutes/universities, consultants, local and national stakeholders, NGO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3:04:19Z</dcterms:created>
  <dc:creator>Raimo Mustonen</dc:creator>
  <dc:description/>
  <dc:language>en-US</dc:language>
  <cp:lastModifiedBy>Raimo Mustonen</cp:lastModifiedBy>
  <dcterms:modified xsi:type="dcterms:W3CDTF">2012-01-20T13:14:38Z</dcterms:modified>
  <cp:revision>2</cp:revision>
  <dc:subject/>
  <dc:title> </dc:title>
</cp:coreProperties>
</file>