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d624"/>
                </a:solidFill>
                <a:latin typeface="Verdana"/>
              </a:rPr>
              <a:t>Click to move the slide</a:t>
            </a: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body"/>
          </p:nvPr>
        </p:nvSpPr>
        <p:spPr>
          <a:xfrm>
            <a:off x="666720" y="4716360"/>
            <a:ext cx="533736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7"/>
          </p:nvPr>
        </p:nvSpPr>
        <p:spPr>
          <a:xfrm>
            <a:off x="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 type="sldNum" idx="18"/>
          </p:nvPr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620B-6C03-4040-83DB-DF280D48E3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519D-83CC-4662-8489-BD4192085B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66720" y="4719600"/>
            <a:ext cx="53373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1B52-A4EF-48E6-9A24-D02DC826A0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66720" y="4719600"/>
            <a:ext cx="53373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B82B-B1E9-454D-AEEC-31DC0A8965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66720" y="4719600"/>
            <a:ext cx="53373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98D7-D58A-4BF6-9DFF-0BCD25CA95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66720" y="4719600"/>
            <a:ext cx="53373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0946-47B0-4C17-B829-2AABFCAFCF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69680" y="4765320"/>
            <a:ext cx="53355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C7FB-DD5C-4DE4-BB18-E225B8973C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6720" y="4719600"/>
            <a:ext cx="53373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C8BC-4B10-419C-937B-1533A0B9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7C3-876E-4424-BACD-62C6522D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1E9-D6FD-4F82-91A8-FCC12F11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F2F-1A3A-4929-BDB7-6D1BAE80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237E-FF0D-4380-97D5-DC3F4B0E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D07A-CDC1-4168-AB7B-EC9FD207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1D92-8503-4044-83F6-D38D78D5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2C28-B494-4CE4-88A6-869C2EF1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11AE-C09F-4EF7-A3AF-22FBDBBC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8D28-9AA4-4033-8E84-1A205884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4680-4EE1-4D1C-96A9-AB55DB19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628E-5528-4168-9E73-487179CD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48AF-39EB-43F5-BD5C-FD5F11E9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BFD5-9A06-40F0-B787-7E0E8D1B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E0F4-57E4-4AB6-A6AA-7BA28B88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9662-03DB-4E34-A601-62A1C0F6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2EFB-325B-4EBC-A5A3-426DB10E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595BD-F734-41AF-813B-CFD026F7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A5F3B-5BFE-44C5-A11F-C9BC5CFE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ACC51-F609-4A90-8C78-0D927538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569AC-EA89-46A1-A7DD-86724BAB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A4FCA-A7BC-4951-8C5E-A9625592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841-1E25-46F0-938D-1841F196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6842F-4AB9-4627-9514-470A958E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C687F-6CAD-405C-AC54-20F3C3C4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8DC1F-55A7-48E5-824A-71F8A34D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DBF9E-0CF2-41B4-8E8E-3E5FDDB2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F3362-2C3F-4FC5-9745-3EB42CAB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BA2F6-E851-40E4-B98D-4D94048E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48820-F346-48B9-BCEE-B9B2A2CE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9356D-BDD5-46BF-A9F3-745985FE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88CF2-7096-4602-AC01-D0818247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ADB0D-054F-4A43-8A88-0AB07D11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D30-02B6-41D4-B4FD-CBC4F2D6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86AA5-D311-4795-B3F2-E85824EE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6AEF0-1F47-4DAD-892F-7F3AE442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F56ED-E14D-4A56-88E0-DBD8C256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7AAC7-87C1-4C3A-B300-1578B6E1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6CFF2-51CA-4613-912D-456A83F6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CF07A-92D9-46F8-AAFF-3574D010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AF97A-BBD7-45EF-AA0A-2A81A64F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CBA65-07B6-400A-A8A8-49A1ECA0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F9F50-E9C4-4D0B-8CBF-0E6B5AE7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6D8B7-713E-4577-9AB5-533FC0B1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2D6-C2D0-4090-B7C5-BD9FBC18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D5BA1-B0CA-4CD8-9A66-7544BA0C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DF708-A653-4AD1-B188-9203C952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A09C2-A642-413E-B529-F1D22CEA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0D6DA-061B-42BF-981E-C1780687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4790F-E616-46C0-A06D-BF689706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DDF80-124B-43AD-9B0B-559A7D7F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EAA83-9C66-4F8B-90DB-F4AA522F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4369F-B9FF-4970-A068-2EF6ED6A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824F6-922A-4BC4-BDC9-B0DF658A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45B72-4085-4DF9-B643-78F8F1DE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7EA-A505-43CE-B3B6-01685F4B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4583E-A44E-485E-A775-D645D892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3A84-D659-4FF0-AA5E-0CC3DB29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9645-164A-4EBB-A897-74392CEF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474-72DB-4ED8-86BC-EDF46919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0" t="0" r="0" b="6640"/>
          <a:stretch/>
        </p:blipFill>
        <p:spPr>
          <a:xfrm>
            <a:off x="3963960" y="258840"/>
            <a:ext cx="1436760" cy="9381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-181080" y="-531720"/>
            <a:ext cx="1584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42920" y="-531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264200" y="1239840"/>
            <a:ext cx="620640" cy="0"/>
          </a:xfrm>
          <a:prstGeom prst="line">
            <a:avLst/>
          </a:prstGeom>
          <a:ln w="38880">
            <a:solidFill>
              <a:srgbClr val="ee8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4268880" y="6597720"/>
            <a:ext cx="663480" cy="260280"/>
          </a:xfrm>
          <a:prstGeom prst="rect">
            <a:avLst/>
          </a:prstGeom>
          <a:solidFill>
            <a:srgbClr val="ee8032"/>
          </a:solidFill>
          <a:ln w="9360">
            <a:solidFill>
              <a:srgbClr val="ee803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90000" tIns="118800" bIns="46800" anchor="ctr">
            <a:noAutofit/>
          </a:bodyPr>
          <a:p>
            <a:pPr algn="ctr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1E16-E178-4617-A1D9-1A4FC2FE64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LOGO CE-EN-quadri.eps"/>
          <p:cNvPicPr/>
          <p:nvPr/>
        </p:nvPicPr>
        <p:blipFill>
          <a:blip r:embed="rId2"/>
          <a:srcRect l="0" t="0" r="0" b="3504"/>
          <a:stretch/>
        </p:blipFill>
        <p:spPr>
          <a:xfrm>
            <a:off x="3968640" y="258840"/>
            <a:ext cx="1436760" cy="963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95280" y="2565360"/>
            <a:ext cx="50403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d624"/>
                </a:solidFill>
                <a:latin typeface="Verdana"/>
              </a:rPr>
              <a:t>Click to edit the title text format</a:t>
            </a: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A. Janssens DG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3823-9CBB-4A78-A802-F520CF781D0A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4200" y="1239840"/>
            <a:ext cx="620640" cy="0"/>
          </a:xfrm>
          <a:prstGeom prst="line">
            <a:avLst/>
          </a:prstGeom>
          <a:ln w="38880">
            <a:solidFill>
              <a:srgbClr val="ee8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7693-3DC1-4F20-9D08-6235BC2654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81080" y="-531720"/>
            <a:ext cx="1584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-531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0" b="6640"/>
          <a:stretch/>
        </p:blipFill>
        <p:spPr>
          <a:xfrm>
            <a:off x="3963960" y="258840"/>
            <a:ext cx="1436760" cy="938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264200" y="1239840"/>
            <a:ext cx="620640" cy="0"/>
          </a:xfrm>
          <a:prstGeom prst="line">
            <a:avLst/>
          </a:prstGeom>
          <a:ln w="38880">
            <a:solidFill>
              <a:srgbClr val="ee8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68880" y="6659640"/>
            <a:ext cx="601560" cy="198360"/>
          </a:xfrm>
          <a:prstGeom prst="rect">
            <a:avLst/>
          </a:prstGeom>
          <a:solidFill>
            <a:srgbClr val="ee8032"/>
          </a:solidFill>
          <a:ln w="9360">
            <a:solidFill>
              <a:srgbClr val="ee803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90000" tIns="118800" bIns="46800" anchor="ctr">
            <a:noAutofit/>
          </a:bodyPr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8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95280" y="2565360"/>
            <a:ext cx="50403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d624"/>
                </a:solidFill>
                <a:latin typeface="Verdana"/>
              </a:rPr>
              <a:t>Click to edit the title text format</a:t>
            </a: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7533-EC3D-4535-9B0F-120A617EC296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669" t="0" r="-173" b="2751"/>
          <a:stretch/>
        </p:blipFill>
        <p:spPr>
          <a:xfrm>
            <a:off x="3240" y="968400"/>
            <a:ext cx="4265640" cy="5894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LOGO CE-EN-quadri.eps"/>
          <p:cNvPicPr/>
          <p:nvPr/>
        </p:nvPicPr>
        <p:blipFill>
          <a:blip r:embed="rId3"/>
          <a:srcRect l="0" t="0" r="0" b="3504"/>
          <a:stretch/>
        </p:blipFill>
        <p:spPr>
          <a:xfrm>
            <a:off x="3968640" y="258840"/>
            <a:ext cx="1436760" cy="96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264200" y="1239840"/>
            <a:ext cx="620640" cy="0"/>
          </a:xfrm>
          <a:prstGeom prst="line">
            <a:avLst/>
          </a:prstGeom>
          <a:ln w="38880">
            <a:solidFill>
              <a:srgbClr val="ee8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268880" y="6659640"/>
            <a:ext cx="601560" cy="198360"/>
          </a:xfrm>
          <a:prstGeom prst="rect">
            <a:avLst/>
          </a:prstGeom>
          <a:solidFill>
            <a:srgbClr val="ee8032"/>
          </a:solidFill>
          <a:ln w="9360">
            <a:solidFill>
              <a:srgbClr val="ee803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90000" tIns="118800" bIns="46800" anchor="ctr">
            <a:noAutofit/>
          </a:bodyPr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8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4939-62D9-494C-AD5C-595462FC80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181080" y="-531720"/>
            <a:ext cx="1584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42920" y="-531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.europa.eu/energy/nuclear/radiation_protection/doc/art31/" TargetMode="External"/><Relationship Id="rId2" Type="http://schemas.openxmlformats.org/officeDocument/2006/relationships/hyperlink" Target="http://ec.europa.eu/energy/nuclear/radiation_protection/doc/art31/2010_02_24_draft_euratom_basic_safety_standards_directive.pdf" TargetMode="External"/><Relationship Id="rId3" Type="http://schemas.openxmlformats.org/officeDocument/2006/relationships/hyperlink" Target="http://ec.europa.eu/energy/nuclear/radiation_protection/doc/art31/2010_02_24_opinion_on_bss.pdf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95280" y="2565360"/>
            <a:ext cx="50403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624"/>
                </a:solidFill>
                <a:latin typeface="Verdana"/>
              </a:rPr>
              <a:t>NERIS-ICRP WORKSHOP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EU Basic Safety Standards and European response to the Fukushima accident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9993-8C55-4077-B5CD-8982CE6A84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Trebuchet MS"/>
              </a:rPr>
              <a:t>EC Reaction: ECURI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504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d5ec1"/>
                </a:solidFill>
                <a:latin typeface="Trebuchet MS"/>
              </a:rPr>
              <a:t>The </a:t>
            </a:r>
            <a:r>
              <a:rPr b="1" i="1" lang="en-GB" sz="2400" spc="-1" strike="noStrike">
                <a:solidFill>
                  <a:srgbClr val="2d5ec1"/>
                </a:solidFill>
                <a:latin typeface="Trebuchet MS"/>
              </a:rPr>
              <a:t>European Community Urgent Radiological Information Exchange or ECURIE</a:t>
            </a:r>
            <a:r>
              <a:rPr b="0" i="1" lang="en-GB" sz="2400" spc="-1" strike="noStrike">
                <a:solidFill>
                  <a:srgbClr val="2d5ec1"/>
                </a:solidFill>
                <a:latin typeface="Trebuchet MS"/>
              </a:rPr>
              <a:t> is the Commission’s official framework for informing member states of Radiological Emergencie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Trebuchet MS"/>
              </a:rPr>
              <a:t>It was set up by Council Decision 87/600/EURATOM in 1987 in the aftermath of the Chernobyl accident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5ec1"/>
                </a:solidFill>
                <a:latin typeface="Trebuchet MS"/>
              </a:rPr>
              <a:t>The ECURIE system is managed and operated by </a:t>
            </a:r>
            <a:r>
              <a:rPr b="1" i="1" lang="en-US" sz="2000" spc="-1" strike="noStrike">
                <a:solidFill>
                  <a:srgbClr val="2d5ec1"/>
                </a:solidFill>
                <a:latin typeface="Trebuchet MS"/>
              </a:rPr>
              <a:t>DG ENER D4 Radiation Protection Unit</a:t>
            </a:r>
            <a:r>
              <a:rPr b="1" lang="en-US" sz="2000" spc="-1" strike="noStrike">
                <a:solidFill>
                  <a:srgbClr val="2d5ec1"/>
                </a:solidFill>
                <a:latin typeface="Trebuchet MS"/>
              </a:rPr>
              <a:t> in Luxembourg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5ec1"/>
                </a:solidFill>
                <a:latin typeface="Trebuchet MS"/>
              </a:rPr>
              <a:t>ECURIE is on standby on a 24/7 basis; the officer on duty is prepared to forward any incoming information to Member States within an hour of receipt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5ec1"/>
                </a:solidFill>
                <a:latin typeface="Trebuchet MS"/>
              </a:rPr>
              <a:t>Activated in the morning of 12 March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5ec1"/>
                </a:solidFill>
                <a:latin typeface="Trebuchet MS"/>
              </a:rPr>
              <a:t>3 weeks 24 h active involvement (2-4 peopl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5ec1"/>
                </a:solidFill>
                <a:latin typeface="Trebuchet MS"/>
              </a:rPr>
              <a:t>Emergency team for information to other services and cabine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3E6-A5B9-4D68-BEE5-95AC6A103D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2075040"/>
          </a:xfrm>
          <a:prstGeom prst="rect">
            <a:avLst/>
          </a:prstGeom>
          <a:solidFill>
            <a:srgbClr val="3166c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00"/>
                </a:solidFill>
                <a:latin typeface="Trebuchet MS"/>
              </a:rPr>
              <a:t>Fukushima</a:t>
            </a:r>
            <a:br>
              <a:rPr sz="3900"/>
            </a:br>
            <a:r>
              <a:rPr b="0" lang="en-US" sz="3900" spc="-1" strike="noStrike">
                <a:solidFill>
                  <a:srgbClr val="ffff00"/>
                </a:solidFill>
                <a:latin typeface="Trebuchet MS"/>
              </a:rPr>
              <a:t>Impact on Europe and EC Actions:  </a:t>
            </a:r>
            <a:br>
              <a:rPr sz="3900"/>
            </a:br>
            <a:r>
              <a:rPr b="0" lang="en-US" sz="3000" spc="-1" strike="noStrike">
                <a:solidFill>
                  <a:srgbClr val="ffff00"/>
                </a:solidFill>
                <a:latin typeface="Trebuchet MS"/>
              </a:rPr>
              <a:t>Import control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4599000" cy="284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E75-B5C9-4AF3-9530-25E4645D5A1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Import control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42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Concerns of EU citizens had an adverse effect on the market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Hence there was an urgent need to ensure harmonised criteria for: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food and feed,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ships and containers,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nd other goods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For this purpose the Commission has issued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binding requirements on import checks on food and feed and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on-binding guidelines for the contamination checks on ships and containers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The Commission will pursue 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international standards</a:t>
            </a: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 on permissible levels of contamination of goods, applicable in international trad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10C-F61F-4F54-BF37-8450328BA4D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gulation 3954/87/Euratom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Nuclide categor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4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isotopes of strontium, notably Sr-90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isotopes of iodine, notably I-131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alpha-emitting isotopes of plutonium and trans-plutonium elements, notably Pu-239, Am-241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All other nuclides of half-life greater than 10 days, notably Cs-134, Cs-137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-14 and Tritium not included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3E3-E8BD-4EDF-A421-7C6A14D74A3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f5494"/>
                </a:solidFill>
                <a:latin typeface="Verdana"/>
              </a:rPr>
              <a:t>EU maximum permitted levels in foodstuffs</a:t>
            </a:r>
            <a:br>
              <a:rPr sz="1900"/>
            </a:br>
            <a:r>
              <a:rPr b="1" lang="en-US" sz="1900" spc="-1" strike="noStrike">
                <a:solidFill>
                  <a:srgbClr val="0f5494"/>
                </a:solidFill>
                <a:latin typeface="Verdana"/>
              </a:rPr>
              <a:t>(future accident)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262160" y="2133720"/>
          <a:ext cx="7164360" cy="41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2133720"/>
                    <a:ext cx="716436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260440" y="5016600"/>
            <a:ext cx="34545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y concentration i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onstitu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FE33-5F5B-452A-B2DB-D1B57C91A7A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Measures taken by the EC: 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Food and Fee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42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f5494"/>
                </a:solidFill>
                <a:latin typeface="Verdana"/>
              </a:rPr>
              <a:t>Regulation 3954/87 Euratom</a:t>
            </a: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 disproportionate for the import of food from a distant country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On 15 March DG SANCO recommends controls on food imported from Japa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5494"/>
                </a:solidFill>
                <a:latin typeface="Verdana"/>
              </a:rPr>
              <a:t>Maximum levels cf Regulation 3954/87 Euratom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The European Commission subsequently adopted implementing regulations, under general food safety legislation: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5494"/>
                </a:solidFill>
                <a:latin typeface="Verdana"/>
              </a:rPr>
              <a:t>on 25 March with reference to the pre-established maximum permitted levels of radioactivity for different categories of radionuclides laid down in </a:t>
            </a:r>
            <a:r>
              <a:rPr b="0" lang="en-US" sz="1500" spc="-1" strike="noStrike">
                <a:solidFill>
                  <a:srgbClr val="0f5494"/>
                </a:solidFill>
                <a:latin typeface="Verdana"/>
              </a:rPr>
              <a:t>Regulation 3954/87 Euratom</a:t>
            </a:r>
            <a:r>
              <a:rPr b="1" lang="en-US" sz="1500" spc="-1" strike="noStrike">
                <a:solidFill>
                  <a:srgbClr val="0f5494"/>
                </a:solidFill>
                <a:latin typeface="Verdana"/>
              </a:rPr>
              <a:t>, 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fec"/>
                </a:solidFill>
                <a:latin typeface="Trebuchet MS"/>
              </a:rPr>
              <a:t>Action levels in Japan for food and drinking water as well as restrictions on placing on the market of food from affected prefectures and coastal marine produce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afec"/>
                </a:solidFill>
                <a:latin typeface="Trebuchet MS"/>
              </a:rPr>
              <a:t>No levels for iodine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afec"/>
                </a:solidFill>
                <a:latin typeface="Trebuchet MS"/>
              </a:rPr>
              <a:t>For Cs-137-134: </a:t>
            </a:r>
            <a:r>
              <a:rPr b="1" lang="en-US" sz="1500" spc="-1" strike="noStrike">
                <a:solidFill>
                  <a:srgbClr val="00afec"/>
                </a:solidFill>
                <a:latin typeface="Trebuchet MS"/>
              </a:rPr>
              <a:t>500 Bq/kg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afec"/>
                </a:solidFill>
                <a:latin typeface="Verdana"/>
              </a:rPr>
              <a:t>Commitment from Japan to control export of food on the same basis</a:t>
            </a: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5494"/>
                </a:solidFill>
                <a:latin typeface="Verdana"/>
              </a:rPr>
              <a:t>on 11 April (corrigendum on 13.4) amended implementing regulation incorporating the action levels introduced in Japan for iodine and caesium isotopes (as well as plutonium) after the Fukushima accident.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F4F-9872-40CA-882A-CA6716EBF2C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3840" y="296640"/>
            <a:ext cx="78627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Measures taken by the EC: Food and Fee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072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5bab"/>
                </a:solidFill>
                <a:latin typeface="Trebuchet MS"/>
              </a:rPr>
              <a:t>Food products from 12 prefectures in Japan may be presented only with an analytical report on radionuclides Iodine-131 and Caesium-134 +137, by an authorised agency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5bab"/>
                </a:solidFill>
                <a:latin typeface="Trebuchet MS"/>
              </a:rPr>
              <a:t>10 % check sampling at import in EU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5bab"/>
                </a:solidFill>
                <a:latin typeface="Trebuchet MS"/>
              </a:rPr>
              <a:t>20 % monitoring for other prefectures (without certificate)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marL="444600" indent="-444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5bab"/>
                </a:solidFill>
                <a:latin typeface="Trebuchet MS"/>
              </a:rPr>
              <a:t>Recommendation to check marine produce from certain Pacific fishing area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44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44600" indent="-444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5bab"/>
                </a:solidFill>
                <a:latin typeface="Trebuchet MS"/>
              </a:rPr>
              <a:t>So far, no contamination found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5bab"/>
                </a:solidFill>
                <a:latin typeface="Trebuchet MS"/>
              </a:rPr>
              <a:t>Except, on 15 June: 2 batches of contaminated tea (Roissy, F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5bab"/>
                </a:solidFill>
                <a:latin typeface="Trebuchet MS"/>
              </a:rPr>
              <a:t>Up to 31.12.2011: 1967 samples from Japan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5bab"/>
                </a:solidFill>
                <a:latin typeface="Trebuchet MS"/>
              </a:rPr>
              <a:t> </a:t>
            </a:r>
            <a:r>
              <a:rPr b="0" lang="en-GB" sz="1000" spc="-1" strike="noStrike">
                <a:solidFill>
                  <a:srgbClr val="005bab"/>
                </a:solidFill>
                <a:latin typeface="Trebuchet MS"/>
              </a:rPr>
              <a:t>+ 409 fish from Pacific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5bab"/>
                </a:solidFill>
                <a:latin typeface="Trebuchet MS"/>
              </a:rPr>
              <a:t>No iodine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5bab"/>
                </a:solidFill>
                <a:latin typeface="Trebuchet MS"/>
              </a:rPr>
              <a:t>Caesium detected in around 1% of the samples from Japan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Measures taken by the EC: 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Food and F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2A6-410B-4F26-8127-3D901397300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Article 31 Opinion 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on Food and Fee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280360" cy="43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Regulation 3954/87 Euratom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still valid (cf RP 105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to be reviewed when new dose coefficients are availabl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No need to revise Regulation 733/2008/EC (till 2020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food imported from countries affected by Chernobyl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mport from Japa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does not warrant lower level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continue checks on the basis of levels in Japan, for as long as needed: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mall volume of import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moderate levels of radioactivit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optimisation on the basis of cost of controls and the need to provide reassurance or to allow for consumer preferenc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pply same levels to cosmetic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Basis: likelihood to exceed 1 mSv in a yea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E5E-9D7A-4A65-845A-A31B36D7958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Extension implementing regulation until 31 March 2012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ransition to a long-term regime similar to the one for third countries affected by the Chernobyl acciden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o prescribed minimum sampling frequenc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continued monitoring of the situation in Japa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Gradual relax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o longer checks on radioisotopes of iodin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revision of the concerned prefectur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limited categories of food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green te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ri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fish and fishery product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mushroom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…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New levels in Japan!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may be decided upon and implemented on 1 April 2012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Measures taken by the EC: 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Food and F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3778-48D7-4DC4-96E7-921D124DC66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ossible lower levels in Japan: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50920" y="2603520"/>
            <a:ext cx="8893080" cy="303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668-4DA8-4286-BBC4-BC2A59B06D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Revision and consolidation of </a:t>
            </a:r>
            <a:br>
              <a:rPr sz="4000"/>
            </a:b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Euratom Basic Safety Standards</a:t>
            </a:r>
            <a:br>
              <a:rPr sz="4000"/>
            </a:br>
            <a:br>
              <a:rPr sz="4000"/>
            </a:br>
            <a:br>
              <a:rPr sz="35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8F1F-51A7-489F-B2DE-26BDC868C40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Food in Japan - Recommenda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evelopment of a national strategy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ational, comprehensive and realisti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llow for the low actual dose by food intak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Reference level 1 mSv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void low Maximum Permitted Concentra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xcept for basic food (rice, te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hernobyl experience in EU demonstrate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cceptance of current levels for impor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eed for a long-term approach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volve international stakeholder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o prejudice to the management of a future accid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Lowering MPC’s in Japan would be copied by EU for import contro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Difficult to understand that different levels apply in different situa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DE2-AD55-40D6-9125-DE26EF95CF5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Measures taken by the EC: </a:t>
            </a:r>
            <a:br>
              <a:rPr sz="2600"/>
            </a:b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ships and containers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3600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The European Commission issued on 15 April, through its urgent information exchange tool (ECURIE), an information message to Member States to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equest information on checks for levels of radiation on incoming ships and cargo from Japan,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proposing harmonised thresholds for further action (decontamination) and reporting: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threshold: 0.2 µSv/h above background, at 1 m (by default)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decontamination whenever possible (washing) of any contaminated surface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IMO/ICAO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monitoring of passengers, crew and cargo from Japan carried out to date in other countries, …, does not suggest any health or safety risk. Therefore, screening of radiation … is currently considered </a:t>
            </a:r>
            <a:r>
              <a:rPr b="1" lang="en-US" sz="1600" spc="-1" strike="noStrike" u="sng">
                <a:solidFill>
                  <a:srgbClr val="0f5494"/>
                </a:solidFill>
                <a:uFillTx/>
                <a:latin typeface="Verdana"/>
              </a:rPr>
              <a:t>unnecessary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 at airports and seaports around the world.”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Japan (three major harbours)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checks &lt; 3 x background dose-rate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IAEA: apply international transport regulation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avoid dispersion of radioactive substance and exposure from fixed radioactivity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D30-8AC9-4FDA-8EB0-2D71325B67A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Article 31 Opinion 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on containers and conveya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44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ECURIE criterion good basis for continued screen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Transport Regulations could be understood to apply to conveyances that are not transporting radioactive materia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4 Bq/cm² for </a:t>
            </a:r>
            <a:r>
              <a:rPr b="1" lang="el-GR" sz="1800" spc="-1" strike="noStrike">
                <a:solidFill>
                  <a:srgbClr val="0f5494"/>
                </a:solidFill>
                <a:latin typeface="Garamond"/>
              </a:rPr>
              <a:t>β</a:t>
            </a:r>
            <a:r>
              <a:rPr b="1" lang="fr-BE" sz="1800" spc="-1" strike="noStrike">
                <a:solidFill>
                  <a:srgbClr val="0f5494"/>
                </a:solidFill>
                <a:latin typeface="Garamond"/>
              </a:rPr>
              <a:t>-</a:t>
            </a:r>
            <a:r>
              <a:rPr b="1" lang="el-GR" sz="1800" spc="-1" strike="noStrike">
                <a:solidFill>
                  <a:srgbClr val="0f5494"/>
                </a:solidFill>
                <a:latin typeface="Garamond"/>
              </a:rPr>
              <a:t>γ</a:t>
            </a:r>
            <a:r>
              <a:rPr b="1" lang="fr-BE" sz="1800" spc="-1" strike="noStrike">
                <a:solidFill>
                  <a:srgbClr val="0f5494"/>
                </a:solidFill>
                <a:latin typeface="Garamond"/>
              </a:rPr>
              <a:t> (SCO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adiation protection rationale?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pplication to emergency exposure situation?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Underline optimisation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non-fixed surface contamination to be actually removed whenever practicabl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Need for guidanc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definition of non-fixed contaminati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ISO Standard for monitoring methodologi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065-25E1-4764-A121-ECB570EAE87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no need for continued screening of ships and carg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ECURIE information message sent on 19.7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reference to Article 31 opin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no observed contamination for about one month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no need for systematic screening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 line with IMO state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request information message in case of future high contamination found to require remedial ac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Measures taken by the EC: </a:t>
            </a:r>
            <a:br>
              <a:rPr sz="2600"/>
            </a:b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ships and contai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3716-8CD7-41B9-86F1-B1B5E874229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2075040"/>
          </a:xfrm>
          <a:prstGeom prst="rect">
            <a:avLst/>
          </a:prstGeom>
          <a:solidFill>
            <a:srgbClr val="3166c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00"/>
                </a:solidFill>
                <a:latin typeface="Trebuchet MS"/>
              </a:rPr>
              <a:t>Fukushima</a:t>
            </a:r>
            <a:br>
              <a:rPr sz="3900"/>
            </a:br>
            <a:r>
              <a:rPr b="0" lang="en-US" sz="3900" spc="-1" strike="noStrike">
                <a:solidFill>
                  <a:srgbClr val="ffff00"/>
                </a:solidFill>
                <a:latin typeface="Trebuchet MS"/>
              </a:rPr>
              <a:t>Impact on Europe and EC Actions:  </a:t>
            </a:r>
            <a:br>
              <a:rPr sz="3900"/>
            </a:br>
            <a:r>
              <a:rPr b="0" lang="en-US" sz="3000" spc="-1" strike="noStrike">
                <a:solidFill>
                  <a:srgbClr val="ffff00"/>
                </a:solidFill>
                <a:latin typeface="Trebuchet MS"/>
              </a:rPr>
              <a:t>Lessons learne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4599000" cy="284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6AB-F718-4D5D-BB61-13D66BA9631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Stress test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44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Trebuchet MS"/>
              </a:rPr>
              <a:t>	</a:t>
            </a:r>
            <a:r>
              <a:rPr b="1" i="1" lang="en-US" sz="2000" spc="-1" strike="noStrike">
                <a:solidFill>
                  <a:srgbClr val="0f5494"/>
                </a:solidFill>
                <a:latin typeface="Trebuchet MS"/>
              </a:rPr>
              <a:t>15 March: Commissioner Oettinger announces </a:t>
            </a:r>
            <a:r>
              <a:rPr b="1" i="1" lang="en-US" sz="2000" spc="-1" strike="noStrike">
                <a:solidFill>
                  <a:srgbClr val="00afec"/>
                </a:solidFill>
                <a:latin typeface="Trebuchet MS"/>
              </a:rPr>
              <a:t>stress tests of nuclear facilities </a:t>
            </a:r>
            <a:r>
              <a:rPr b="1" i="1" lang="en-US" sz="2000" spc="-1" strike="noStrike">
                <a:solidFill>
                  <a:srgbClr val="0f5494"/>
                </a:solidFill>
                <a:latin typeface="Trebuchet MS"/>
              </a:rPr>
              <a:t>in the EU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44600" indent="-444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Trebuchet MS"/>
              </a:rPr>
              <a:t>21 March: Energy Council (energy ministers from MS) endorses the Commission proposal to </a:t>
            </a:r>
            <a:r>
              <a:rPr b="1" i="1" lang="en-US" sz="2000" spc="-1" strike="noStrike">
                <a:solidFill>
                  <a:srgbClr val="00afec"/>
                </a:solidFill>
                <a:latin typeface="Trebuchet MS"/>
              </a:rPr>
              <a:t>carry out comprehensive safety and risk assessmen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44600" indent="-444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Trebuchet MS"/>
              </a:rPr>
              <a:t>24–25 March: European Council (Heads of State and Government) calls on the Commission and the European Nuclear Safety</a:t>
            </a:r>
            <a:br>
              <a:rPr sz="2000"/>
            </a:br>
            <a:r>
              <a:rPr b="1" i="1" lang="en-US" sz="2000" spc="-1" strike="noStrike">
                <a:solidFill>
                  <a:srgbClr val="0f5494"/>
                </a:solidFill>
                <a:latin typeface="Trebuchet MS"/>
              </a:rPr>
              <a:t>Regulators’ Group (ENSREG)</a:t>
            </a:r>
            <a:br>
              <a:rPr sz="2000"/>
            </a:br>
            <a:r>
              <a:rPr b="1" i="1" lang="en-US" sz="2000" spc="-1" strike="noStrike">
                <a:solidFill>
                  <a:srgbClr val="0f5494"/>
                </a:solidFill>
                <a:latin typeface="Trebuchet MS"/>
              </a:rPr>
              <a:t>to </a:t>
            </a:r>
            <a:r>
              <a:rPr b="1" i="1" lang="en-US" sz="2000" spc="-1" strike="noStrike">
                <a:solidFill>
                  <a:srgbClr val="00afec"/>
                </a:solidFill>
                <a:latin typeface="Trebuchet MS"/>
              </a:rPr>
              <a:t>develop the scope and</a:t>
            </a:r>
            <a:br>
              <a:rPr sz="2000"/>
            </a:br>
            <a:r>
              <a:rPr b="1" i="1" lang="en-US" sz="2000" spc="-1" strike="noStrike">
                <a:solidFill>
                  <a:srgbClr val="00afec"/>
                </a:solidFill>
                <a:latin typeface="Trebuchet MS"/>
              </a:rPr>
              <a:t>modalities of the assessmen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44600" indent="-444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Trebuchet MS"/>
              </a:rPr>
              <a:t>24 May: the Commission and</a:t>
            </a:r>
            <a:br>
              <a:rPr sz="2000"/>
            </a:br>
            <a:r>
              <a:rPr b="1" i="1" lang="en-US" sz="2000" spc="-1" strike="noStrike">
                <a:solidFill>
                  <a:srgbClr val="0f5494"/>
                </a:solidFill>
                <a:latin typeface="Trebuchet MS"/>
              </a:rPr>
              <a:t>ENSREG </a:t>
            </a:r>
            <a:r>
              <a:rPr b="1" i="1" lang="en-US" sz="2000" spc="-1" strike="noStrike">
                <a:solidFill>
                  <a:srgbClr val="00afec"/>
                </a:solidFill>
                <a:latin typeface="Trebuchet MS"/>
              </a:rPr>
              <a:t>reach agreement</a:t>
            </a:r>
            <a:br>
              <a:rPr sz="2000"/>
            </a:br>
            <a:r>
              <a:rPr b="1" i="1" lang="en-US" sz="2000" spc="-1" strike="noStrike">
                <a:solidFill>
                  <a:srgbClr val="00afec"/>
                </a:solidFill>
                <a:latin typeface="Trebuchet MS"/>
              </a:rPr>
              <a:t>on the methodology and the</a:t>
            </a:r>
            <a:br>
              <a:rPr sz="2000"/>
            </a:br>
            <a:r>
              <a:rPr b="1" i="1" lang="en-US" sz="2000" spc="-1" strike="noStrike">
                <a:solidFill>
                  <a:srgbClr val="00afec"/>
                </a:solidFill>
                <a:latin typeface="Trebuchet MS"/>
              </a:rPr>
              <a:t>timetab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649840" y="4022640"/>
            <a:ext cx="308124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77A-795A-47B3-BF80-EC4922247B3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352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New legisla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4600" indent="-444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eflection </a:t>
            </a:r>
            <a:r>
              <a:rPr b="0" i="1" lang="en-GB" sz="2400" spc="-1" strike="noStrike" u="sng">
                <a:solidFill>
                  <a:srgbClr val="0f5494"/>
                </a:solidFill>
                <a:uFillTx/>
                <a:latin typeface="Verdana"/>
              </a:rPr>
              <a:t>in parallel to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carrying out the stress tes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Trebuchet MS"/>
              </a:rPr>
              <a:t>The Commission interim report indicates the </a:t>
            </a:r>
            <a:r>
              <a:rPr b="1" i="1" lang="en-GB" sz="2400" spc="-1" strike="noStrike">
                <a:solidFill>
                  <a:srgbClr val="00afec"/>
                </a:solidFill>
                <a:latin typeface="Trebuchet MS"/>
              </a:rPr>
              <a:t>main areas</a:t>
            </a:r>
            <a:r>
              <a:rPr b="1" i="1" lang="en-GB" sz="2400" spc="-1" strike="noStrike">
                <a:solidFill>
                  <a:srgbClr val="0f5494"/>
                </a:solidFill>
                <a:latin typeface="Trebuchet MS"/>
              </a:rPr>
              <a:t> for legislative improv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44600" indent="-44460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Trebuchet MS"/>
              </a:rPr>
              <a:t>3</a:t>
            </a:r>
            <a:r>
              <a:rPr b="1" i="1" lang="en-US" sz="2400" spc="-1" strike="noStrike" baseline="30000">
                <a:solidFill>
                  <a:srgbClr val="0f5494"/>
                </a:solidFill>
                <a:latin typeface="Trebuchet MS"/>
              </a:rPr>
              <a:t>rd</a:t>
            </a:r>
            <a:r>
              <a:rPr b="1" i="1" lang="en-US" sz="2400" spc="-1" strike="noStrike">
                <a:solidFill>
                  <a:srgbClr val="0f5494"/>
                </a:solidFill>
                <a:latin typeface="Trebuchet MS"/>
              </a:rPr>
              <a:t> quarter of 2012: the Commission will table </a:t>
            </a:r>
            <a:r>
              <a:rPr b="1" i="1" lang="en-US" sz="2400" spc="-1" strike="noStrike">
                <a:solidFill>
                  <a:srgbClr val="00afec"/>
                </a:solidFill>
                <a:latin typeface="Trebuchet MS"/>
              </a:rPr>
              <a:t>legislative</a:t>
            </a:r>
            <a:r>
              <a:rPr b="1" i="1" lang="en-US" sz="2400" spc="-1" strike="noStrike">
                <a:solidFill>
                  <a:srgbClr val="0f5494"/>
                </a:solidFill>
                <a:latin typeface="Trebuchet MS"/>
              </a:rPr>
              <a:t> </a:t>
            </a:r>
            <a:r>
              <a:rPr b="1" i="1" lang="en-US" sz="2400" spc="-1" strike="noStrike">
                <a:solidFill>
                  <a:srgbClr val="00afec"/>
                </a:solidFill>
                <a:latin typeface="Trebuchet MS"/>
              </a:rPr>
              <a:t>proposals</a:t>
            </a:r>
            <a:r>
              <a:rPr b="1" i="1" lang="en-US" sz="2400" spc="-1" strike="noStrike">
                <a:solidFill>
                  <a:srgbClr val="0f5494"/>
                </a:solidFill>
                <a:latin typeface="Trebuchet MS"/>
              </a:rPr>
              <a:t>,</a:t>
            </a:r>
            <a:r>
              <a:rPr b="1" i="1" lang="en-US" sz="2400" spc="-1" strike="noStrike">
                <a:solidFill>
                  <a:srgbClr val="00afec"/>
                </a:solidFill>
                <a:latin typeface="Trebuchet MS"/>
              </a:rPr>
              <a:t> </a:t>
            </a:r>
            <a:r>
              <a:rPr b="1" i="1" lang="en-US" sz="2400" spc="-1" strike="noStrike">
                <a:solidFill>
                  <a:srgbClr val="0f5494"/>
                </a:solidFill>
                <a:latin typeface="Trebuchet MS"/>
              </a:rPr>
              <a:t>taking into accoun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Trebuchet MS"/>
              </a:rPr>
              <a:t>feedback from ongoing</a:t>
            </a:r>
            <a:r>
              <a:rPr b="0" lang="en-GB" sz="2000" spc="-1" strike="noStrike">
                <a:solidFill>
                  <a:srgbClr val="00afec"/>
                </a:solidFill>
                <a:latin typeface="Trebuchet MS"/>
              </a:rPr>
              <a:t> public and stakeholder consultation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afec"/>
                </a:solidFill>
                <a:latin typeface="Trebuchet MS"/>
              </a:rPr>
              <a:t>technical areas of improvement</a:t>
            </a:r>
            <a:r>
              <a:rPr b="0" lang="en-GB" sz="2000" spc="-1" strike="noStrike">
                <a:solidFill>
                  <a:srgbClr val="0f5494"/>
                </a:solidFill>
                <a:latin typeface="Trebuchet MS"/>
              </a:rPr>
              <a:t> identified in the stress tests proc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Trebuchet MS"/>
              </a:rPr>
              <a:t>developments in the </a:t>
            </a:r>
            <a:r>
              <a:rPr b="0" lang="en-GB" sz="2000" spc="-1" strike="noStrike">
                <a:solidFill>
                  <a:srgbClr val="00afec"/>
                </a:solidFill>
                <a:latin typeface="Trebuchet MS"/>
              </a:rPr>
              <a:t>international nuclear safety legislative regim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15A-4D4A-45B3-A459-35B771B8593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39640" y="1628640"/>
            <a:ext cx="782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24.11.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(2011) 784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 FROM THE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COUNCIL A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interim report on the comprehensive risk and safety assessments ("stress tests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ar power plants in the European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SEC(2011) 1395 final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CB03-178C-4041-BFA1-5C2C2E7B1F1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f5494"/>
                </a:solidFill>
                <a:latin typeface="Verdana"/>
              </a:rPr>
              <a:t>Strengthening the EU nuclear safety regulatory framework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he Commission sees scope for improving the legal framework at EU and national level in the following areas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1) improving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technical measures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for safety, and improving the necessary oversight to ensure full implementation,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2) improving the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governance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as well as the legal framework of nuclear safety,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3) improving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emergency preparedness and response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,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4) reinforcing the EU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nuclear liability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regime and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5) enhancing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scientific and technological competence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he starting point is the full implementation of existing EU rul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37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Basic Safety Standard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37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Public informati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37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ECURI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37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Food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37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Civil Protection coordination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2E0-9916-4184-BBFF-644A64D4A025}" type="slidenum">
              <a:t>28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Enhancing Emergency preparedness and response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Guidelines on national risk assess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ross-border nuclear risk management pla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Enhanced European disaster respons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New BSS: MS’s </a:t>
            </a:r>
            <a:r>
              <a:rPr b="0" lang="en-US" sz="1400" spc="-1" strike="noStrike" u="sng">
                <a:solidFill>
                  <a:srgbClr val="0f5494"/>
                </a:solidFill>
                <a:uFillTx/>
                <a:latin typeface="Verdana"/>
              </a:rPr>
              <a:t>shall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cooperate …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Site resto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New BSS: Criteria for living in contaminated area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trengthen information exchange and coordination of respon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HERCA communication system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Link with Article 31 Experts and with Health Security Initiativ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od legisl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Recast of Regulation 3954/87 Euratom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Delegated powe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Extension to remote accidents (cf Fukushim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EF1-DCD7-496C-B761-31B9D8A1B425}" type="slidenum">
              <a:t>29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144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Article 31 Group of Experts since 2005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Topical issu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5ec1"/>
                </a:solidFill>
                <a:latin typeface="Verdana"/>
              </a:rPr>
              <a:t>natural radiation source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5ec1"/>
                </a:solidFill>
                <a:latin typeface="Verdana"/>
              </a:rPr>
              <a:t>exemption, clearance, graded approach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WP “Recast”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irst consolidated draft text: meeting in June 2009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inal text for Article 31 Experts in November 2009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Approval of draft text and related Opinion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 23-24.2. 2010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Impact Assessment Re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Inter-Service consultat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Translat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Commission proposal adopted in September 2011 (29.9 at 10 am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 u="sng">
                <a:solidFill>
                  <a:srgbClr val="e52e87"/>
                </a:solidFill>
                <a:uFillTx/>
                <a:latin typeface="Verdana"/>
                <a:hlinkClick r:id="rId1"/>
              </a:rPr>
              <a:t>http://ec.europa.eu/energy/nuclear/radiation_protection/doc/art31/</a:t>
            </a:r>
            <a:r>
              <a:rPr b="0" i="1" lang="en-US" sz="800" spc="-1" strike="noStrike" u="sng">
                <a:solidFill>
                  <a:srgbClr val="e52e87"/>
                </a:solidFill>
                <a:uFillTx/>
                <a:latin typeface="Verdana"/>
                <a:hlinkClick r:id="rId2"/>
              </a:rPr>
              <a:t>2010_02_24_draft_euratom_basic_safety_standards_directive.pdf</a:t>
            </a: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 u="sng">
                <a:solidFill>
                  <a:srgbClr val="e52e87"/>
                </a:solidFill>
                <a:uFillTx/>
                <a:latin typeface="Verdana"/>
                <a:hlinkClick r:id="rId3"/>
              </a:rPr>
              <a:t>http://ec.europa.eu/energy/nuclear/radiation_protection/doc/art31/2010_02_24_opinion_on_bss.pdf</a:t>
            </a: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vision of EU BS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005360" y="0"/>
            <a:ext cx="5138640" cy="3894120"/>
          </a:xfrm>
          <a:prstGeom prst="rect">
            <a:avLst/>
          </a:prstGeom>
          <a:ln w="25560">
            <a:solidFill>
              <a:srgbClr val="a0001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CFAB-2EFB-4DFE-87E4-353A50E7254B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Need for thorough reflection on food restriction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Nearby and distant event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Need for emergency response plans for circulation of good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At local level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2" marL="1051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Incident with gravel in Fukushima prefecture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In international trade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2" marL="1051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Revise international transport regulations (surface activities)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2" marL="1051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Acceptance criteria for commodities (e.g. code of conduct for metal scrap)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Waste management in emergency situation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EU Harmonisation of emergency respons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051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Cross-border emergencies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2" marL="1051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Trade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2" marL="1051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Travel advice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HERCA/EC forum for information exchange on national decisions and communicat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Sharing of environmental monitoring data (EURDEP, airborne activity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Improve risk communication!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Need for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New legislation?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stress test” of emergency response?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2D6-F9D2-44E1-A7FF-5688E6EC794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14400" y="1836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Directives: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Basic Safety Standards (workers, general public): 1996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Patients/Medical Exposure Directive: 1997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Informing the public on measures in the event of a radiological emergency: 1989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Outside Workers: 1990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High Activity Sealed Sources (HASS): 2003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(Radon Recommendation 90/143/Euratom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Recast: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In principle no discussion of unmodified tex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In practice: too many changes with cross-cutting impac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Hence: “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onsolidation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f5494"/>
                </a:solidFill>
                <a:latin typeface="Verdana"/>
              </a:rPr>
              <a:t>RECAST</a:t>
            </a:r>
            <a:br>
              <a:rPr sz="2100"/>
            </a:br>
            <a:r>
              <a:rPr b="1" lang="en-US" sz="2100" spc="-1" strike="noStrike">
                <a:solidFill>
                  <a:srgbClr val="0f5494"/>
                </a:solidFill>
                <a:latin typeface="Verdana"/>
              </a:rPr>
              <a:t>Better legislation - simplification</a:t>
            </a:r>
            <a:endParaRPr b="1" lang="en-US" sz="2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833-B6D4-4AF6-BE04-825361A45D5E}" type="slidenum">
              <a:t>4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vision of EU-BS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4556160" cy="442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Verdana"/>
              </a:rPr>
              <a:t>Consolidation of current Directiv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f5494"/>
                </a:solidFill>
                <a:latin typeface="Verdana"/>
              </a:rPr>
              <a:t>Allow for ICRP/IAEA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f5494"/>
                </a:solidFill>
                <a:latin typeface="Verdana"/>
              </a:rPr>
              <a:t>Exposure situations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rather than processes: practices/interven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f5494"/>
                </a:solidFill>
                <a:latin typeface="Verdana"/>
              </a:rPr>
              <a:t>Incorporate natural radiation sources 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trengthen the require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Protection of the environmen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0" t="880" r="0" b="440"/>
          <a:stretch/>
        </p:blipFill>
        <p:spPr>
          <a:xfrm>
            <a:off x="5676840" y="1628640"/>
            <a:ext cx="3059280" cy="4392720"/>
          </a:xfrm>
          <a:prstGeom prst="rect">
            <a:avLst/>
          </a:prstGeom>
          <a:ln w="9360">
            <a:solidFill>
              <a:srgbClr val="a3001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65C-8B87-46B2-B722-239BDDAD9D0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ference level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f5494"/>
                </a:solidFill>
                <a:uFillTx/>
                <a:latin typeface="Verdana"/>
              </a:rPr>
              <a:t>Bands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of reference levels for public exposure and corresponding societal criteri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RL in the range 20 mSv – 100 mSv for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mergency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exposure situa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below 20 mSv if no disproportionate detriment or excessive cost of countermeasur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RL in the range 1 to 20 mSv </a:t>
            </a:r>
            <a:r>
              <a:rPr b="0" i="1" lang="en-US" sz="2000" spc="-1" strike="noStrike" u="sng">
                <a:solidFill>
                  <a:srgbClr val="0f5494"/>
                </a:solidFill>
                <a:uFillTx/>
                <a:latin typeface="Verdana"/>
              </a:rPr>
              <a:t>per year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for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isting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exposure situa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indoor radon exposur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long-term post-accidental managemen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RL below 1 mSv for specific pathways of exposur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41D1-7D48-49C4-B4AF-F72ECDBF9B89}" type="slidenum">
              <a:t>6</a:t>
            </a:fld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Emergency planning and response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More comprehensive system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reat analysi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overall emergency management system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emergency response plans for identified threa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afec"/>
                </a:solidFill>
                <a:latin typeface="Verdana"/>
              </a:rPr>
              <a:t>reference leve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pre-planned strategies for the management of each postulated even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ompulsory cooperation between Member Stat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Member States shall (instead of  …shall seek to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AD7D-51F0-45C7-8A9C-5284C7D1927A}" type="slidenum">
              <a:t>7</a:t>
            </a:fld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hapter VI: Emergency work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Responsibility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rticle 30.1(b): the (emergency response) organisation responsible for the protection of emergency worker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Article 52: Emergency occupational exposur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Ensure that no emergency worker undertakes actions resulting in doses in excess of 50 mSv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except in specific cases identified in the national emergency pla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reference level above 50 m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 exceptional circumstances, …, a reference level above 100 mSv may be se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Emergency workers liable to exceed 50 mSv ar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voluntee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clearly and comprehensively informed, in advance, of the associated health risks and protection measur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In the event of an emergency exposure: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radiological monitoring and medical surveillanc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dividual dose assessment as appropriate to the circumstan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234-8696-4B32-BEF3-889DDFB2498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2075040"/>
          </a:xfrm>
          <a:prstGeom prst="rect">
            <a:avLst/>
          </a:prstGeom>
          <a:solidFill>
            <a:srgbClr val="3166c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00"/>
                </a:solidFill>
                <a:latin typeface="Trebuchet MS"/>
              </a:rPr>
              <a:t>Fukushima</a:t>
            </a:r>
            <a:br>
              <a:rPr sz="3900"/>
            </a:br>
            <a:r>
              <a:rPr b="0" lang="en-US" sz="3900" spc="-1" strike="noStrike">
                <a:solidFill>
                  <a:srgbClr val="ffff00"/>
                </a:solidFill>
                <a:latin typeface="Trebuchet MS"/>
              </a:rPr>
              <a:t>Impact on Europe and EC Actions:  </a:t>
            </a:r>
            <a:br>
              <a:rPr sz="3900"/>
            </a:br>
            <a:r>
              <a:rPr b="0" lang="en-US" sz="3000" spc="-1" strike="noStrike">
                <a:solidFill>
                  <a:srgbClr val="ffff00"/>
                </a:solidFill>
                <a:latin typeface="Trebuchet MS"/>
              </a:rPr>
              <a:t>Urgent information exchange (ECURIE)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4599000" cy="284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56F3-3893-43DB-942A-2C1647A9D81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anssau</cp:lastModifiedBy>
  <dcterms:modified xsi:type="dcterms:W3CDTF">2012-02-05T18:20:50Z</dcterms:modified>
  <cp:revision>127</cp:revision>
  <dc:subject/>
  <dc:title>Slide 1</dc:title>
</cp:coreProperties>
</file>